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17E587-52E3-45DA-AE2E-C9450B9E8EA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FA7594-0554-47E9-82E5-E52399734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CA2589-E35F-4417-A3FE-33C1027C3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64E09-89CA-4D0B-AFB5-2701A7AA71D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D528E5-913E-4B86-9A24-8BC26F9E7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E8E84A-6C51-4913-80C3-F07094059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8E195A-2E2C-4630-BC59-127BDD3C0E1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DBBB4C-1092-4455-8DD7-7D086AD52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F39623-A527-4743-A624-F840FB379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39EE0A-302F-4988-A718-F155E39E5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6FB8B9-A84E-4B96-9469-AF43877FD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28CF86-FAAF-49F4-8E54-383200B3B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A0F706-3972-446A-B641-3F60C78A8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CBD186-6E69-4684-8A93-7C7D6EB10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0D14F0-EC4A-44F2-9313-F03D6AF36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FB7A11-F678-4D4F-B6B3-3D3E52937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EA149F-0820-4763-B2C8-A0844DFDB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099BF1-5C9C-4A85-B56E-14C4E5A1C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485EAC-4754-4FA0-99EF-427B6ED2E5B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E65670-865A-4BEF-ADC9-5831E6114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DFA0AB-A815-4DEF-A758-C094376BA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6C57E0-DDF0-4CEB-A281-D5F623F53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0BB99A-0873-475C-80B0-FC053B770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7CC5BE-5733-4704-9A68-9AC1889AD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" name="Picture 4" descr="IEEE_125_cmyk.png"/>
          <p:cNvPicPr/>
          <p:nvPr/>
        </p:nvPicPr>
        <p:blipFill>
          <a:blip r:embed="rId4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27D2A-708F-47A5-88D8-978A27BFEA13}" type="datetime5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53316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6BE0E-C9DA-414C-BE24-310CB3C5F89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IEEE_125_cmyk.png"/>
          <p:cNvPicPr/>
          <p:nvPr/>
        </p:nvPicPr>
        <p:blipFill>
          <a:blip r:embed="rId3"/>
          <a:stretch/>
        </p:blipFill>
        <p:spPr>
          <a:xfrm>
            <a:off x="7772400" y="6019920"/>
            <a:ext cx="1143000" cy="672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3"/>
          </p:nvPr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4C26F-EEC7-4074-BD2C-FD62BC1EF651}" type="datetime5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sldNum" idx="4"/>
          </p:nvPr>
        </p:nvSpPr>
        <p:spPr>
          <a:xfrm>
            <a:off x="53316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BBB7A-218D-4F01-AC45-EC30BCAF4EBC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ieee.joelillie.com/" TargetMode="External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92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Joe Lilli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andidate for 2010 IEEE President Elec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1066320" y="3962160"/>
            <a:ext cx="800100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582"/>
                </a:solidFill>
                <a:latin typeface="Verdana"/>
              </a:rPr>
              <a:t>Focus on IEE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582"/>
                </a:solidFill>
                <a:latin typeface="Verdana"/>
              </a:rPr>
              <a:t>Region 8 Meet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582"/>
                </a:solidFill>
                <a:latin typeface="Verdana"/>
              </a:rPr>
              <a:t>Venice, Ital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582"/>
                </a:solidFill>
                <a:latin typeface="Verdana"/>
              </a:rPr>
              <a:t>26 April 2009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Rectangle 3"/>
          <p:cNvSpPr/>
          <p:nvPr/>
        </p:nvSpPr>
        <p:spPr>
          <a:xfrm>
            <a:off x="152280" y="5638680"/>
            <a:ext cx="8001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Presentation Overview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kill Asse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alific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cus on the Memb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cus on the Busin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cus on the Ope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Skill Asset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adership experi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bility to provide direction and guida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bility to build consensus among diverse constituenc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ritten and oral communication skills and organizational a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rong interpersonal skills with sensitivity to cross-cultural and transnational issu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bility to conduct effective negotiations involving financial and policy matt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Qualification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6 years experience in telecommunications manag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EEE Member since joining as a student in 197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ader at the local, region and international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rved at the OU Board level since 1998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rving my sixth year on the IEEE Board of Directo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rved seven years on the IEEE Finance Committee, two years as Chair and IEEE Treasur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urrently Vice President – Member &amp; Geographic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illingness to serve IEEE, the profession, and the common goo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Focus on the Member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mber Experi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mber Eng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olunteer Develop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mber Benefi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ociety Membership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ring members togeth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mber Life Cyc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Focus on the Busines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ff Develop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frastructure Evalu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ject 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rvice Excell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nancial Stabil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et 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Focus on the Operation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rategic Planning and Align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olunteer / Staff Relationship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sensus build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ignment of the Board and the Executive Direct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am IEE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Thank you for your contribution to the success of the IEEE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Thank you for your consideration.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I would appreciate your help, your support and your vote.</a:t>
            </a:r>
            <a:br>
              <a:rPr sz="3200"/>
            </a:br>
            <a:br>
              <a:rPr sz="3200"/>
            </a:br>
            <a:r>
              <a:rPr b="1" lang="en-US" sz="3200" spc="-1" strike="noStrike" u="sng">
                <a:solidFill>
                  <a:srgbClr val="0080ff"/>
                </a:solidFill>
                <a:uFillTx/>
                <a:latin typeface="Verdana"/>
                <a:hlinkClick r:id="rId2"/>
              </a:rPr>
              <a:t>www.ieee.joelillie.com</a:t>
            </a:r>
            <a:br>
              <a:rPr sz="3200"/>
            </a:br>
            <a:r>
              <a:rPr b="1" lang="en-US" sz="3200" spc="-1" strike="noStrike" u="sng">
                <a:solidFill>
                  <a:srgbClr val="005582"/>
                </a:solidFill>
                <a:uFillTx/>
                <a:latin typeface="Verdana"/>
              </a:rPr>
              <a:t>j.lillie@ieee.org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2T17:28:39Z</dcterms:created>
  <dc:creator>cjankows</dc:creator>
  <dc:description/>
  <dc:language>en-US</dc:language>
  <cp:lastModifiedBy>IEEE</cp:lastModifiedBy>
  <dcterms:modified xsi:type="dcterms:W3CDTF">2009-04-17T19:54:24Z</dcterms:modified>
  <cp:revision>170</cp:revision>
  <dc:subject/>
  <dc:title>TITLE</dc:title>
</cp:coreProperties>
</file>