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2AF41-9281-4593-ACAE-4E6A67A78F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1B1E4-928C-4920-968F-63E58A89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EDA61-6D06-4C65-BA46-1FAD8F3D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57142-EB93-4D10-B107-17417D29F0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457FF-033D-4BFC-8981-FC827B20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F2E79-9435-4B6A-ABBE-CD2D3123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58501-23B3-4ACE-B441-CDB1B4D7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E2C01-F900-4DA7-8D3F-F5CFFFBE7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D0153-D629-4A6E-B6B2-7C5E2F2F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C1BC6-8716-45D6-86C1-AE535557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BE349-9CF3-45A0-8105-38387086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2D842-191A-4BFE-B5BE-96B665B8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Times New Roman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EB01-7C3B-4088-9962-81CCB3F30078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robertodemarca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Verdana"/>
              </a:rPr>
              <a:t>J. Roberto B. de Marca</a:t>
            </a:r>
            <a:br>
              <a:rPr sz="2800"/>
            </a:b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Position Statement</a:t>
            </a:r>
            <a:endParaRPr b="1" lang="en-US" sz="2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 support of Candidacy f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2010 President El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gion 8 meeting - Ve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26 April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Documents and Settings\Roberto\My Documents\My Pictures\EuTachikawaOllila.jpg"/>
          <p:cNvPicPr/>
          <p:nvPr/>
        </p:nvPicPr>
        <p:blipFill>
          <a:blip r:embed="rId1"/>
          <a:stretch/>
        </p:blipFill>
        <p:spPr>
          <a:xfrm>
            <a:off x="2743200" y="365040"/>
            <a:ext cx="464832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engthened relations with other board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d joint Sessions with MGA and PSP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Society Membership Adhoc Committee to partner and leverage MGA expertise in addressing society membership decline and value offered to memb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ed with PSPB on timeliness iss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fully worked with EAB to develop a framework for IEEE Certification Busi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-establish contacts with industry leaders to improve the quality of our products to practitioners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ted development of a technology roadmap for IEEE-TA and IEE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ly improved the operations of the Society Review Committe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shed the successful solution of long-standing items such as: new conference publications revenue distribution algorithm and policy regarding conference no-show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lue to Memb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critical issue for many years now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member benefi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services for industry leaders and practitioner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y question: are IEEE products and services making a difference in the professional life of a memb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sential a partnership between MGA and TA to solve this issu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lunteer Satisfa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olunteers are most important IEEE asset. Often taken for granted that they will always be there. Need to nurture this indispensable asset.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olunteers must continue to have fun in doing their IEEE activ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important to guarantee a conducive environment for volunteer work. Essential to reduce turf battle and power struggles within the organiz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to bring back industry volunteers and in particular industry lead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the future (3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 Global Orga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EEE still far from achieving this go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change perception that IEEE is a US centric organization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adapt structure if wants to be successful. A proactive approach is needed to solve this iss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increase sensitivity to differences in culture and political real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siness objectives cannot take priority if this goal is to be achiev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4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Revenue 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to reach broad member/customer b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new produ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st products/activities tailored to industry need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EEE Infrastructure costs are high and increasing f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s it difficult to add services and reduce membership fe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y difficult to repurpose staff and adapt to chan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Roberto\My Documents\My Pictures\RRR07_Santiago\Durante o almoço.jpg"/>
          <p:cNvPicPr/>
          <p:nvPr/>
        </p:nvPicPr>
        <p:blipFill>
          <a:blip r:embed="rId1"/>
          <a:stretch/>
        </p:blipFill>
        <p:spPr>
          <a:xfrm>
            <a:off x="838080" y="3808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ummary: My Key attribut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ersified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obalization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nership approach for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ingness to face the tough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get volunteers to work togeth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robertodemarca.or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What do I bring to the tabl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sive international professional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20 years of comprehensive IEEE volunte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ful experience in globalization efforts withi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experience in academia, industry, government and standard development proces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Thanks!!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Obrigado!!     Gracias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Merci!!   Danke schön!! Shukran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Dank u!!    Kiitti!!   Toda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Spasibo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Grazie!!     Dik!!    Dziekuje !!  Tak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Professional</a:t>
            </a:r>
            <a:endParaRPr b="1" lang="en-US" sz="3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bright Scho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h.D., Univ. of Southern Califor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Fellow (199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l member , Brazilian Academy of Science (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ounding President, Brazilian Telecommunications Society (1983 -198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Extensive International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ientific Consultant, AT&amp;T Bell Laboratories, Murray Hill,USA (twi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Scientist, NEC Europe Labs., Heidelberg. Germ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Professor: Hong Kong Univ. of Science and Technology (China) and Politecnico di Torino (Italy), Telecom Paris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est Scientist: Telecom Italia Labs. (Italy), University of Toronto (Canada), UCLA (US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s an Expert for European Commission in evaluating FP6 pro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Experience and Government and Academia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tholic Univ., Rio de Janeiro (PUC/Ri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ice-Dean, Science and Engineering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rector of Development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ssociate Academic Vice President for Sponsored Re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hair, Grant Evaluation Committee on Electrical and Biomedical Engineering for National Research Council (4 yea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cientific Director of Brazilian National Research Council, responsible for 300M US$ in gran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mber of Advisory Board, FINEP, Largest Brazilian R&amp;D Funding Agency/Ba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EEE Bo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Vice President, Technical Activities, Division Director and IEEE Secre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ery Active BoD member: large number of motions sponsored or co-sponsored during my ter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nce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Secretary (20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Audit Committee (Member, Chair); IEEE Sales and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embershi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TAB/RAB Section Chapter Support Comm.; Society VP for Members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EE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andard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wards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Intl. Communication Award Comm (member and Chair); ComSoc Awards Chair; ComSoc Fellow Evaluation Comm. 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rategic Planning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: Chair of IEEE-TA and ComSoc Strategic Planning Committees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 (2)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ation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mber of PSPB Strategic Planning; TAB Periodical Comm.; Editorial Board, Communications Magaz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erence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EEE Conferences Committee; General Chair of 6 IEEE conferences (Globecom, WCNC, Infoc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7451b"/>
                </a:solidFill>
                <a:latin typeface="Verdana"/>
              </a:rPr>
              <a:t>Summary:</a:t>
            </a:r>
            <a:r>
              <a:rPr b="0" lang="en-US" sz="2400" spc="-1" strike="noStrike">
                <a:solidFill>
                  <a:srgbClr val="a7451b"/>
                </a:solidFill>
                <a:latin typeface="Verdana"/>
              </a:rPr>
              <a:t> I have participated in the activities of 4 IEEE Major Boards in addition to Awards Boar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Accomplishments as Society President and volunteer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ne of the leaders of the successful globalization efforts in the mid-90s that resulted in a significant number of volunteers from ouside US to hold important ComSoc positions, more services to members in Regions 7-10 and eventally have a larger membership from ouside the 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eated a Global Chapter Chair Cong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Membership reached 62000 members, an all time record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had record revenue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5582"/>
                </a:solidFill>
                <a:latin typeface="Verdana"/>
              </a:rPr>
              <a:t>Accomplishments as Society President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veloped a coherent package of products and activities for evolving technologie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trengthned ComSoc leadership in the key telecommunication technology area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partnership with other Societie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to address new technology areas and also improve services to members in Regions 8-1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nhanced web-based product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mechanisms for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interaction with industry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23:55:55Z</dcterms:created>
  <dc:creator>Yolanda Paskovich</dc:creator>
  <dc:description/>
  <dc:language>en-US</dc:language>
  <cp:lastModifiedBy>Roberto</cp:lastModifiedBy>
  <dcterms:modified xsi:type="dcterms:W3CDTF">2009-04-21T15:02:16Z</dcterms:modified>
  <cp:revision>245</cp:revision>
  <dc:subject/>
  <dc:title>Slide 1</dc:title>
</cp:coreProperties>
</file>