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04715D-6735-44A8-907E-A25717B35BA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1582A1-28D2-451B-B6EB-6FCA99CFD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CFC1F8-C834-48D3-84D6-18C8740E1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9C3CF7-B9E4-47B7-8FAB-8D773DA4A4C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108641-22C7-45BA-B9EC-502A6D2F1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092AA9-3800-4675-AC41-5F82A2FDF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4CAF1D-F5CB-49FC-8276-298DAFB03A2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C998BC-7046-423D-90C8-E95F939A2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AB12FA-740A-4917-B826-4ACE4A49E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1F33F9-0539-49F5-A418-D02233FBF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FDEBCA-B26E-406F-B3E5-5D297CFE4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0D0EDA-75C0-462F-8B6C-6670B206F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ADCFC2-DBB3-4495-8237-B05729917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125267-3EF7-4688-90C4-05E423C2B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FD2F51-D67F-4A48-B493-40E85FF7A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BE08C1-B10E-4DA8-946C-A5306B3AE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636BFD-FE66-46E8-9CD9-FC00E813B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6ED712-3004-47B1-B782-D7C1AF173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FA2034-E5AA-4157-BEE0-C474181B07A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5252B3-B473-49FA-90F8-70AC3E07C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D2FF36-2F8F-4075-BE19-A58B4C454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54A3B4-AE01-40D7-BF3E-97E55A5BD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8ED28-CCBD-4711-BA61-34937D28D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29159E-5190-493A-877C-77941F9A5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" name="Picture 4" descr="IEEE_125_cmyk.png"/>
          <p:cNvPicPr/>
          <p:nvPr/>
        </p:nvPicPr>
        <p:blipFill>
          <a:blip r:embed="rId4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2E6DA-9424-4753-AF2F-A370FDFE9761}" type="datetime5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53316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9529D-6655-4DAD-BB06-9FDAE85D5C9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IEEE_125_cmyk.png"/>
          <p:cNvPicPr/>
          <p:nvPr/>
        </p:nvPicPr>
        <p:blipFill>
          <a:blip r:embed="rId3"/>
          <a:stretch/>
        </p:blipFill>
        <p:spPr>
          <a:xfrm>
            <a:off x="7772400" y="6019920"/>
            <a:ext cx="1143000" cy="672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3"/>
          </p:nvPr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F635C-B6B2-4B6C-9035-C4AE98E364EC}" type="datetime5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sldNum" idx="4"/>
          </p:nvPr>
        </p:nvSpPr>
        <p:spPr>
          <a:xfrm>
            <a:off x="53316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00E16-3262-485A-A34E-B36604F3D694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ieee.joelillie.com/" TargetMode="External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92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Joe Lilli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andidate for 2010 IEEE President Elec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1066320" y="3962160"/>
            <a:ext cx="800100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582"/>
                </a:solidFill>
                <a:latin typeface="Verdana"/>
              </a:rPr>
              <a:t>Focus on IEE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582"/>
                </a:solidFill>
                <a:latin typeface="Verdana"/>
              </a:rPr>
              <a:t>Region 8 Meet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582"/>
                </a:solidFill>
                <a:latin typeface="Verdana"/>
              </a:rPr>
              <a:t>Venice, Ital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582"/>
                </a:solidFill>
                <a:latin typeface="Verdana"/>
              </a:rPr>
              <a:t>26 April 2009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Rectangle 3"/>
          <p:cNvSpPr/>
          <p:nvPr/>
        </p:nvSpPr>
        <p:spPr>
          <a:xfrm>
            <a:off x="152280" y="5638680"/>
            <a:ext cx="8001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Presentation Overview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kill Asse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alific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cus on the Memb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cus on the Busin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cus on the Ope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Skill Asset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adership experi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bility to provide direction and guida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bility to build consensus among diverse constituenc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ritten and oral communication skills and organizational a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rong interpersonal skills with sensitivity to cross-cultural and transnational issu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bility to conduct effective negotiations involving financial and policy matt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Qualification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6 years experience in telecommunications manag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EEE Member since joining as a student in 197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ader at the local, region and international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rved at the OU Board level since 1998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rving my sixth year on the IEEE Board of Directo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rved seven years on the IEEE Finance Committee, two years as Chair and IEEE Treasur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urrently Vice President – Member &amp; Geographic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illingness to serve IEEE, the profession, and the common goo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Focus on the Member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mber Experi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mber Eng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olunteer Develop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mber Benefi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ociety Membership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ring members togeth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mber Life Cyc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Focus on the Busines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ff Develop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frastructure Evalu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ject 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rvice Excell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nancial Stabil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et 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Focus on the Operation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rategic Planning and Align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olunteer / Staff Relationship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sensus build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ignment of the Board and the Executive Direct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am IEE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Thank you for your contribution to the success of the IEEE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Thank you for your consideration.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I would appreciate your help, your support and your vote.</a:t>
            </a:r>
            <a:br>
              <a:rPr sz="3200"/>
            </a:br>
            <a:br>
              <a:rPr sz="3200"/>
            </a:br>
            <a:r>
              <a:rPr b="1" lang="en-US" sz="3200" spc="-1" strike="noStrike" u="sng">
                <a:solidFill>
                  <a:srgbClr val="0080ff"/>
                </a:solidFill>
                <a:uFillTx/>
                <a:latin typeface="Verdana"/>
                <a:hlinkClick r:id="rId2"/>
              </a:rPr>
              <a:t>www.ieee.joelillie.com</a:t>
            </a:r>
            <a:br>
              <a:rPr sz="3200"/>
            </a:br>
            <a:r>
              <a:rPr b="1" lang="en-US" sz="3200" spc="-1" strike="noStrike" u="sng">
                <a:solidFill>
                  <a:srgbClr val="005582"/>
                </a:solidFill>
                <a:uFillTx/>
                <a:latin typeface="Verdana"/>
              </a:rPr>
              <a:t>j.lillie@ieee.org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2T17:28:39Z</dcterms:created>
  <dc:creator>cjankows</dc:creator>
  <dc:description/>
  <dc:language>en-US</dc:language>
  <cp:lastModifiedBy>IEEE</cp:lastModifiedBy>
  <dcterms:modified xsi:type="dcterms:W3CDTF">2009-04-17T19:54:24Z</dcterms:modified>
  <cp:revision>170</cp:revision>
  <dc:subject/>
  <dc:title>TITLE</dc:title>
</cp:coreProperties>
</file>