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92EC2-8FC1-444F-A726-4A28B97D01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34B3E-6B8E-4640-B6F8-19B540ED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5424D-0699-4181-A2F1-915CAA95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E39DF-ADBB-4D2E-A39E-65CE318671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7BDCB-09C9-4032-BC69-FAFCCCB8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D2B0F-F63B-4793-81B0-F71E368C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0CC97-2808-4037-8B50-01164053B1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2047C-087A-4A5D-A4F1-D8C5CF3B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7DEAD-0A49-40AE-A19A-80697C4F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F4BD5-8EC4-4996-8FAC-8F2C16BB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7F8C1-C68F-478E-BB6F-10B4FC03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454E0-A076-44DC-BA9E-DD9ECE60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F227A-5839-47FF-8C7F-B0D1F62D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AA650-8D75-4371-8C08-0713ABE8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EDCC5-3F94-4BE5-871D-009EEDC0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2001F-3059-4848-9F44-66699F6D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62FB7-EBEF-48BB-A4BE-656E8881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15D17-EB9A-4E56-ACFB-0A1E518B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78DB0-E91D-422D-8403-6C2C587CE6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EE5AE-1C6C-4D8F-8064-49E0314D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FAB0C-7E61-459C-BB00-2F91439A3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797D1-DA0F-4E06-9D9D-4C20CE8B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41EA6-C9AF-458A-9517-935C186A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9B42D-DDDE-4ABA-B878-51BE5481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97C0-668F-4F90-ABE1-9765AEE6EBD4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3934-8FAE-4A1E-9509-1568ECF7A6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3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ACE3-8039-4520-B85F-4BCFB3F62D42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4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5606-53F5-4B7D-B39A-5F6BD5097FAD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eee.joelillie.com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oe Lilli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ndidate for 2010 IEEE President Elec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066320" y="3962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Focus o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Region 8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Venice, Ita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26 April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52280" y="56386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Presentation Overview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M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Busi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kill Asse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ship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provide direction and gui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build consensus among diverse constitu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ten and oral communication skills and organizational 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 interpersonal skills with sensitivity to cross-cultural and transnati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conduct effective negotiations involving financial and policy ma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Qualific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 years experience in telecommunications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EE Member since joining as a student in 197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 at the local, region and international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t the OU Board level since 199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ing my sixth year on the IEEE Board of Direc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seven years on the IEEE Finance Committee, two years as Chair and IEEE Treas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ly Vice President – Member &amp; Geographic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ingness to serve IEEE, the profession, and the common g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Member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ng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ety Member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ng members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Busines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rastructure Eval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 Excell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St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Oper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tegic Planning and Alig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/ Staff Relation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nsus buil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ignment of the Board and the Executive Dir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tribution to the success of the IEE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sideration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I would appreciate your help, your support and your vote.</a:t>
            </a: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ieee.joelillie.com</a:t>
            </a:r>
            <a:br>
              <a:rPr sz="3200"/>
            </a:br>
            <a:r>
              <a:rPr b="1" lang="en-US" sz="3200" spc="-1" strike="noStrike" u="sng">
                <a:solidFill>
                  <a:srgbClr val="005582"/>
                </a:solidFill>
                <a:uFillTx/>
                <a:latin typeface="Verdana"/>
              </a:rPr>
              <a:t>j.lillie@ieee.org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7:28:39Z</dcterms:created>
  <dc:creator>cjankows</dc:creator>
  <dc:description/>
  <dc:language>en-US</dc:language>
  <cp:lastModifiedBy>IEEE</cp:lastModifiedBy>
  <dcterms:modified xsi:type="dcterms:W3CDTF">2009-04-17T19:54:24Z</dcterms:modified>
  <cp:revision>170</cp:revision>
  <dc:subject/>
  <dc:title>TITLE</dc:title>
</cp:coreProperties>
</file>