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F00A7-1796-4311-AA6E-45D5D477D0C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E32FA-49AD-4648-B89A-FCC3695A9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9F8EB-5367-481D-B135-362A43329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F5A79-5790-4A3C-916A-72EFD7787F8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30AAF-A3B3-4A8B-9025-5887B8EA9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21AC6-B828-4D53-BC17-784BCAB85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CE432-2C8F-4632-9F3B-179903C40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D4C5D-72D3-4F18-9DC3-7C1B48F31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DE73E-6052-4487-9666-A8D1E21D3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4449A-B15B-476E-A590-01EFC55EB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F500C-CC54-47FF-9278-080647C28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4DCAF-2E9F-447A-B591-1A82956F9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Times New Roman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DAD3F-B9C0-4628-A5D4-47C46989C5FB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robertodemarca.org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00"/>
                </a:solidFill>
                <a:latin typeface="Verdana"/>
              </a:rPr>
              <a:t>J. Roberto B. de Marca</a:t>
            </a:r>
            <a:br>
              <a:rPr sz="2800"/>
            </a:br>
            <a:r>
              <a:rPr b="1" i="1" lang="pt-BR" sz="2400" spc="-1" strike="noStrike">
                <a:solidFill>
                  <a:srgbClr val="ffff00"/>
                </a:solidFill>
                <a:latin typeface="Verdana"/>
              </a:rPr>
              <a:t>Position Statement</a:t>
            </a:r>
            <a:endParaRPr b="1" lang="en-US" sz="2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In support of Candidacy fo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IEEE 2010 President Ele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Region 8 meeting - Ven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26 April 2009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C:\Documents and Settings\Roberto\My Documents\My Pictures\EuTachikawaOllila.jpg"/>
          <p:cNvPicPr/>
          <p:nvPr/>
        </p:nvPicPr>
        <p:blipFill>
          <a:blip r:embed="rId1"/>
          <a:stretch/>
        </p:blipFill>
        <p:spPr>
          <a:xfrm>
            <a:off x="2743200" y="365040"/>
            <a:ext cx="4648320" cy="612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As IEEE Vice President, Technical Activitie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engthened relations with other boards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eld joint Sessions with MGA and PSP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ointed Society Membership Adhoc Committee to partner and leverage MGA expertise in addressing society membership decline and value offered to memb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ked with PSPB on timeliness issu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ccessfully worked with EAB to develop a framework for IEEE Certification Busines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-establish contacts with industry leaders to improve the quality of our products to practitioners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itiated development of a technology roadmap for IEEE-TA and IEE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As IEEE Vice President, Technical Activities (2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gnificantly improved the operations of the Society Review Committe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ushed the successful solution of long-standing items such as: new conference publications revenue distribution algorithm and policy regarding conference no-show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hallenges for the future (1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alue to Membe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 critical issue for many years now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ery limited member benefi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ery limited services for industry leaders and practitioner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ey question: are IEEE products and services making a difference in the professional life of a member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ssential a partnership between MGA and TA to solve this issu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hallenges for the future (2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Volunteer Satisfaction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olunteers are most important IEEE asset. Often taken for granted that they will always be there. Need to nurture this indispensable asset.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Volunteers must continue to have fun in doing their IEEE activiti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t is important to guarantee a conducive environment for volunteer work. Essential to reduce turf battle and power struggles within the organizatio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e need to bring back industry volunteers and in particular industry leader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hallenges the future (3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del Global Organiz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EEE still far from achieving this go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s to change perception that IEEE is a US centric organization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s to adapt structure if wants to be successful. A proactive approach is needed to solve this issu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s to increase sensitivity to differences in culture and political realiti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usiness objectives cannot take priority if this goal is to be achieve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hallenges for the future (4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ew Revenue Strea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 to reach broad member/customer bas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 new produc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st products/activities tailored to industry need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EEE Infrastructure costs are high and increasing fa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s it difficult to add services and reduce membership fe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ery difficult to repurpose staff and adapt to chang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C:\Documents and Settings\Roberto\My Documents\My Pictures\RRR07_Santiago\Durante o almoço.jpg"/>
          <p:cNvPicPr/>
          <p:nvPr/>
        </p:nvPicPr>
        <p:blipFill>
          <a:blip r:embed="rId1"/>
          <a:stretch/>
        </p:blipFill>
        <p:spPr>
          <a:xfrm>
            <a:off x="838080" y="380880"/>
            <a:ext cx="76964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Summary: My Key attribute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ersified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lobalization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rtnership approach for su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llingness to face the tough iss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ility to get volunteers to work togethe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80ff"/>
                </a:solidFill>
                <a:uFillTx/>
                <a:latin typeface="Verdana"/>
                <a:hlinkClick r:id="rId2"/>
              </a:rPr>
              <a:t>www.robertodemarca.or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What do I bring to the tabl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tensive international professional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20 years of comprehensive IEEE volunteer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ccessful experience in globalization efforts within IE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ional experience in academia, industry, government and standard development process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696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Thanks!!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Obrigado!!     Gracias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Merci!!   Danke schön!! Shukran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Dank u!!    Kiitti!!   Toda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  </a:t>
            </a: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Spasibo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Grazie!!     Dik!!    Dziekuje !!  Tak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80ff"/>
                </a:solidFill>
                <a:latin typeface="Verdana"/>
              </a:rPr>
              <a:t>Credentials: </a:t>
            </a:r>
            <a:r>
              <a:rPr b="1" lang="pt-BR" sz="3000" spc="-1" strike="noStrike">
                <a:solidFill>
                  <a:srgbClr val="000000"/>
                </a:solidFill>
                <a:latin typeface="Verdana"/>
              </a:rPr>
              <a:t>Professional</a:t>
            </a:r>
            <a:endParaRPr b="1" lang="en-US" sz="30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Fulbright Schol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Ph.D., Univ. of Southern Californ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IEEE Fellow (1995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Full member , Brazilian Academy of Science (2002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Founding President, Brazilian Telecommunications Society (1983 -1987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80ff"/>
                </a:solidFill>
                <a:latin typeface="Verdana"/>
              </a:rPr>
              <a:t>Credentials: </a:t>
            </a:r>
            <a:r>
              <a:rPr b="1" lang="pt-BR" sz="3400" spc="-1" strike="noStrike">
                <a:solidFill>
                  <a:srgbClr val="000000"/>
                </a:solidFill>
                <a:latin typeface="Verdana"/>
              </a:rPr>
              <a:t>Extensive International Experience</a:t>
            </a:r>
            <a:endParaRPr b="1" lang="en-US" sz="3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cientific Consultant, AT&amp;T Bell Laboratories, Murray Hill,USA (twic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siting Scientist, NEC Europe Labs., Heidelberg. German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siting Professor: Hong Kong Univ. of Science and Technology (China) and Politecnico di Torino (Italy), Telecom Paris (Franc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uest Scientist: Telecom Italia Labs. (Italy), University of Toronto (Canada), UCLA (USA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ed as an Expert for European Commission in evaluating FP6 projec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80ff"/>
                </a:solidFill>
                <a:latin typeface="Verdana"/>
              </a:rPr>
              <a:t>Credentials: </a:t>
            </a: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Experience and Government and Academia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33520" y="18284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atholic Univ., Rio de Janeiro (PUC/Ri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Vice-Dean, Science and Engineering Cent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Director of Development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Associate Academic Vice President for Sponsored Re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hair, Grant Evaluation Committee on Electrical and Biomedical Engineering for National Research Council (4 year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cientific Director of Brazilian National Research Council, responsible for 300M US$ in grant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Member of Advisory Board, FINEP, Largest Brazilian R&amp;D Funding Agency/Ban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80ff"/>
                </a:solidFill>
                <a:latin typeface="Verdana"/>
              </a:rPr>
              <a:t>Credentials:</a:t>
            </a:r>
            <a:r>
              <a:rPr b="1" lang="pt-BR" sz="3400" spc="-1" strike="noStrike">
                <a:solidFill>
                  <a:srgbClr val="005582"/>
                </a:solidFill>
                <a:latin typeface="Verdana"/>
              </a:rPr>
              <a:t> Broad and long-term IEEE experience</a:t>
            </a:r>
            <a:endParaRPr b="1" lang="en-US" sz="3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IEEE BoD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: IEEE Vice President, Technical Activities, Division Director and IEEE Secreta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Very Active BoD member: large number of motions sponsored or co-sponsored during my term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Governance: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IEEE Secretary (2006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Finance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: IEEE Audit Committee (Member, Chair); IEEE Sales and Marke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Membership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(TAB/RAB Section Chapter Support Comm.; Society VP for Membership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EEE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Standard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Boa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Awards: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IEEE Intl. Communication Award Comm (member and Chair); ComSoc Awards Chair; ComSoc Fellow Evaluation Comm. Chai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Strategic Planning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: Chair of IEEE-TA and ComSoc Strategic Planning Committees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80ff"/>
                </a:solidFill>
                <a:latin typeface="Verdana"/>
              </a:rPr>
              <a:t>Credentials:</a:t>
            </a:r>
            <a:r>
              <a:rPr b="1" lang="pt-BR" sz="3400" spc="-1" strike="noStrike">
                <a:solidFill>
                  <a:srgbClr val="005582"/>
                </a:solidFill>
                <a:latin typeface="Verdana"/>
              </a:rPr>
              <a:t> Broad and long-term IEEE experience (2)</a:t>
            </a:r>
            <a:endParaRPr b="1" lang="en-US" sz="3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ations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ember of PSPB Strategic Planning; TAB Periodical Comm.; Editorial Board, Communications Magaz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ferences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EEE Conferences Committee; General Chair of 6 IEEE conferences (Globecom, WCNC, Infocom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7451b"/>
                </a:solidFill>
                <a:latin typeface="Verdana"/>
              </a:rPr>
              <a:t>Summary:</a:t>
            </a:r>
            <a:r>
              <a:rPr b="0" lang="en-US" sz="2400" spc="-1" strike="noStrike">
                <a:solidFill>
                  <a:srgbClr val="a7451b"/>
                </a:solidFill>
                <a:latin typeface="Verdana"/>
              </a:rPr>
              <a:t> I have participated in the activities of 4 IEEE Major Boards in addition to Awards Boar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5582"/>
                </a:solidFill>
                <a:latin typeface="Verdana"/>
              </a:rPr>
              <a:t>Accomplishments as Society President and volunteer</a:t>
            </a:r>
            <a:endParaRPr b="1" lang="en-US" sz="3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One of the leaders of the successful globalization efforts in the mid-90s that resulted in a significant number of volunteers from ouside US to hold important ComSoc positions, more services to members in Regions 7-10 and eventally have a larger membership from ouside the U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reated a Global Chapter Chair Congr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ociety Membership reached 62000 members, an all time record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ociety had record revenue yea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5582"/>
                </a:solidFill>
                <a:latin typeface="Verdana"/>
              </a:rPr>
              <a:t>Accomplishments as Society President (2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Developed a coherent package of products and activities for evolving technologie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trengthned ComSoc leadership in the key telecommunication technology area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stablished </a:t>
            </a:r>
            <a:r>
              <a:rPr b="0" i="1" lang="pt-BR" sz="2400" spc="-1" strike="noStrike">
                <a:solidFill>
                  <a:srgbClr val="000000"/>
                </a:solidFill>
                <a:latin typeface="Verdana"/>
              </a:rPr>
              <a:t>partnership with other Societies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to address new technology areas and also improve services to members in Regions 8-10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nhanced web-based product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stablished mechanisms for </a:t>
            </a:r>
            <a:r>
              <a:rPr b="0" i="1" lang="pt-BR" sz="2400" spc="-1" strike="noStrike">
                <a:solidFill>
                  <a:srgbClr val="000000"/>
                </a:solidFill>
                <a:latin typeface="Verdana"/>
              </a:rPr>
              <a:t>interaction with industry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4T23:55:55Z</dcterms:created>
  <dc:creator>Yolanda Paskovich</dc:creator>
  <dc:description/>
  <dc:language>en-US</dc:language>
  <cp:lastModifiedBy>Roberto</cp:lastModifiedBy>
  <dcterms:modified xsi:type="dcterms:W3CDTF">2009-04-21T15:02:16Z</dcterms:modified>
  <cp:revision>245</cp:revision>
  <dc:subject/>
  <dc:title>Slide 1</dc:title>
</cp:coreProperties>
</file>