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808360-CF23-42D8-A414-027B8C5D0DA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EE4415-DCDD-414E-9A60-10930DCD1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859E72-8342-4D8E-B949-BC81CCE67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F676FB-D1C5-4504-90F0-59C1AF22A63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99DDC9-E3B7-4713-9065-EEB07E37D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8CA9D1-8AC5-4A5A-9671-3DA9F20C2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6D5935-87C6-42F9-9E41-AE50BE3B777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C55F98-C79A-44AE-9096-D140A5C8A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648B73-3AA0-4A42-8893-5F940D1D7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456BB2-93E6-4CBD-9AE9-0DB5C9D36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41E3DA-21F8-4684-A193-099B76134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F3A375-3B43-4333-8CB1-551BBA9B6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4AB178-20A2-4A27-B909-2D791DF95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0D008A-702D-4051-B08C-111FFF2F2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CCC749-42E9-4F88-A0F1-E9BA248B2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AAE736-3473-4A95-B1A2-38264D7A2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18E5B6-F923-4406-986E-3CF2DF319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BEF3D7-1725-438C-A548-F1504D871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1D4668-A11B-4C91-AED2-302F7325DAB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376D42-A51D-4A84-8E44-B6FD2F0E9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901948-BC03-46A6-98A2-BC8A2B9E6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7B756C-F9CD-422C-ACE8-1BE4AEC19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8E8549-77BE-4017-99B5-6CDDF5879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780286-8E8C-46F6-BF02-FD2321ECF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" name="Picture 4" descr="IEEE_125_cmyk.png"/>
          <p:cNvPicPr/>
          <p:nvPr/>
        </p:nvPicPr>
        <p:blipFill>
          <a:blip r:embed="rId4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BB680-1FED-45DD-9549-30792ABD845E}" type="datetime5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53316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B5C70-1D72-4EFC-A674-7F182AEBCDF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Picture 4" descr="IEEE_125_cmyk.png"/>
          <p:cNvPicPr/>
          <p:nvPr/>
        </p:nvPicPr>
        <p:blipFill>
          <a:blip r:embed="rId3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Picture 4" descr="IEEE_125_cmyk.png"/>
          <p:cNvPicPr/>
          <p:nvPr/>
        </p:nvPicPr>
        <p:blipFill>
          <a:blip r:embed="rId3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IEEE_125_cmyk.png"/>
          <p:cNvPicPr/>
          <p:nvPr/>
        </p:nvPicPr>
        <p:blipFill>
          <a:blip r:embed="rId3"/>
          <a:stretch/>
        </p:blipFill>
        <p:spPr>
          <a:xfrm>
            <a:off x="7772400" y="6019920"/>
            <a:ext cx="1143000" cy="672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4" descr="IEEE_125_cmyk.png"/>
          <p:cNvPicPr/>
          <p:nvPr/>
        </p:nvPicPr>
        <p:blipFill>
          <a:blip r:embed="rId3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4" descr="IEEE_125_cmyk.png"/>
          <p:cNvPicPr/>
          <p:nvPr/>
        </p:nvPicPr>
        <p:blipFill>
          <a:blip r:embed="rId3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3"/>
          </p:nvPr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3B5B6-5C36-4436-A2CB-14F90D7B5C14}" type="datetime5"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sldNum" idx="4"/>
          </p:nvPr>
        </p:nvSpPr>
        <p:spPr>
          <a:xfrm>
            <a:off x="53316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71AF1-DC0A-4F7A-B845-1A0AEEB1A2F4}" type="slidenum"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4" descr="IEEE_125_cmyk.png"/>
          <p:cNvPicPr/>
          <p:nvPr/>
        </p:nvPicPr>
        <p:blipFill>
          <a:blip r:embed="rId3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4" descr="IEEE_125_cmyk.png"/>
          <p:cNvPicPr/>
          <p:nvPr/>
        </p:nvPicPr>
        <p:blipFill>
          <a:blip r:embed="rId3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4" descr="IEEE_125_cmyk.png"/>
          <p:cNvPicPr/>
          <p:nvPr/>
        </p:nvPicPr>
        <p:blipFill>
          <a:blip r:embed="rId3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4" descr="IEEE_125_cmyk.png"/>
          <p:cNvPicPr/>
          <p:nvPr/>
        </p:nvPicPr>
        <p:blipFill>
          <a:blip r:embed="rId3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Picture 4" descr="IEEE_125_cmyk.png"/>
          <p:cNvPicPr/>
          <p:nvPr/>
        </p:nvPicPr>
        <p:blipFill>
          <a:blip r:embed="rId3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ieee.joelillie.com/" TargetMode="External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92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Joe Lilli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andidate for 2010 IEEE President Elec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ubTitle"/>
          </p:nvPr>
        </p:nvSpPr>
        <p:spPr>
          <a:xfrm>
            <a:off x="1066320" y="3962160"/>
            <a:ext cx="800100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582"/>
                </a:solidFill>
                <a:latin typeface="Verdana"/>
              </a:rPr>
              <a:t>Focus on IEE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582"/>
                </a:solidFill>
                <a:latin typeface="Verdana"/>
              </a:rPr>
              <a:t>Region 8 Meet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582"/>
                </a:solidFill>
                <a:latin typeface="Verdana"/>
              </a:rPr>
              <a:t>Venice, Ital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582"/>
                </a:solidFill>
                <a:latin typeface="Verdana"/>
              </a:rPr>
              <a:t>26 April 2009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Rectangle 3"/>
          <p:cNvSpPr/>
          <p:nvPr/>
        </p:nvSpPr>
        <p:spPr>
          <a:xfrm>
            <a:off x="152280" y="5638680"/>
            <a:ext cx="80010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Presentation Overview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kill Asse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ualifica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cus on the Memb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cus on the Busine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cus on the Oper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Skill Asset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eadership experie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bility to provide direction and guida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bility to build consensus among diverse constituenc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ritten and oral communication skills and organizational abi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rong interpersonal skills with sensitivity to cross-cultural and transnational issu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bility to conduct effective negotiations involving financial and policy matt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Qualification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6 years experience in telecommunications manage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EEE Member since joining as a student in 197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eader at the local, region and international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rved at the OU Board level since 1998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rving my sixth year on the IEEE Board of Directo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rved seven years on the IEEE Finance Committee, two years as Chair and IEEE Treasur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urrently Vice President – Member &amp; Geographic Activi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illingness to serve IEEE, the profession, and the common goo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Focus on the Member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ember Experie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ember Engag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olunteer Develop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ember Benefi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ociety Membership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ring members togeth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ember Life Cyc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Focus on the Busines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aff Develop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frastructure Evalu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ject Manag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rvice Excelle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nancial Stabil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et Manag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Focus on the Operation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rategic Planning and Align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olunteer / Staff Relationship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sensus build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ignment of the Board and the Executive Directo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eam IEE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Thank you for your contribution to the success of the IEEE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Thank you for your consideration.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I would appreciate your help, your support and your vote.</a:t>
            </a:r>
            <a:br>
              <a:rPr sz="3200"/>
            </a:br>
            <a:br>
              <a:rPr sz="3200"/>
            </a:br>
            <a:r>
              <a:rPr b="1" lang="en-US" sz="3200" spc="-1" strike="noStrike" u="sng">
                <a:solidFill>
                  <a:srgbClr val="0080ff"/>
                </a:solidFill>
                <a:uFillTx/>
                <a:latin typeface="Verdana"/>
                <a:hlinkClick r:id="rId2"/>
              </a:rPr>
              <a:t>www.ieee.joelillie.com</a:t>
            </a:r>
            <a:br>
              <a:rPr sz="3200"/>
            </a:br>
            <a:r>
              <a:rPr b="1" lang="en-US" sz="3200" spc="-1" strike="noStrike" u="sng">
                <a:solidFill>
                  <a:srgbClr val="005582"/>
                </a:solidFill>
                <a:uFillTx/>
                <a:latin typeface="Verdana"/>
              </a:rPr>
              <a:t>j.lillie@ieee.org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2T17:28:39Z</dcterms:created>
  <dc:creator>cjankows</dc:creator>
  <dc:description/>
  <dc:language>en-US</dc:language>
  <cp:lastModifiedBy>IEEE</cp:lastModifiedBy>
  <dcterms:modified xsi:type="dcterms:W3CDTF">2009-04-17T19:54:24Z</dcterms:modified>
  <cp:revision>170</cp:revision>
  <dc:subject/>
  <dc:title>TITLE</dc:title>
</cp:coreProperties>
</file>