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8417D-342E-4A90-A025-78C63515896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35EC6-7DFB-4A0E-9A1C-7EB55F9E0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03D9B-B169-4133-880D-61C7492C3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EEF11-13C0-4AFD-A39C-BBE3F0B5EF0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179F8-4913-464C-9083-74C3E04F0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69098-CDEC-4DDA-A5F5-EF9313B0B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03DFB5-6E26-4862-8ED4-BDD5692006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C56215-78AA-4B89-9372-2A268B362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FA42EB-0F45-47ED-AC16-2289B4CEB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50CFC-A619-4A19-8213-8D8E6B79C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8F7315-5E80-4466-9761-13DCE16AF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AB4E0A-7BDE-4751-8321-A21507CAD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0DAB27-9787-4442-8B60-DBAF90F92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46606A-87D5-4A00-80B0-FAB549E15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BD0869-8A23-4FBC-B2A3-E62DA4CC0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29A464-D2F5-4155-9606-B3C3F3990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E50DD9-C67E-434A-8382-A276D5301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024928-63D2-4DCF-85D8-B7ED96646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E0FA6A-2E86-4DED-8C73-B7007435047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429E4-2C2A-4EAE-B7E3-C2EEA9985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35C5F-B1D2-4661-A34A-CA5D5C04B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70964-980C-4A53-9244-FBD5D9745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C6E0F-DE03-431D-8A6D-BF9277605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747C6-9484-4C4C-A6D9-9ED97C09F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B805E-A7F2-4A13-9E28-377623499980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00A65-E0AE-4FC0-95FA-717E6803D7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3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0EB01-7A3A-43BF-AFC4-2ADA7C5C7FB4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sldNum" idx="4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20A94-B154-4F2F-974F-7E410F03B84E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ieee.joelillie.com/" TargetMode="External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9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Joe Lilli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andidate for 2010 IEEE President Elec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066320" y="3962160"/>
            <a:ext cx="80010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Focus on IE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582"/>
                </a:solidFill>
                <a:latin typeface="Verdana"/>
              </a:rPr>
              <a:t>Region 8 Mee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582"/>
                </a:solidFill>
                <a:latin typeface="Verdana"/>
              </a:rPr>
              <a:t>Venice, Ita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582"/>
                </a:solidFill>
                <a:latin typeface="Verdana"/>
              </a:rPr>
              <a:t>26 April 200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152280" y="5638680"/>
            <a:ext cx="8001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Presentation Overview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ll Asse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fic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cus on the Me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cus on the Busin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cus on the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Skill Asse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adership experi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bility to provide direction and guid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bility to build consensus among diverse constituenc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ritten and oral communication skills and organizational 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ong interpersonal skills with sensitivity to cross-cultural and transnational iss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bility to conduct effective negotiations involving financial and policy matt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Qualific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6 years experience in telecommunications man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EEE Member since joining as a student in 197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ader at the local, region and international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ed at the OU Board level since 1998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ing my sixth year on the IEEE Board of Direc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ed seven years on the IEEE Finance Committee, two years as Chair and IEEE Treasu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rrently Vice President – Member &amp; Geographic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llingness to serve IEEE, the profession, and the common goo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Focus on the Member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Eng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olunteer Develop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Benef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ciety Membershi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ing members togeth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Life Cyc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Focus on the Busines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ff Develop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frastructure Evalu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ject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vice Excell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Sta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et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Focus on the Operation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rategic Planning and Align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olunteer / Staff Relationshi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ensus build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ignment of the Board and the Executive Direct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am IE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Thank you for your contribution to the success of the IEEE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Thank you for your consideration.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I would appreciate your help, your support and your vote.</a:t>
            </a:r>
            <a:br>
              <a:rPr sz="3200"/>
            </a:br>
            <a:br>
              <a:rPr sz="3200"/>
            </a:br>
            <a:r>
              <a:rPr b="1" lang="en-US" sz="3200" spc="-1" strike="noStrike" u="sng">
                <a:solidFill>
                  <a:srgbClr val="0080ff"/>
                </a:solidFill>
                <a:uFillTx/>
                <a:latin typeface="Verdana"/>
                <a:hlinkClick r:id="rId2"/>
              </a:rPr>
              <a:t>www.ieee.joelillie.com</a:t>
            </a:r>
            <a:br>
              <a:rPr sz="3200"/>
            </a:br>
            <a:r>
              <a:rPr b="1" lang="en-US" sz="3200" spc="-1" strike="noStrike" u="sng">
                <a:solidFill>
                  <a:srgbClr val="005582"/>
                </a:solidFill>
                <a:uFillTx/>
                <a:latin typeface="Verdana"/>
              </a:rPr>
              <a:t>j.lillie@ieee.org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2T17:28:39Z</dcterms:created>
  <dc:creator>cjankows</dc:creator>
  <dc:description/>
  <dc:language>en-US</dc:language>
  <cp:lastModifiedBy>IEEE</cp:lastModifiedBy>
  <dcterms:modified xsi:type="dcterms:W3CDTF">2009-04-17T19:54:24Z</dcterms:modified>
  <cp:revision>170</cp:revision>
  <dc:subject/>
  <dc:title>TITLE</dc:title>
</cp:coreProperties>
</file>