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DB635-C0BF-40C3-A5CA-7D8A381735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2665D-50F4-4C85-8E56-F1D585BE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370B3-0142-4620-A36A-8479818A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CC98C-B21C-40FD-9E13-C25538D1E0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599FB-6247-4946-BD24-81B14AF5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4A9A6-8A83-414B-B978-0707374C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DE2E3-6F7E-4692-BFC1-1B883BE641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004B1C-3794-4F4D-9B87-28A8D2FC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922E4-F6E0-4952-8F57-F6A4D3D4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B99EB-76A2-403B-979B-E8580539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9E11AA-C023-461F-B525-B380C3D4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8CDC14-2C83-4FEE-AA09-260F12FE7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D7EAA-BDB7-479E-9F1B-9CF86B0B9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2E3C7-5F8E-4214-9C8F-F3C5F0D5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84243F-6C5A-4A44-A914-149BB3E8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01E65A-B3BE-4D2F-B764-29AE05A7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0D1B1-3286-4F6C-AC81-BFB0E552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07C17-591F-4B2C-8990-9E68A205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737B6-3D6F-4E11-ABEB-5DC7EF7718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75DB9-4601-4066-B11C-87F32ACEF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B717A-2CF0-4E61-8F49-CF4EA2BCE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AF904-A560-4FF1-9ECD-D1706CAB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86411-4C8A-4318-9028-02F40E4C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22EFA-940B-43B2-9D25-ADEF0E7D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183C-BD07-4108-832F-F0E2BBEBBC50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7C79-89BF-438D-8B2A-0850FA9182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3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A75F-23E1-4ED1-9B3B-32ED8C1EC5C5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4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0E83-2756-48FC-A1A1-4D0FFB34DF4D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eee.joelillie.com/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Joe Lilli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ndidate for 2010 IEEE President Elec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066320" y="3962160"/>
            <a:ext cx="80010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Focus o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Region 8 Me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Venice, Ita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26 April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52280" y="56386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Presentation Overview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 As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Me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Busi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kill Asse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ship exper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provide direction and gui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build consensus among diverse constitu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ten and oral communication skills and organizational 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ong interpersonal skills with sensitivity to cross-cultural and transnational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conduct effective negotiations involving financial and policy mat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Qualific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6 years experience in telecommunications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EEE Member since joining as a student in 197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 at the local, region and international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t the OU Board level since 1998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ing my sixth year on the IEEE Board of Direc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seven years on the IEEE Finance Committee, two years as Chair and IEEE Treas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ly Vice President – Member &amp; Geographic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llingness to serve IEEE, the profession, and the common g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Member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ng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Bene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ety Member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ng members toge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Life Cy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Busines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ff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rastructure Eval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ce Excell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St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Oper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ategic Planning and Alig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/ Staff Relation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nsus buil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ignment of the Board and the Executive Dire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m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tribution to the success of the IEE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sideration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I would appreciate your help, your support and your vote.</a:t>
            </a:r>
            <a:br>
              <a:rPr sz="3200"/>
            </a:br>
            <a:br>
              <a:rPr sz="3200"/>
            </a:br>
            <a:r>
              <a:rPr b="1" lang="en-US" sz="32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ieee.joelillie.com</a:t>
            </a:r>
            <a:br>
              <a:rPr sz="3200"/>
            </a:br>
            <a:r>
              <a:rPr b="1" lang="en-US" sz="3200" spc="-1" strike="noStrike" u="sng">
                <a:solidFill>
                  <a:srgbClr val="005582"/>
                </a:solidFill>
                <a:uFillTx/>
                <a:latin typeface="Verdana"/>
              </a:rPr>
              <a:t>j.lillie@ieee.org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17:28:39Z</dcterms:created>
  <dc:creator>cjankows</dc:creator>
  <dc:description/>
  <dc:language>en-US</dc:language>
  <cp:lastModifiedBy>IEEE</cp:lastModifiedBy>
  <dcterms:modified xsi:type="dcterms:W3CDTF">2009-04-17T19:54:24Z</dcterms:modified>
  <cp:revision>170</cp:revision>
  <dc:subject/>
  <dc:title>TITLE</dc:title>
</cp:coreProperties>
</file>