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0ECFA-4755-4DF3-AA7E-353F51CA08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EA72C-08C3-4543-A906-F9A9BD197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F15E3-7035-45F7-B3CC-DE2ED98D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C7BD8-D0B3-48E1-89F7-C05306AF8B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E6050-9E0B-43CE-A581-B2A1830B6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26D38-151F-43B6-AD04-E136C596F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5A892B-D180-45A1-9030-299A1DEF48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D898C1-7E03-416B-BED8-88883D026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83A8DA-277A-4DDA-8D5E-3CCC1181A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3B3F8-FEC6-444E-BF7E-6CE18425D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353C8C-7965-40EA-8418-50736AD4A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9AE51D-DE1B-40EB-8F53-7E3E52CF5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4DEC8E-DB53-4B9F-BDF8-4D82B54E3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6A0CB1-8B9F-4321-857B-4786CC8AF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E06FF2-CF98-449B-B776-35D25C141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F1F1DA-4194-43FD-A55D-2EA364366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021B59-C2E2-4209-A60B-E84892CF4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1245F3-16A7-470A-9772-CC795A1B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DDD847-8441-4414-A447-1D16E745CF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DC3D2-EB66-4C57-8E3B-A35AAE21A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241A8-A0AA-4D5D-B503-770BC5976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670E8-AC86-4F4A-A890-D98226B29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02BCE-3F5A-4AFF-A860-6245EEEF1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3CAA8-78C4-4659-9C55-AF97D5B4C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67C60-0A26-4A31-8250-7B3B88A88C2D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50150-0C7C-448B-8403-4E96F433E2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3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EC5FA-CBB4-4345-9F7B-FE3C74BE1929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4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BD463-3717-44C8-94B2-6F6258A748BC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eee.joelillie.com/" TargetMode="External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9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Joe Lilli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andidate for 2010 IEEE President Elec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066320" y="3962160"/>
            <a:ext cx="80010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Focus on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Region 8 Me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Venice, Ita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26 April 200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152280" y="5638680"/>
            <a:ext cx="8001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Presentation Overview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 Ass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Me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Busin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Skill Asse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adership experi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provide direction and guid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build consensus among diverse constituen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ten and oral communication skills and organizational 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ong interpersonal skills with sensitivity to cross-cultural and transnational iss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conduct effective negotiations involving financial and policy mat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Qualific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6 years experience in telecommunications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EEE Member since joining as a student in 197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ader at the local, region and international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at the OU Board level since 1998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ing my sixth year on the IEEE Board of Direc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seven years on the IEEE Finance Committee, two years as Chair and IEEE Treas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rrently Vice President – Member &amp; Geographic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llingness to serve IEEE, the profession, and the common goo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Member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Eng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unteer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Benef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ciety Membershi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ing members togeth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Life Cyc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Busines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ff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rastructure Evalu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ject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vice Excell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Sta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et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Operation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rategic Planning and Align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unteer / Staff Relationshi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ensus build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ignment of the Board and the Executive Direc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am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Thank you for your contribution to the success of the IEE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Thank you for your consideration.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I would appreciate your help, your support and your vote.</a:t>
            </a:r>
            <a:br>
              <a:rPr sz="3200"/>
            </a:br>
            <a:br>
              <a:rPr sz="3200"/>
            </a:br>
            <a:r>
              <a:rPr b="1" lang="en-US" sz="3200" spc="-1" strike="noStrike" u="sng">
                <a:solidFill>
                  <a:srgbClr val="0080ff"/>
                </a:solidFill>
                <a:uFillTx/>
                <a:latin typeface="Verdana"/>
                <a:hlinkClick r:id="rId2"/>
              </a:rPr>
              <a:t>www.ieee.joelillie.com</a:t>
            </a:r>
            <a:br>
              <a:rPr sz="3200"/>
            </a:br>
            <a:r>
              <a:rPr b="1" lang="en-US" sz="3200" spc="-1" strike="noStrike" u="sng">
                <a:solidFill>
                  <a:srgbClr val="005582"/>
                </a:solidFill>
                <a:uFillTx/>
                <a:latin typeface="Verdana"/>
              </a:rPr>
              <a:t>j.lillie@ieee.org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2T17:28:39Z</dcterms:created>
  <dc:creator>cjankows</dc:creator>
  <dc:description/>
  <dc:language>en-US</dc:language>
  <cp:lastModifiedBy>IEEE</cp:lastModifiedBy>
  <dcterms:modified xsi:type="dcterms:W3CDTF">2009-04-17T19:54:24Z</dcterms:modified>
  <cp:revision>170</cp:revision>
  <dc:subject/>
  <dc:title>TITLE</dc:title>
</cp:coreProperties>
</file>