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9A174-BED2-4ED1-BAD3-5994D81E0F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D5B9A-92A0-4E89-9711-D01A01E5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05301-3740-4CC2-98DB-B31F091C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98F87-365E-4ACD-B05D-DBC48E081D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92AE4-BA84-4EF3-AC40-F17B2962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351DE-3E20-4F9E-B655-2A171A38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D28AD-D8A6-420C-8D04-3424488E5A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8B9F1-77F2-4DD5-BA37-9F61F5C2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46938-EA87-4078-B6CB-F68F1A0F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1E27F-1755-498A-BA52-09B53AC6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57758-9CA5-4BA3-94E1-28DD23DC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FE663-0B30-4BF4-A839-E22756A1C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D98B6-528B-4AE5-8434-0977D3BCC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CC99F-DB02-4CEA-839D-2BD887A6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BF77D-61EE-464B-B90F-CA37F804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E1160-2D81-4BA2-AFB7-622E2507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03073-57B6-4AC3-810E-93129F84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B3515-B4E6-4951-A3E5-773BB190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42C10-4A75-494A-802C-398C700452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DE199-7DD4-4330-868D-C05F0EB27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A8117-2A63-4ACB-B090-A3206D202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B7CB0-1B55-4EBC-B249-EF196D20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21F9A-A3F7-42A6-B485-9AB0DB54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55E1E-8302-46FD-B227-F53D4CED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CE8A-089E-4390-9E52-871C911C46BE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F489-4B18-4CEB-9549-77F3F43C76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3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998C-FFE4-40D0-AA67-E934B567C4F4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4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0449-1567-4D42-BF2F-DAD7AEF5FAFC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eee.joelillie.com/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oe Lilli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ndidate for 2010 IEEE President Elec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066320" y="39621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Focus o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Region 8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Venice, Ita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26 April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52280" y="56386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Presentation Overview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 As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Me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Busi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kill Asse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ship exper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provide direction and gui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build consensus among diverse constitu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ten and oral communication skills and organizational 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 interpersonal skills with sensitivity to cross-cultural and transnational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conduct effective negotiations involving financial and policy mat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Qualific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 years experience in telecommunications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EEE Member since joining as a student in 197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 at the local, region and international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t the OU Board level since 1998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ing my sixth year on the IEEE Board of Direc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seven years on the IEEE Finance Committee, two years as Chair and IEEE Treas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ly Vice President – Member &amp; Geographic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llingness to serve IEEE, the profession, and the common g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Member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ng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ety Member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ng members toge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Life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Busines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ff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rastructure Eval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e Excell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St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Oper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ategic Planning and Alig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/ Staff Relation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nsus buil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ignment of the Board and the Executive Dir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m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tribution to the success of the IEE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sideration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I would appreciate your help, your support and your vote.</a:t>
            </a:r>
            <a:br>
              <a:rPr sz="3200"/>
            </a:br>
            <a:br>
              <a:rPr sz="3200"/>
            </a:br>
            <a:r>
              <a:rPr b="1" lang="en-US" sz="32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ieee.joelillie.com</a:t>
            </a:r>
            <a:br>
              <a:rPr sz="3200"/>
            </a:br>
            <a:r>
              <a:rPr b="1" lang="en-US" sz="3200" spc="-1" strike="noStrike" u="sng">
                <a:solidFill>
                  <a:srgbClr val="005582"/>
                </a:solidFill>
                <a:uFillTx/>
                <a:latin typeface="Verdana"/>
              </a:rPr>
              <a:t>j.lillie@ieee.org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17:28:39Z</dcterms:created>
  <dc:creator>cjankows</dc:creator>
  <dc:description/>
  <dc:language>en-US</dc:language>
  <cp:lastModifiedBy>IEEE</cp:lastModifiedBy>
  <dcterms:modified xsi:type="dcterms:W3CDTF">2009-04-17T19:54:24Z</dcterms:modified>
  <cp:revision>170</cp:revision>
  <dc:subject/>
  <dc:title>TITLE</dc:title>
</cp:coreProperties>
</file>