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F61A8-EA77-431C-B0F6-EADAAF3186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123F7-6D39-4E3B-994B-BAC5CCDA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4836C-3AC7-46A7-8AF3-66D1825D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A32A2-8364-4A88-ADC5-59D5406554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9A73F-502F-4228-83AB-B1D842F8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869D2-798A-4241-A280-78FD345B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C683F-25D6-448C-9B5B-C0BFCA59C3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EEB01-004C-4835-B61C-B32A6E73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B2504-3E64-4D9C-B261-1E825EAF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A82E5-44C5-48CF-B46F-B5F09EC4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AF531-7D7F-4F33-9888-87AB1664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9435C-CEE9-4737-B944-ECCA8C58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67255-6AED-4E59-B6C0-0841E3456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D0810-83D7-47D3-8485-0306132B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E17BB-40B3-4FF6-885B-77EFE8D2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82F92-395A-418F-99E7-071A5FF2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46592-5742-4D15-AEB1-DAF70E1D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7EC5C-102D-467F-82A0-51BC964E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83268-E5F7-4524-A0B7-3139173183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1DEAF-6FD0-489A-A621-4D7636BC5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8EDBB-F8DA-44DA-A9F6-CB160DBC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DDF7C-93A6-4D86-9A09-E4DF4AC6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3E79A-80AA-4BBD-BE14-27CDAD4B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C5F74-E7C0-4E71-83FE-F568366A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880F-9FA0-491F-BFA3-4363D03214A7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6120-BA20-4DAA-ADC9-C102D43874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3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101F-10FF-439F-B58B-6845F5D005D3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4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2314-2A39-4C15-858F-AAE6F5F1A94C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eee.joelillie.com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oe Lilli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ndidate for 2010 IEEE President Elec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066320" y="3962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Focus o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Region 8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Venice, Ita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26 April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52280" y="56386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Presentation Overview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M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Busi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kill Asse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ship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provide direction and gui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build consensus among diverse constitu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ten and oral communication skills and organizational 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 interpersonal skills with sensitivity to cross-cultural and transnati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conduct effective negotiations involving financial and policy ma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Qualific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 years experience in telecommunications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EE Member since joining as a student in 197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 at the local, region and international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t the OU Board level since 199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ing my sixth year on the IEEE Board of Direc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seven years on the IEEE Finance Committee, two years as Chair and IEEE Treas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ly Vice President – Member &amp; Geographic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ingness to serve IEEE, the profession, and the common g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Member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ng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ety Member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ng members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Busines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rastructure Eval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 Excell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St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Oper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tegic Planning and Alig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/ Staff Relation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nsus buil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ignment of the Board and the Executive Dir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tribution to the success of the IEE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sideration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I would appreciate your help, your support and your vote.</a:t>
            </a: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ieee.joelillie.com</a:t>
            </a:r>
            <a:br>
              <a:rPr sz="3200"/>
            </a:br>
            <a:r>
              <a:rPr b="1" lang="en-US" sz="3200" spc="-1" strike="noStrike" u="sng">
                <a:solidFill>
                  <a:srgbClr val="005582"/>
                </a:solidFill>
                <a:uFillTx/>
                <a:latin typeface="Verdana"/>
              </a:rPr>
              <a:t>j.lillie@ieee.org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7:28:39Z</dcterms:created>
  <dc:creator>cjankows</dc:creator>
  <dc:description/>
  <dc:language>en-US</dc:language>
  <cp:lastModifiedBy>IEEE</cp:lastModifiedBy>
  <dcterms:modified xsi:type="dcterms:W3CDTF">2009-04-17T19:54:24Z</dcterms:modified>
  <cp:revision>170</cp:revision>
  <dc:subject/>
  <dc:title>TITLE</dc:title>
</cp:coreProperties>
</file>