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B90CA-F399-45EA-9338-BAA3E97547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999D2-1A51-48BC-9DF7-FEA166C21B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2C530-E34A-4704-B294-2901E5A305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2D7F9-48D9-4AD4-B233-AEFBB4F429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1F12C-1307-4DC6-A5BF-EF1CBDFEE3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E15C6-6890-435F-87D8-662DE011CC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2365B-9F37-4D05-A651-C1C5C26EB3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3BBA9-47F7-4CDB-83E5-94648929CA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8A002-5045-48E7-A1A8-AE2ED62B99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226C8-6AE7-44CE-8E74-DBAA6FAE72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0E7D0-57C5-45D4-9609-9AABEFF68B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67BCD-3D8C-47FB-BA82-9D805014B3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D5A0D-54D1-4585-B428-2D19E096B6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4AB28-6F2D-43E2-919C-AFA46152B7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4096F-EC09-4B37-BC0E-28EAF769DC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8C959-8B60-4700-AD73-34CA3E7524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1653F-3525-4158-8A76-C8DEDD8B05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F4B70-32FC-4FD5-B7C6-AEFA540704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7F44C-5C54-4DC3-B573-336AD6E19C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28485-4C82-4752-ACA9-A00CE10FE8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51DC6-9D05-414D-9881-788011BA6F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8CC23-1CB0-452E-8215-23C0D25E09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68A1B-F6FB-4FA9-AF73-DD18901C28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C3095-61FC-4D38-B066-7325FB8CBF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613D5-3A43-4690-A22E-4CD5C5D04F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71D8A-0E97-4FFA-A6CE-E37476ADD5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hyperlink" Target="http://ieee.org/portal/site/iportals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hyperlink" Target="http://ieee.org/portal/site/iportals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IEE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943760" y="6153120"/>
            <a:ext cx="1190880" cy="704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IEE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38080" y="5867280"/>
            <a:ext cx="1219320" cy="72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rocket.kharkov.ua/euachapter" TargetMode="External"/><Relationship Id="rId4" Type="http://schemas.openxmlformats.org/officeDocument/2006/relationships/hyperlink" Target="http://www.rocket.kharkov.ua/euachapter" TargetMode="External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0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4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0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990720"/>
            <a:ext cx="7391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IEEE R8 Chapter Of The Year 2008 Award</a:t>
            </a:r>
            <a:br>
              <a:rPr sz="4800"/>
            </a:br>
            <a:endParaRPr b="1" lang="en-US" sz="48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09480" y="441972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d88"/>
                </a:solidFill>
                <a:latin typeface="Arial"/>
              </a:rPr>
              <a:t>Award Ceremon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d88"/>
                </a:solidFill>
                <a:latin typeface="Arial"/>
              </a:rPr>
              <a:t>R8 Committee Meeting, Venice, Ita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d88"/>
                </a:solidFill>
                <a:latin typeface="Arial"/>
              </a:rPr>
              <a:t>April 26, 200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6328800" y="624852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eter Magyar, CCSC Cha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0672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57200" y="5791320"/>
          <a:ext cx="1600200" cy="906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5791320"/>
                    <a:ext cx="1600200" cy="9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EE AP/AES/ED/EMB/GRS/MTT/NPS Societies East Ukraine Joint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 of establishing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membership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Senior Members and 1 Fellow in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minars, technical and administrative meetings 2008:    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erences and other events sponsore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ual reports submitted / Annual elections h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llent educational, administrative activ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ations, public relations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51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80ff"/>
                </a:solidFill>
                <a:uFillTx/>
                <a:latin typeface="Arial"/>
                <a:hlinkClick r:id="rId3"/>
              </a:rPr>
              <a:t>www.rocket.kharkov.ua/</a:t>
            </a:r>
            <a:r>
              <a:rPr b="0" lang="en-US" sz="1800" spc="-1" strike="noStrike" u="sng">
                <a:solidFill>
                  <a:srgbClr val="0080ff"/>
                </a:solidFill>
                <a:uFillTx/>
                <a:latin typeface="Arial"/>
                <a:hlinkClick r:id="rId4"/>
              </a:rPr>
              <a:t>euach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8 Best Chapter Award of IEEE AP-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EE AP/AES/ED/EMB/GRS/MTT/NPS Societies East Ukraine Joint Chapter Representati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143000" y="2895480"/>
            <a:ext cx="866880" cy="12542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1143000" y="4800600"/>
            <a:ext cx="914400" cy="12193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362320" y="2727360"/>
            <a:ext cx="6172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Dr. Oksana V. Shramkov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(IEEE M’07, SM’08).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MS degree in Solid-State Physics and PhD degree in Radiophysics from th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National Technical University “Kharkov Polytechnic Institute”. Senior Scientist. 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ecretary (2007-2008) and chair (2009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of the winner Chapt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62320" y="4632480"/>
            <a:ext cx="6324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f.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lexander I. Nosich (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M'94, SM'95, F'04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r>
              <a:rPr b="1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, researcher, DSc.  Principal scientist with IRE NASU, Kharkiv, Ukraine. Field of work: computational electromagnetics. In 1995, he organized the first IEEE AP-S Chapter in the  former USSR. Chair 2008 and Founder Chair of the winner Chap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Józef Modelski, R8 Dir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   Dr. Oksana V. Shramkova, Chapter Chai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2209680" y="3138480"/>
          <a:ext cx="4038840" cy="3110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3138480"/>
                    <a:ext cx="4038840" cy="31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h award of $500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. Rami T Mushcab, R8 VC 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Oksana V. Shramkova, Chapter Chai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3505320" y="3240000"/>
          <a:ext cx="4495680" cy="1738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3240000"/>
                    <a:ext cx="4495680" cy="17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-61920" y="16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371600" y="4535640"/>
          <a:ext cx="4495680" cy="1712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4535640"/>
                    <a:ext cx="4495680" cy="17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Coordination SC´s 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Daniel  Pasquet, CCSC Telecomm. Coordin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Alexander I. Nosich, Chapter Chai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1981080" y="2735280"/>
          <a:ext cx="5000760" cy="3367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2735280"/>
                    <a:ext cx="5000760" cy="33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Coordination SC´s 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Peter Magyar, CSCC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Oksana V. Shramkova, Chapter Chair 200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1981080" y="2743200"/>
          <a:ext cx="5029200" cy="3346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2743200"/>
                    <a:ext cx="5029200" cy="33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di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rmany Section EMC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rmany Section IA/PEL/I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aly Section RA Chap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 Section 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 Section PEL/I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I Section CMS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Best Chap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Germany Section EMC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Germany Section IA/PEL/I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aly Section RA Chap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 Section 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 Section PEL/I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I Section CMS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winner was selected by the voting majority 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: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arg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IEEE EMC Society Germany Section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representatives of the Germany Section and the Winner Chapter are kindly invited to the podi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Andreas Luxa, Germany Section Cha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Frank Sabath, Chapter Chair 200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5038560" y="4419720"/>
          <a:ext cx="954360" cy="129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38560" y="4419720"/>
                    <a:ext cx="95436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3124080" y="4457880"/>
          <a:ext cx="979560" cy="1257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24080" y="4457880"/>
                    <a:ext cx="979560" cy="12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33480" indent="-48528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EE EMC Society Germany Section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ate of establishing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otal membership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9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nior Members in 2008: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echnical meetings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ponsored symposium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nnual reports submitt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nnual Chapter Board election hel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est PhD-Thesis Award / Best Bachelor Thesis Awar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nsive involvement in EMC-S activiti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Award History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of the Year Award Con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ortant part of the Chapters´ act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ief histo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rted in 200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itia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garetha Eriks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ózef Models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generation” 2005-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generation” 2009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0672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 EMC Society Germany Section Chapter Represent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2362320" y="2193840"/>
            <a:ext cx="6476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Dr. Frank Sabath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 (M’94–SM’03), Dipl.-Ing. in electrical engineering, Dr.-Ing. 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e is the head of the Electromagnetic Effects Branch at the Bundeswehr Research Institute for Protective Technologies and NBC-Protec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179360" y="2209680"/>
          <a:ext cx="954360" cy="1295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79360" y="2209680"/>
                    <a:ext cx="95436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2362320" y="3048120"/>
            <a:ext cx="632448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Treasurer (2003-4) and Chair (2005-10) of the Germany EMC Chap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R8 Conference Coordinator (2003-8)  /  R8 Membership Coordinator (2008- )  /  Global Conference Coordinator (2009- ) of the EMC Soc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Secretary (2004-7) and Chair (2007-) of TC-7 „Nonsinusoidal Fields“ of the EMC Soc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……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nicknamed </a:t>
            </a:r>
            <a:r>
              <a:rPr b="0" i="1" lang="de-DE" sz="2000" spc="-1" strike="noStrike">
                <a:solidFill>
                  <a:srgbClr val="000000"/>
                </a:solidFill>
                <a:latin typeface="Calibri"/>
              </a:rPr>
              <a:t>„Turbo Frank“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of the EMC Soc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Józef Modelski, R8 Dir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Frank Sabath, Chapter Chair 200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2362320" y="3255840"/>
          <a:ext cx="4267080" cy="306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62320" y="3255840"/>
                    <a:ext cx="4267080" cy="30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h award of $500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. Rami T Mushcab, R8 VC 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Frank Sabath, Chapter Chair 200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3505320" y="3276720"/>
          <a:ext cx="4495680" cy="173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3276720"/>
                    <a:ext cx="4495680" cy="17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-61920" y="16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371600" y="4572000"/>
          <a:ext cx="4495680" cy="1712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4572000"/>
                    <a:ext cx="4495680" cy="17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Coordination SC´s 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. Elya B. Joffe, CCSC Electronics-2 Coordinator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EMC Society Presi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Frank Sabath, EMC Germany Section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2243160" y="3067200"/>
          <a:ext cx="4657680" cy="3181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43160" y="3067200"/>
                    <a:ext cx="4657680" cy="31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INVITATION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The Chapter Coordination Subcommitte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requests the pleasure of your company at </a:t>
            </a: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the presentation of the</a:t>
            </a: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best R8 Chapters of the Year 2008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during the CCSC Meeting</a:t>
            </a:r>
            <a:br>
              <a:rPr sz="28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on Sunday, 26</a:t>
            </a:r>
            <a:r>
              <a:rPr b="0" lang="en-US" sz="2800" spc="-1" strike="noStrike" baseline="30000">
                <a:solidFill>
                  <a:srgbClr val="0f3d88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 April 2009, at 2:15 p.m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Room1</a:t>
            </a:r>
            <a:endParaRPr b="1" lang="en-US" sz="2800" spc="-1" strike="noStrike">
              <a:solidFill>
                <a:srgbClr val="0f3d88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INVITATION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The Chapter Coordination Subcommitte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requests the pleasure of your company at </a:t>
            </a: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the presentation of the</a:t>
            </a: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best R8 Chapters of the Year 2008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during the CCSC Meeting</a:t>
            </a:r>
            <a:br>
              <a:rPr sz="28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on Sunday, 26</a:t>
            </a:r>
            <a:r>
              <a:rPr b="0" lang="en-US" sz="2800" spc="-1" strike="noStrike" baseline="30000">
                <a:solidFill>
                  <a:srgbClr val="0f3d88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 April 2009, at 2:15 p.m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Room1</a:t>
            </a:r>
            <a:endParaRPr b="1" lang="en-US" sz="2800" spc="-1" strike="noStrike">
              <a:solidFill>
                <a:srgbClr val="0f3d88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Award History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33440" indent="-41904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cessful Chapters in 2002-200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wer”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O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TT/A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duc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672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Award History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cessful Societies in 2002-200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udi Arab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al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zechoslovak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ussia Centr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anc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ussia Siber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rman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ugoslav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lan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st has been renewed i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w Nomination Fo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luding all parts of Chapter activ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ous technical, educational, administrative, membership development, communications and public relations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ptional managerial and leadership achie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tion of innovative new Chapter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dication to the growth and advancement of the Chapter´s membership and its Section and its 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filling all requirements of reporting to Sections and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EEE MGA Department.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st has been renewed i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51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w Nomination For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n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Priz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ication and $500 cash award for each categ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scoring and evaluation princip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ion was processed by CC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criterion for selection was the outstanding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tal 12 nominations recei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7% of the R-8 Chap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did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oatia Section EMC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land Section AP/AES/MTT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itzerland Section EMB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urkey Section CAS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aine Section AP/AES/ED/EMB/GRS/MTT/NPS Chap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aine Section IM/CI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Best Chap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oatia Section EMC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Poland Section AP/AES/MTT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itzerland Section EMB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urkey Section CAS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Ukraine Section AP/AES/ED/EMB/GRS/MTT/NPS Chapte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aine Section IM/CI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winner was selected by the voting majority of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: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mall and Middle Siz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IEEE AP/AES/ED/EMB/GRS/MTT/NPS Societies East Ukraine Joint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representatives of the Ukraine Section and the Winner Chapter are kindly invited to the podi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Olexandr S. Yandulsky, Ukraine Section Cha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Oksana V. Shramkova, Chapter Chai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Alexander I. Nosich, Chapter Chai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4343400" y="4876920"/>
            <a:ext cx="866880" cy="12538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6324480" y="4876920"/>
            <a:ext cx="1001880" cy="121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7" name=""/>
          <p:cNvGraphicFramePr/>
          <p:nvPr/>
        </p:nvGraphicFramePr>
        <p:xfrm>
          <a:off x="2438280" y="4876920"/>
          <a:ext cx="925560" cy="121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38280" y="4876920"/>
                    <a:ext cx="92556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3:58:32Z</dcterms:created>
  <dc:creator>IEEE</dc:creator>
  <dc:description/>
  <dc:language>en-US</dc:language>
  <cp:lastModifiedBy>pmagyar</cp:lastModifiedBy>
  <dcterms:modified xsi:type="dcterms:W3CDTF">2009-04-24T14:53:02Z</dcterms:modified>
  <cp:revision>267</cp:revision>
  <dc:subject/>
  <dc:title>No Slide Title</dc:title>
</cp:coreProperties>
</file>