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038C-8DEE-4542-9789-0B56D10C3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8615-955F-49B0-9C35-B4174A132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1376-5143-48B2-A757-A0B375AC4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5A6A-78D7-437C-B4BC-BA56A6A62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929F-F69B-455D-95B4-2DEF26772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29369-F458-408F-8E3C-2C7D3027F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61AF-725A-490A-A959-600C378FB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4CCC-BE74-4DAA-BF9B-714D489B7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6A5D-9DAA-437A-B7A9-A73390D89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D532-38FE-424E-AD43-7A2D48D05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7F6D-5EF6-4614-947B-0B6F2DC99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1B18-17E0-47D7-A065-45006038B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E87D-0E02-4BDA-8269-86FFFD6A4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DB50-9320-4656-ADD6-E22074EDF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9047-CBDA-48AF-BEAF-7E989C66D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F5E3-774C-4BED-840B-07786B8D9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F67C-DB10-4B16-87E8-2AE013C48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2FDF-AFE9-4F81-B648-C371A6DB3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62F5-536F-4DC3-B96E-9FD413C91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C097-5996-45E0-8F96-5A1CCB216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D749-CEBA-49A5-B181-2094F5BCC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88AA-C628-441E-B5E4-E30AC1811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6FE7-ED07-4E64-B732-EBC81D84C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A482-F671-41A0-8F76-21F4AF4A2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C32C-2EA8-4004-AC31-211613B60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F35C-2093-4287-BCAF-FD2EE93C3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ieee.org/portal/site/iportals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hyperlink" Target="http://ieee.org/portal/site/iportals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IEE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943760" y="6153120"/>
            <a:ext cx="1190880" cy="70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IEE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38080" y="5867280"/>
            <a:ext cx="1219320" cy="72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rocket.kharkov.ua/euachapter" TargetMode="External"/><Relationship Id="rId4" Type="http://schemas.openxmlformats.org/officeDocument/2006/relationships/hyperlink" Target="http://www.rocket.kharkov.ua/euachapter" TargetMode="External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7391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EEE R8 Chapter Of The Year 2008 Award</a:t>
            </a:r>
            <a:br>
              <a:rPr sz="4800"/>
            </a:br>
            <a:endParaRPr b="1" lang="en-US" sz="48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09480" y="441972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Award Ceremo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R8 Committee Meeting, Venice, It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April 26, 200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6328800" y="624852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ter Magyar, CCSC Ch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5791320"/>
          <a:ext cx="1600200" cy="90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791320"/>
                    <a:ext cx="160020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AP/AES/ED/EMB/GRS/MTT/NPS Societies East Ukraine Join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of establishing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membership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Senior Members and 1 Fellow in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inars, technical and administrative meetings 2008:    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erences and other events sponsor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reports submitted / Annual elections h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lent educational, administrative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ations, public relations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80ff"/>
                </a:solidFill>
                <a:uFillTx/>
                <a:latin typeface="Arial"/>
                <a:hlinkClick r:id="rId3"/>
              </a:rPr>
              <a:t>www.rocket.kharkov.ua/</a:t>
            </a:r>
            <a:r>
              <a:rPr b="0" lang="en-US" sz="1800" spc="-1" strike="noStrike" u="sng">
                <a:solidFill>
                  <a:srgbClr val="0080ff"/>
                </a:solidFill>
                <a:uFillTx/>
                <a:latin typeface="Arial"/>
                <a:hlinkClick r:id="rId4"/>
              </a:rPr>
              <a:t>euach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 Best Chapter Award of IEEE AP-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AP/AES/ED/EMB/GRS/MTT/NPS Societies East Ukraine Joint Chapter Representa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143000" y="2895480"/>
            <a:ext cx="866880" cy="1254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143000" y="4800600"/>
            <a:ext cx="914400" cy="12193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362320" y="2727360"/>
            <a:ext cx="6172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r. Oksana V. Shramkov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(IEEE M’07, SM’08)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MS degree in Solid-State Physics and PhD degree in Radiophysics from th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ational Technical University “Kharkov Polytechnic Institute”. Senior Scientist. 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cretary (2007-2008) and chair (2009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f the winner Chapt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62320" y="4632480"/>
            <a:ext cx="6324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f.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lexander I. Nosich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'94, SM'95, F'04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researcher, DSc.  Principal scientist with IRE NASU, Kharkiv, Ukraine. Field of work: computational electromagnetics. In 1995, he organized the first IEEE AP-S Chapter in the  former USSR. Chair 2008 and Founder Chair of the winner Chap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Józef Modelski, R8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   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209680" y="3138480"/>
          <a:ext cx="4038840" cy="311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3138480"/>
                    <a:ext cx="4038840" cy="31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award of $500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ami T Mushcab, R8 VC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3505320" y="3240000"/>
          <a:ext cx="4495680" cy="17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240000"/>
                    <a:ext cx="4495680" cy="17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-6192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371600" y="4535640"/>
          <a:ext cx="4495680" cy="17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35640"/>
                    <a:ext cx="4495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Daniel  Pasquet, CCSC Telecomm. C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Alexander I. Nosich, Chapter Chai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1981080" y="2735280"/>
          <a:ext cx="5000760" cy="3367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735280"/>
                    <a:ext cx="5000760" cy="33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Peter Magyar, CSCC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981080" y="2743200"/>
          <a:ext cx="5029200" cy="334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743200"/>
                    <a:ext cx="5029200" cy="33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Section IA/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 Section RA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I Section CM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est Chap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ermany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ermany Section IA/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 Section RA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I Section CM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nner was selected by the voting majority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: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rg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EEE EMC Society Germany Section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presentatives of the Germany Section and the Winner Chapter are kindly invited to the po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Andreas Luxa, Germany Section 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5038560" y="4419720"/>
          <a:ext cx="954360" cy="12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38560" y="4419720"/>
                    <a:ext cx="9543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124080" y="4457880"/>
          <a:ext cx="979560" cy="125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24080" y="4457880"/>
                    <a:ext cx="97956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48528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EMC Society Germany Section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e of establishing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tal membership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nior Members in 2008: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chnical meetings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ponsored symposium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nual reports submitt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nual Chapter Board election hel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est PhD-Thesis Award / Best Bachelor Thesis Aw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nsive involvement in EMC-S activi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of the Year Award Con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ortant part of the Chapters´ 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ief his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ed in 20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i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garetha Erik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ózef Model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eneration” 2005-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eneration” 2009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EMC Society Germany Section Chapter Represen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2362320" y="2193840"/>
            <a:ext cx="6476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Dr. Frank Sabath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 (M’94–SM’03), Dipl.-Ing. in electrical engineering, Dr.-Ing. 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 is the head of the Electromagnetic Effects Branch at the Bundeswehr Research Institute for Protective Technologies and NBC-Protec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179360" y="2209680"/>
          <a:ext cx="954360" cy="129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79360" y="2209680"/>
                    <a:ext cx="9543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2362320" y="3048120"/>
            <a:ext cx="632448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reasurer (2003-4) and Chair (2005-10) of the Germany EMC Chap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R8 Conference Coordinator (2003-8)  /  R8 Membership Coordinator (2008- )  /  Global Conference Coordinator (2009- ) 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ecretary (2004-7) and Chair (2007-) of TC-7 „Nonsinusoidal Fields“ 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……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icknamed </a:t>
            </a:r>
            <a:r>
              <a:rPr b="0" i="1" lang="de-DE" sz="2000" spc="-1" strike="noStrike">
                <a:solidFill>
                  <a:srgbClr val="000000"/>
                </a:solidFill>
                <a:latin typeface="Calibri"/>
              </a:rPr>
              <a:t>„Turbo Frank“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Józef Modelski, R8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2362320" y="3255840"/>
          <a:ext cx="4267080" cy="306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3255840"/>
                    <a:ext cx="426708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award of $500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ami T Mushcab, R8 VC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3505320" y="3276720"/>
          <a:ext cx="4495680" cy="17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276720"/>
                    <a:ext cx="4495680" cy="17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-6192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371600" y="4572000"/>
          <a:ext cx="4495680" cy="17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72000"/>
                    <a:ext cx="4495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Elya B. Joffe, CCSC Electronics-2 Coordinato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EMC Society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EMC Germany Section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2243160" y="3067200"/>
          <a:ext cx="4657680" cy="318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43160" y="3067200"/>
                    <a:ext cx="4657680" cy="31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INVIT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The Chapter Coordination Subcommitte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equests the pleasure of your company at 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the presentation of the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best R8 Chapters of the Year 2008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during the CCSC Meeting</a:t>
            </a: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on Sunday, 26</a:t>
            </a:r>
            <a:r>
              <a:rPr b="0" lang="en-US" sz="2800" spc="-1" strike="noStrike" baseline="30000">
                <a:solidFill>
                  <a:srgbClr val="0f3d8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 April 2009, at 2:15 p.m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oom1</a:t>
            </a:r>
            <a:endParaRPr b="1" lang="en-US" sz="2800" spc="-1" strike="noStrike">
              <a:solidFill>
                <a:srgbClr val="0f3d88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INVIT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The Chapter Coordination Subcommitte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equests the pleasure of your company at 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the presentation of the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best R8 Chapters of the Year 2008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during the CCSC Meeting</a:t>
            </a: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on Sunday, 26</a:t>
            </a:r>
            <a:r>
              <a:rPr b="0" lang="en-US" sz="2800" spc="-1" strike="noStrike" baseline="30000">
                <a:solidFill>
                  <a:srgbClr val="0f3d8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 April 2009, at 2:15 p.m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oom1</a:t>
            </a:r>
            <a:endParaRPr b="1" lang="en-US" sz="2800" spc="-1" strike="noStrike">
              <a:solidFill>
                <a:srgbClr val="0f3d88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33440" indent="-41904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Chapters in 2002-200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wer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TT/A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Societies in 2002-200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udi Arab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a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zechoslovak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ssia Centr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n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ssia Siber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rman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ugoslav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a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 has been renewed i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Nomination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ing all parts of Chapter a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ous technical, educational, administrative, membership development, communications and public relations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ional managerial and leadership achie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of innovative new Chapter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ication to the growth and advancement of the Chapter´s membership and its Section and its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filling all requirements of reporting to Sections an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EEE MGA Department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 has been renewed i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Nomination For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Priz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and $500 cash award for each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scoring and evaluation princi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 was processed by CC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criterion for selection was the outstanding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tal 12 nominations recei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7% of the R-8 Chap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atia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and Section AP/AES/MT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zerland Section EMB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Section CA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AP/AES/ED/EMB/GRS/MTT/NPS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IM/CI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est Chap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atia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oland Section AP/AES/MT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zerland Section EMB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Section CA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Ukraine Section AP/AES/ED/EMB/GRS/MTT/NPS Chapt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IM/CI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nner was selected by the voting majority of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: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EEE AP/AES/ED/EMB/GRS/MTT/NPS Societies East Ukraine Join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presentatives of the Ukraine Section and the Winner Chapter are kindly invited to the po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Olexandr S. Yandulsky, Ukraine Section 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Alexander I. Nosich, Chapter Chai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4343400" y="4876920"/>
            <a:ext cx="866880" cy="1253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6324480" y="4876920"/>
            <a:ext cx="1001880" cy="121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2438280" y="4876920"/>
          <a:ext cx="925560" cy="121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4876920"/>
                    <a:ext cx="9255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3:58:32Z</dcterms:created>
  <dc:creator>IEEE</dc:creator>
  <dc:description/>
  <dc:language>en-US</dc:language>
  <cp:lastModifiedBy>pmagyar</cp:lastModifiedBy>
  <dcterms:modified xsi:type="dcterms:W3CDTF">2009-04-24T14:53:02Z</dcterms:modified>
  <cp:revision>267</cp:revision>
  <dc:subject/>
  <dc:title>No Slide Title</dc:title>
</cp:coreProperties>
</file>