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7D3F-640A-4B7F-860D-42A75EFDF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6EF2-CD24-469A-B594-77F0C4955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328A-F462-44A4-8CD9-3F5103C27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7505-876A-48BA-B396-31DFA5951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430A-35CF-4D70-B40C-4647D3923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5B55-8192-4563-A6EE-B744FA9AD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6BFA-A7EF-4516-B982-6E60CE506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0489-CC2A-488A-A238-DDBC79C7E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B020-B6C7-49BC-A7CC-6A311C131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7419-31F3-46EE-A24F-73FD85D7E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44B7-CAB1-4FFF-ACC8-6ED98796C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38FE-D6AF-4227-9E36-5A4802F31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C17F-B5C3-4459-AB26-472D854FC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C2AB-D893-47D6-A94D-9A558064F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D577-98F1-4252-B658-31CEDE55C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493D-EFDE-4F9A-B005-D1F2A0D57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F1BB-EC64-4496-AD6A-C0ECD0E84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72489-4715-42E0-A0B6-F72099442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53743-7FEB-493D-A89A-DCE160C5D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7129-AA99-4EEA-8BD0-5C8CC62D6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D689D-B973-4894-B4F4-32FB4E627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F251-06C5-42DD-8B49-52CF4865B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6F43-5346-4727-91FC-01D73F577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3335-D450-40AF-8C13-806FA314F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3E08-46DC-4FF4-A72F-EACEBB685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77D1-9C09-498D-9AD1-EA0362584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943760" y="6153120"/>
            <a:ext cx="1190880" cy="70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080" y="5867280"/>
            <a:ext cx="1219320" cy="72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rocket.kharkov.ua/euachapter" TargetMode="External"/><Relationship Id="rId4" Type="http://schemas.openxmlformats.org/officeDocument/2006/relationships/hyperlink" Target="http://www.rocket.kharkov.ua/euachapter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EEE R8 Chapter Of The Year 2008 Award</a:t>
            </a:r>
            <a:br>
              <a:rPr sz="4800"/>
            </a:br>
            <a:endParaRPr b="1" lang="en-US" sz="48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480" y="441972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ward Ceremo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R8 Committee Meeting, Venice, It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pril 26, 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328800" y="624852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ter Magyar, CCSC Ch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5791320"/>
          <a:ext cx="1600200" cy="9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791320"/>
                    <a:ext cx="16002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of establishi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Senior Members and 1 Fellow in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nars, technical and administrative meetings 2008:    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erences and other events sponsor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reports submitted / Annual elections h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lent educational, administrative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ations,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3"/>
              </a:rPr>
              <a:t>www.rocket.kharkov.ua/</a:t>
            </a: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4"/>
              </a:rPr>
              <a:t>euach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 Best Chapter Award of IEEE AP-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 Representa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143000" y="2895480"/>
            <a:ext cx="866880" cy="1254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143000" y="4800600"/>
            <a:ext cx="914400" cy="12193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362320" y="2727360"/>
            <a:ext cx="6172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r. Oksana V. Shramkov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(IEEE M’07, SM’08)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MS degree in Solid-State Physics and PhD degree in Radiophysics from th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ational Technical University “Kharkov Polytechnic Institute”. Senior Scientist. 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cretary (2007-2008) and chair (2009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f the winner Chapt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4632480"/>
            <a:ext cx="6324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.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lexander I. Nosich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'94, SM'95, F'04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researcher, DSc.  Principal scientist with IRE NASU, Kharkiv, Ukraine. Field of work: computational electromagnetics. In 1995, he organized the first IEEE AP-S Chapter in the  former USSR. Chair 2008 and Founder Chair of the winner Chap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   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209680" y="3138480"/>
          <a:ext cx="4038840" cy="311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3138480"/>
                    <a:ext cx="403884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505320" y="3240000"/>
          <a:ext cx="4495680" cy="17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40000"/>
                    <a:ext cx="449568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371600" y="453564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3564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Daniel  Pasquet, CCSC Telecomm. 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1981080" y="2735280"/>
          <a:ext cx="5000760" cy="336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35280"/>
                    <a:ext cx="5000760" cy="33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Peter Magyar, CSCC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981080" y="2743200"/>
          <a:ext cx="5029200" cy="334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43200"/>
                    <a:ext cx="502920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: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Germany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Andreas Luxa, Germany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5038560" y="4419720"/>
          <a:ext cx="95436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8560" y="4419720"/>
                    <a:ext cx="9543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124080" y="4457880"/>
          <a:ext cx="979560" cy="12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4080" y="4457880"/>
                    <a:ext cx="97956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8528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e of establishing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nior Members in 2008: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chnical meetings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ponsored symposium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reports submitt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Chapter Board election he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st PhD-Thesis Award / Best Bachelor Thesis Aw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nsive involvement in EMC-S activi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of the Year Award Con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ortant part of the Chapters´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ief his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ed in 20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aretha Erik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ózef Model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5-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9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EMC Society Germany Section Chapter Represen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2362320" y="2193840"/>
            <a:ext cx="647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Dr. Frank Sabath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 (M’94–SM’03), Dipl.-Ing. in electrical engineering, Dr.-Ing. 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 is the head of the Electromagnetic Effects Branch at the Bundeswehr Research Institute for Protective Technologies and NBC-Protec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179360" y="2209680"/>
          <a:ext cx="954360" cy="129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79360" y="2209680"/>
                    <a:ext cx="9543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2362320" y="3048120"/>
            <a:ext cx="63244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reasurer (2003-4) and Chair (2005-10) of the Germany EMC Chap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R8 Conference Coordinator (2003-8)  /  R8 Membership Coordinator (2008- )  /  Global Conference Coordinator (2009- )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ecretary (2004-7) and Chair (2007-) of TC-7 „Nonsinusoidal Fields“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……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icknamed </a:t>
            </a:r>
            <a:r>
              <a:rPr b="0" i="1" lang="de-DE" sz="2000" spc="-1" strike="noStrike">
                <a:solidFill>
                  <a:srgbClr val="000000"/>
                </a:solidFill>
                <a:latin typeface="Calibri"/>
              </a:rPr>
              <a:t>„Turbo Frank“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362320" y="3255840"/>
          <a:ext cx="4267080" cy="306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3255840"/>
                    <a:ext cx="426708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505320" y="3276720"/>
          <a:ext cx="4495680" cy="17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76720"/>
                    <a:ext cx="4495680" cy="17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371600" y="457200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7200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Elya B. Joffe, CCSC Electronics-2 Coordinat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EMC Society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EMC Germany Section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2243160" y="3067200"/>
          <a:ext cx="4657680" cy="318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43160" y="3067200"/>
                    <a:ext cx="4657680" cy="31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Chapter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wer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TT/A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Societie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udi Arab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a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zechoslovak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Centr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Siber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rman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ugoslav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a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ing all parts of Chapter a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 technical, educational, administrative, membership development, communications and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al managerial and leadership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innovative new Chapter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ication to the growth and advancement of the Chapter´s membership and its Section and its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filling all requirements of reporting to Sections a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EEE MGA Department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Priz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and $500 cash award for each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scoring and evaluation princi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 was processed by CC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criterion for selection was the outstanding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tal 12 nominations recei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7% of the R-8 Chap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AP/AES/ED/EMB/GRS/MTT/NPS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Ukraine Section AP/AES/ED/EMB/GRS/MTT/NPS Chapt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Ukraine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Olexandr S. Yandulsky, Ukraine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4343400" y="4876920"/>
            <a:ext cx="866880" cy="1253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324480" y="4876920"/>
            <a:ext cx="1001880" cy="121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2438280" y="4876920"/>
          <a:ext cx="925560" cy="121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4876920"/>
                    <a:ext cx="9255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3:58:32Z</dcterms:created>
  <dc:creator>IEEE</dc:creator>
  <dc:description/>
  <dc:language>en-US</dc:language>
  <cp:lastModifiedBy>pmagyar</cp:lastModifiedBy>
  <dcterms:modified xsi:type="dcterms:W3CDTF">2009-04-24T14:53:02Z</dcterms:modified>
  <cp:revision>267</cp:revision>
  <dc:subject/>
  <dc:title>No Slide Title</dc:title>
</cp:coreProperties>
</file>