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E04C-9BF8-4B97-99DD-065D82686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49FA-D9CB-48F2-A106-36415F0EC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50A8-EFBE-4D4D-B383-264BB967E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806D-593C-4548-A938-F593F8006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C038-16AA-449F-90A7-AF9E60D46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81EC-7936-4465-81E3-112EC2628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4515-6C74-4CCD-8776-B2B083BCF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AD62-CF25-4D63-895B-6AD947B79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56F1-C558-4FE6-861E-23FAFB821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FBAA-049D-4EA3-BD79-689FBDDB3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15D4-267B-4B13-868C-CF7313BDE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7752-1CFB-4C28-9F37-082397CFB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CC8A-9BA3-42EC-99F4-BEFA79A45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A78D-D14A-4861-91C7-B11BD3556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B311-69AC-4642-87B5-121FE7F4D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E575-808E-4AE0-A426-52FE3D973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7608-F27D-4C83-B2F8-76C801FFD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BD0B-3781-49F5-B8FF-389940A9A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6C0D-FC73-4E28-A116-5C2535F40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6DC3-F7AC-4BC5-871F-9A07E5EAA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A241-2155-4476-860B-5E77B0E25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7FF1-22E2-46D0-82F4-1849E535D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B7F0-4741-4BBD-AFA0-D920F51A4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F3D9-CFE4-42B9-9766-1A1125DA6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BAC5-2E5D-47DC-BCDC-B0B7F55E6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44FF-D9A2-492E-B470-C8698AC72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943760" y="6153120"/>
            <a:ext cx="1190880" cy="70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5867280"/>
            <a:ext cx="1219320" cy="72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rocket.kharkov.ua/euachapter" TargetMode="External"/><Relationship Id="rId4" Type="http://schemas.openxmlformats.org/officeDocument/2006/relationships/hyperlink" Target="http://www.rocket.kharkov.ua/euachapter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EEE R8 Chapter Of The Year 2008 Award</a:t>
            </a:r>
            <a:br>
              <a:rPr sz="4800"/>
            </a:br>
            <a:endParaRPr b="1" lang="en-US" sz="48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480" y="44197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ward Ceremo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R8 Committee Meeting, Venice, It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pril 26,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328800" y="624852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ter Magyar, CCSC Ch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5791320"/>
          <a:ext cx="1600200" cy="9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791320"/>
                    <a:ext cx="16002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of establishi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Senior Members and 1 Fellow i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nars, technical and administrative meetings 2008:    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ences and other events sponsor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reports submitted / Annual elections h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ent educational, administrative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s,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3"/>
              </a:rPr>
              <a:t>www.rocket.kharkov.ua/</a:t>
            </a: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4"/>
              </a:rPr>
              <a:t>eua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Best Chapter Award of IEEE AP-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 Represent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143000" y="2895480"/>
            <a:ext cx="866880" cy="1254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143000" y="4800600"/>
            <a:ext cx="914400" cy="1219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362320" y="2727360"/>
            <a:ext cx="6172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r. Oksana V. Shramkov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(IEEE M’07, SM’08)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MS degree in Solid-State Physics and PhD degree in Radiophysics from th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Technical University “Kharkov Polytechnic Institute”. Senior Scientist. 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cretary (2007-2008) and chair (2009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f the winner Chapt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4632480"/>
            <a:ext cx="6324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.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lexander I. Nosich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'94, SM'95, F'04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researcher, DSc.  Principal scientist with IRE NASU, Kharkiv, Ukraine. Field of work: computational electromagnetics. In 1995, he organized the first IEEE AP-S Chapter in the  former USSR. Chair 2008 and Founder Chair of the winner Chap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   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209680" y="3138480"/>
          <a:ext cx="4038840" cy="311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138480"/>
                    <a:ext cx="403884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505320" y="3240000"/>
          <a:ext cx="4495680" cy="17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40000"/>
                    <a:ext cx="449568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71600" y="453564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3564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Daniel  Pasquet, CCSC Telecomm.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981080" y="2735280"/>
          <a:ext cx="5000760" cy="336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35280"/>
                    <a:ext cx="5000760" cy="33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Peter Magyar, CSCC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981080" y="2743200"/>
          <a:ext cx="5029200" cy="334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43200"/>
                    <a:ext cx="502920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Germany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Andreas Luxa, Germany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038560" y="4419720"/>
          <a:ext cx="95436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8560" y="4419720"/>
                    <a:ext cx="954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124080" y="4457880"/>
          <a:ext cx="979560" cy="12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4457880"/>
                    <a:ext cx="97956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8528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e of establishing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nior Members in 2008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chnical meetings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onsored symposium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reports submit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Chapter Board election he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st PhD-Thesis Award / Best Bachelor Thesis Aw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nsive involvement in EMC-S act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of the Year Award Con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ortant part of the Chapters´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ef his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ed in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aretha Erik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ózef Model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5-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9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EMC Society Germany Section Chapter 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362320" y="2193840"/>
            <a:ext cx="647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Dr. Frank Sabat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(M’94–SM’03), Dipl.-Ing. in electrical engineering, Dr.-Ing. 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 is the head of the Electromagnetic Effects Branch at the Bundeswehr Research Institute for Protective Technologies and NBC-Protec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79360" y="2209680"/>
          <a:ext cx="95436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79360" y="2209680"/>
                    <a:ext cx="9543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2362320" y="3048120"/>
            <a:ext cx="63244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reasurer (2003-4) and Chair (2005-10) of the Germany EMC Ch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8 Conference Coordinator (2003-8)  /  R8 Membership Coordinator (2008- )  /  Global Conference Coordinator (2009- )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cretary (2004-7) and Chair (2007-) of TC-7 „Nonsinusoidal Fields“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……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icknamed </a:t>
            </a:r>
            <a:r>
              <a:rPr b="0" i="1" lang="de-DE" sz="2000" spc="-1" strike="noStrike">
                <a:solidFill>
                  <a:srgbClr val="000000"/>
                </a:solidFill>
                <a:latin typeface="Calibri"/>
              </a:rPr>
              <a:t>„Turbo Frank“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362320" y="3255840"/>
          <a:ext cx="4267080" cy="30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3255840"/>
                    <a:ext cx="42670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505320" y="3276720"/>
          <a:ext cx="4495680" cy="17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76720"/>
                    <a:ext cx="4495680" cy="17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371600" y="457200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7200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Elya B. Joffe, CCSC Electronics-2 Coordin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EMC Society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EMC Germany Section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243160" y="3067200"/>
          <a:ext cx="4657680" cy="318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3160" y="3067200"/>
                    <a:ext cx="465768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Chapter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TT/A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Societie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udi Arab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a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zechoslovak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Centr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Siber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ugoslav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a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 all parts of Chapter a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technical, educational, administrative, membership development, communications and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al managerial and leadership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innovative new Chapter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ication to the growth and advancement of the Chapter´s membership and its Section and its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filling all requirements of reporting to Sections 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EEE MGA Department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Priz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and $500 cash award for each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coring and evaluation princi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was processed by CC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criterion for selection was the outstanding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12 nominations recei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7% of the R-8 Chap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AP/AES/ED/EMB/GRS/MTT/NPS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Ukraine Section AP/AES/ED/EMB/GRS/MTT/NPS Chap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Ukraine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Olexandr S. Yandulsky, Ukraine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343400" y="4876920"/>
            <a:ext cx="866880" cy="1253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324480" y="4876920"/>
            <a:ext cx="100188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438280" y="4876920"/>
          <a:ext cx="925560" cy="121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4876920"/>
                    <a:ext cx="9255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58:32Z</dcterms:created>
  <dc:creator>IEEE</dc:creator>
  <dc:description/>
  <dc:language>en-US</dc:language>
  <cp:lastModifiedBy>pmagyar</cp:lastModifiedBy>
  <dcterms:modified xsi:type="dcterms:W3CDTF">2009-04-24T14:53:02Z</dcterms:modified>
  <cp:revision>267</cp:revision>
  <dc:subject/>
  <dc:title>No Slide Title</dc:title>
</cp:coreProperties>
</file>