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DD2B-C1A7-462A-B44F-32E14398D0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C572-1F89-44BE-BDEB-E33810D44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de-DE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DCA0-8116-4DF3-9D6C-29037B184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0CCD-FD42-4D02-8FB1-6026197EA3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36CD-BF51-430D-BBC4-09CBE8A6C5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8801-D405-433A-8CFE-C78386948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084E-B190-456D-A382-A2BCFB6A2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912B-D352-4263-B8B6-00B773473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E22C-55B3-406C-A297-5DA57B19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737C4-8BA1-49C3-98F2-5F3E925A9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E514-3430-40C6-9204-9119B276A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3FF0-207E-4FD2-A369-B74945B788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78003-874A-45A0-B974-1F0AE5ADF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16AF-5388-45C8-8FB7-DEA2344A0E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221E-E0B8-41A4-953C-BDDB9626A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3D44-EA07-4D30-911F-2A4091D9C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10F6-FBD3-42C1-9C8E-1A69E08C5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F760-ED3F-4BE4-9478-4B85F39D9A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F78-908D-4CF2-AFD4-89B8391845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C0DE8-E4F1-4893-A95A-C3B6F87C0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4C3C-83F6-4E6B-80C4-EC90B03E5A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27A2-1EFE-4102-A519-F797F87D7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555A2-98A4-490E-AFE2-68C563215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D5EC-022E-4B94-9EB8-BB22415D3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756C-96E1-49B8-AC8D-F02207D489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1E7B-CB1C-4538-8B24-3D8750A39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hyperlink" Target="http://ieee.org/portal/site/iportals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943760" y="6153120"/>
            <a:ext cx="119088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IEE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838080" y="5867280"/>
            <a:ext cx="1219320" cy="722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rocket.kharkov.ua/euachapter" TargetMode="External"/><Relationship Id="rId4" Type="http://schemas.openxmlformats.org/officeDocument/2006/relationships/hyperlink" Target="http://www.rocket.kharkov.ua/euachapter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7391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IEEE R8 Chapter Of The Year 2008 Award</a:t>
            </a:r>
            <a:br>
              <a:rPr sz="4800"/>
            </a:br>
            <a:endParaRPr b="1" lang="en-US" sz="48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480" y="4419720"/>
            <a:ext cx="7925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ward Ceremon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R8 Committee Meeting, Venice, It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f3d88"/>
                </a:solidFill>
                <a:latin typeface="Arial"/>
              </a:rPr>
              <a:t>April 26, 200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328800" y="624852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eter Magyar, CCSC Cha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57200" y="5791320"/>
          <a:ext cx="1600200" cy="906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5791320"/>
                    <a:ext cx="1600200" cy="90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of establishing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Senior Members and 1 Fellow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minars, technical and administrative meetings 2008:    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erences and other events sponsor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 reports submitted / Annual elections h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llent educational, administrative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ations,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3"/>
              </a:rPr>
              <a:t>www.rocket.kharkov.ua/</a:t>
            </a:r>
            <a:r>
              <a:rPr b="0" lang="en-US" sz="1800" spc="-1" strike="noStrike" u="sng">
                <a:solidFill>
                  <a:srgbClr val="0080ff"/>
                </a:solidFill>
                <a:uFillTx/>
                <a:latin typeface="Arial"/>
                <a:hlinkClick r:id="rId4"/>
              </a:rPr>
              <a:t>euachap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8 Best Chapter Award of IEEE AP-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AP/AES/ED/EMB/GRS/MTT/NPS Societies East Ukraine Joint Chapter Representati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143000" y="2895480"/>
            <a:ext cx="866880" cy="12542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143000" y="4800600"/>
            <a:ext cx="914400" cy="12193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362320" y="2727360"/>
            <a:ext cx="6172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ksana V. Shramkov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(IEEE M’07, SM’08)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S degree in Solid-State Physics and PhD degree in Radiophysics from the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National Technical University “Kharkov Polytechnic Institute”. Senior Scientist. S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ecretary (2007-2008) and chair (2009)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f the winner Chapt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62320" y="4632480"/>
            <a:ext cx="6324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.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xander I. Nosich (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M'94, SM'95, F'04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)</a:t>
            </a:r>
            <a:r>
              <a:rPr b="1" lang="de-DE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, researcher, DSc.  Principal scientist with IRE NASU, Kharkiv, Ukraine. Field of work: computational electromagnetics. In 1995, he organized the first IEEE AP-S Chapter in the  former USSR. Chair 2008 and Founder Chair of the winner Chap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   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2209680" y="3138480"/>
          <a:ext cx="4038840" cy="311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3138480"/>
                    <a:ext cx="4038840" cy="31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3505320" y="3240000"/>
          <a:ext cx="4495680" cy="1738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40000"/>
                    <a:ext cx="449568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371600" y="453564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3564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Daniel  Pasquet, CCSC Telecomm. Coordin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1981080" y="2735280"/>
          <a:ext cx="5000760" cy="3367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35280"/>
                    <a:ext cx="500076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Peter Magyar, CSCC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981080" y="2743200"/>
          <a:ext cx="5029200" cy="3346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1080" y="2743200"/>
                    <a:ext cx="5029200" cy="33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Germany Section IA/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aly Section RA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ain Section PEL/IE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I Section CM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 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Germany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Andreas Luxa, Germany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5038560" y="4419720"/>
          <a:ext cx="954360" cy="129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8560" y="4419720"/>
                    <a:ext cx="954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3124080" y="4457880"/>
          <a:ext cx="979560" cy="125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24080" y="4457880"/>
                    <a:ext cx="97956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33480" indent="-48528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EEE EMC Society Germany Section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ate of establishing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otal membership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nior Members in 2008: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chnical meetings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ponsored symposium: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reports submitt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nnual Chapter Board election he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PhD-Thesis Award / Best Bachelor Thesis Aw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306440" indent="-410400">
              <a:spcBef>
                <a:spcPts val="575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tensive involvement in EMC-S act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pter of the Year Award Con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ortant part of the Chapters´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rief his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rted in 200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iti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garetha Erik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ózef Models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5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generation” 2009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EEE EMC Society Germany Section Chapter Represent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2362320" y="2193840"/>
            <a:ext cx="6476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Dr. Frank Sabath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Arial"/>
              </a:rPr>
              <a:t> (M’94–SM’03), Dipl.-Ing. in electrical engineering, Dr.-Ing. 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e is the head of the Electromagnetic Effects Branch at the Bundeswehr Research Institute for Protective Technologies and NBC-Protec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179360" y="2209680"/>
          <a:ext cx="954360" cy="1295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79360" y="2209680"/>
                    <a:ext cx="95436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2362320" y="3048120"/>
            <a:ext cx="632448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Treasurer (2003-4) and Chair (2005-10) of the Germany EMC Chap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R8 Conference Coordinator (2003-8)  /  R8 Membership Coordinator (2008- )  /  Global Conference Coordinator (2009- )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Secretary (2004-7) and Chair (2007-) of TC-7 „Nonsinusoidal Fields“ 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  ……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nicknamed </a:t>
            </a:r>
            <a:r>
              <a:rPr b="0" i="1" lang="de-DE" sz="2000" spc="-1" strike="noStrike">
                <a:solidFill>
                  <a:srgbClr val="000000"/>
                </a:solidFill>
                <a:latin typeface="Calibri"/>
              </a:rPr>
              <a:t>„Turbo Frank“  </a:t>
            </a:r>
            <a:r>
              <a:rPr b="0" lang="de-DE" sz="2000" spc="-1" strike="noStrike">
                <a:solidFill>
                  <a:srgbClr val="000000"/>
                </a:solidFill>
                <a:latin typeface="Calibri"/>
              </a:rPr>
              <a:t>of the EMC Socie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Józef Modelski, R8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2362320" y="3255840"/>
          <a:ext cx="4267080" cy="306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3255840"/>
                    <a:ext cx="426708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Chapter Categ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h award of $500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Rami T Mushcab, R8 VC 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Chapter Chair 2005-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3505320" y="3276720"/>
          <a:ext cx="4495680" cy="17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3276720"/>
                    <a:ext cx="4495680" cy="17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-61920" y="16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1371600" y="4572000"/>
          <a:ext cx="4495680" cy="1712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4495680" cy="17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pter Coordination SC´s Certificate will be pres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. Elya B. Joffe, CCSC Electronics-2 Coordinator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EMC Society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Frank Sabath, EMC Germany Section 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5" name=""/>
          <p:cNvGraphicFramePr/>
          <p:nvPr/>
        </p:nvGraphicFramePr>
        <p:xfrm>
          <a:off x="2243160" y="3067200"/>
          <a:ext cx="4657680" cy="3181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43160" y="3067200"/>
                    <a:ext cx="4657680" cy="31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INVITATION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The Chapter Coordination Subcommittee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equests the pleasure of your company at 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the presentation of the</a:t>
            </a: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best R8 Chapters of the Year 2008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during the CCSC Meeting</a:t>
            </a:r>
            <a:br>
              <a:rPr sz="2800"/>
            </a:b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on Sunday, 26</a:t>
            </a:r>
            <a:r>
              <a:rPr b="0" lang="en-US" sz="2800" spc="-1" strike="noStrike" baseline="30000">
                <a:solidFill>
                  <a:srgbClr val="0f3d88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f3d88"/>
                </a:solidFill>
                <a:latin typeface="Arial"/>
              </a:rPr>
              <a:t> April 2009, at 2:15 p.m.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f3d88"/>
                </a:solidFill>
                <a:latin typeface="Arial"/>
              </a:rPr>
              <a:t>Room1</a:t>
            </a:r>
            <a:endParaRPr b="1" lang="en-US" sz="2800" spc="-1" strike="noStrike">
              <a:solidFill>
                <a:srgbClr val="0f3d88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Chapter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wer”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TT/A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7280" y="31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67057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Award History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ssful Societies in 2002-2007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udi Arab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tal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zechoslovak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Cent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an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ussia Siber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rman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ugoslavi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an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 all parts of Chapter a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echnical, educational, administrative, membership development, communications and public relations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al managerial and leadership achie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ation of innovative new Chapter pro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dication to the growth and advancement of the Chapter´s membership and its Section and its Soc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lfilling all requirements of reporting to Sections an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EEE MGA Department.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 has been renewed in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51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w Nomination For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Priz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rtification and $500 cash award for each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ew scoring and evaluation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on was processed by CC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 criterion for selection was the outstanding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tal 12 nominations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7% of the R-8 Chap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did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AP/AES/ED/EMB/GRS/MTT/NPS Chapter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and Middle Size Chapter Categ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Best Chap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oatia Section EMC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Poland Section AP/AES/MT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itzerland Section EMB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urkey Section CAS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Ukraine Section AP/AES/ED/EMB/GRS/MTT/NPS Chapt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55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kraine Section IM/CI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winner was selected by the voting majority of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f3d88"/>
                </a:solidFill>
                <a:latin typeface="Arial"/>
              </a:rPr>
              <a:t>Chapter of the Year Award 2008</a:t>
            </a:r>
            <a:endParaRPr b="1" lang="en-US" sz="3600" spc="-1" strike="noStrike">
              <a:solidFill>
                <a:srgbClr val="0f3d8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160" y="13716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mall and Middle Size Chapter Category Wi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IEEE AP/AES/ED/EMB/GRS/MTT/NPS Societies East Ukraine Joint Chap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presentatives of the Ukraine Section and the Winner Chapter are kindly invited to the podi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Olexandr S. Yandulsky, Ukraine Section Chai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. Oksana V. Shramkova, Chapter Chai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. Alexander I. Nosich, Chapter Chai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33440" indent="-419040">
              <a:spcBef>
                <a:spcPts val="499"/>
              </a:spcBef>
              <a:buClr>
                <a:srgbClr val="80808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7848720" y="6124680"/>
          <a:ext cx="1295280" cy="73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48720" y="6124680"/>
                    <a:ext cx="12952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4343400" y="4876920"/>
            <a:ext cx="866880" cy="1253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324480" y="4876920"/>
            <a:ext cx="1001880" cy="121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2438280" y="4876920"/>
          <a:ext cx="92556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38280" y="4876920"/>
                    <a:ext cx="92556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7T13:58:32Z</dcterms:created>
  <dc:creator>IEEE</dc:creator>
  <dc:description/>
  <dc:language>en-US</dc:language>
  <cp:lastModifiedBy>pmagyar</cp:lastModifiedBy>
  <dcterms:modified xsi:type="dcterms:W3CDTF">2009-04-24T14:53:02Z</dcterms:modified>
  <cp:revision>267</cp:revision>
  <dc:subject/>
  <dc:title>No Slide Title</dc:title>
</cp:coreProperties>
</file>