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80025-F711-4AD9-ABDD-270436A254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6F551-1EC3-4680-910E-6D45D47FAA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416A9-6AAA-41BC-88F2-3B0755DB4BB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B8A54-E62C-432F-A0B1-C28C24CC31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42B11-763F-47E6-842F-B953053FA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CF06A-8699-4E52-A094-B5E4F0AE33A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996BE-B99E-4B84-BC48-6E387FB98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233D1-D5D4-46FC-A7F7-DCD3294B7B3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4EF75-6183-448F-97A3-21A7AEDEE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8EFC1-EB05-444B-8596-762F9FBF571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FC138-C0B3-4598-A6F9-FECF2A376EB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3996A-0D1A-4BC3-A185-28AA61D78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24BA1-16CD-40F8-9068-3738FEE449B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37596-B547-487B-AAF4-0CDF55491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33488-8443-422F-A5DB-8D6D255B7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B7A31-3A8E-45DE-BA8A-CE3BB72D08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C21C8-6C14-4465-94D5-119DE2832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28C06-CEA6-4D21-A43B-8F4B4B7A8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28C3B-2FE0-4F06-B393-1FEABF1FC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352DB-B580-4E7C-A1BD-028FB8957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1EE4A-67BD-4715-881C-023213DCA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EA007-09A9-4B8C-85AC-2BAC9C422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531EE-D737-4713-A200-F694893A7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B57C5-C61D-4699-8A16-3E971B0D6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182DD-ECC9-495B-8B83-DEB5BE829BC2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1552A-687E-48AD-8B5E-1FF7BF4F60FB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821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Verdana"/>
              </a:rPr>
              <a:t>Caucus group no. 1</a:t>
            </a:r>
            <a:br>
              <a:rPr sz="4000"/>
            </a:b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Verdana"/>
              </a:rPr>
              <a:t>IEEE Visibility</a:t>
            </a:r>
            <a:endParaRPr b="1" lang="en-US" sz="40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85840" y="3962520"/>
            <a:ext cx="7577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5582"/>
                </a:solidFill>
                <a:latin typeface="Verdana"/>
              </a:rPr>
              <a:t>IEEE Germany Section Chai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5582"/>
                </a:solidFill>
                <a:latin typeface="Verdana"/>
              </a:rPr>
              <a:t>Dr.-Ing. Andreas Lux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Caucus group No.1 “Visibility”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0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0578D-4BA2-4789-8D29-3ECEAB398F68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E5C27-E707-4921-AEEB-CEE2998FB3E8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1494000" y="1523880"/>
            <a:ext cx="6156000" cy="46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Objectives - general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28240" y="121932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Think about the actions, ideas, initiatives in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IEEE at lar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Region 8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Sec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Other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And on th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Scientif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Commerci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Academic leve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E074F-5532-4BFD-8B50-1CDE31CC1726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A9CAC-5B9D-4A0D-B117-34F5E9CFAE41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What we are going to do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8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50BEE-584A-4F08-A19C-5687B032A390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D5C54-E89D-46FA-BFE6-77DDAD9474CE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04920" y="26668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Verdana"/>
              </a:rPr>
              <a:t>Thank you for your atten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458F1-C734-4760-AD19-BAC1E9BCB838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EF207-4E31-46D3-96BE-6B5ECAA57B75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7:25Z</dcterms:modified>
  <cp:revision>68</cp:revision>
  <dc:subject/>
  <dc:title>Slide 1</dc:title>
</cp:coreProperties>
</file>