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2D9F-5C62-4170-A356-C2BC94FA5C8E}" type="datetime">
              <a:rPr b="0" lang="en-US" sz="1300" spc="-1" strike="noStrike">
                <a:solidFill>
                  <a:srgbClr val="000000"/>
                </a:solidFill>
                <a:latin typeface="Times New Roman"/>
              </a:rPr>
              <a:t>07/31/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7DE1-3ADD-4DD2-954D-279056E0B1D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2D13-986E-4A5F-BC8A-B7B059B550A0}"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288F-F770-4E43-852E-585571616C1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6064-17BB-467A-89A4-F66083A82B94}"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3BC2-196A-4FF1-99ED-ED17FD0E1F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FF3F-7448-44FD-AD2F-3359E432BB5F}"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28887-F845-4958-89CA-7788798061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560A-73F3-4259-BCDA-D1193C6BD7B2}"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9EB2-6F95-4B9B-B750-0C5AC70822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16E8-CD7C-4C08-906C-A9E4BDB4C5C3}"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7177-4794-4C71-B6A0-2DDA38F15DD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4705-7AC3-4946-AD8F-EA934B0F04A9}"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1067-A67D-491B-84E2-DDF1E5621B9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F1582F-F2B9-4F64-80C3-FDA58821990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10EAF78B-D7FB-421A-BC2D-ED759A2CC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07FB8614-FBED-4DF6-B4D5-7A0C09618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84232514-8231-429E-8DB1-F6A1776BE38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035D16F0-DEE8-4D28-9E2B-D197E5327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241FC88B-939C-48C7-9C61-3CD5686E2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D192BA10-9FE3-4273-B9B0-35BCE393D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A6C022E9-5777-4FA5-B058-C4F013061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A94367C-4D3F-4984-B811-1B1424494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FBA1DB18-FC0A-4E7B-9930-61A8253AC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59AEF3D-1588-4EE0-9E98-1D2E56B84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F279E89-837D-49EB-90AB-6B8122BF5E3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5A47-B296-4867-B18E-2F8D536A8D36}" type="datetime5">
              <a:rPr b="0" lang="en-US" sz="1000" spc="-1" strike="noStrike">
                <a:solidFill>
                  <a:srgbClr val="898989"/>
                </a:solidFill>
                <a:latin typeface="Times New Roman"/>
              </a:rPr>
              <a:t>Jul 31,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73A4-D50C-4E76-B574-5D0D8383951B}"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AAED-C795-4767-8664-E6BA36E22067}"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7FA1-E04E-4E26-85BF-243D278F323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1CDC-32E1-472A-AE34-3B7C935D3086}"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0EDE-08FA-44E3-83DC-BC4968630A3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3281-7BD8-4F92-A960-ED0550DD392F}"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5F71-2A32-4D98-B8D6-C697A32E92B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1B95-30AE-4CEE-A477-114D229FE65B}"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88D3-F03C-4615-9171-3D7DC1D0F50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76F6-C807-4DF4-B544-AA946B02682B}"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75DD-59B7-4B31-859F-DAF06800261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296C-4D1E-4512-96C1-8827EF10C2A7}"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1F3B-BA62-49BD-A049-7F9AB782063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EE73-2229-4F73-83D4-0DABE8A28138}"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EA02-2E48-4659-83BD-7CCA111E686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EE02-1E2E-4285-A07C-44BC1EE79580}"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F39E-4DA9-4A6E-A793-0D44F435EF5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45F4-8B5B-4D72-95E5-F01C504A952F}"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E74A-CA6A-4245-838E-FA6E2F1DA17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