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B231-00BC-4F63-8C32-802B730AE92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212B-04CE-405C-9032-FEC3C4EF9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BF8F-E1C3-4685-B166-E8383A1ED32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BA96-B84F-495C-B73B-E0CB2C110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0408-2C28-4729-A77A-5E463EE36E8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3D5A-15B5-4A72-8637-095657031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EA02-8065-42BA-8B81-DBAA7B03DA1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0F09-4270-422B-BE20-3A72A7D00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911F-3C24-4563-B61E-FF2D2AE4EEE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FCD6-2C6F-4A29-ADDF-ED04FA677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CB93-13FC-4245-9C99-3940A22BEC1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CA04-6F0B-40A4-B1D6-3F92E8237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0263-A174-4D7E-9980-6FCE1AD501E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09A3-C93E-400A-809E-5EA7FA2B2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E576-3FE9-4714-B144-BC3A5B5164B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4901-F624-479D-89C6-419DD7F3C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5278-8B03-466E-B270-DE347F5F554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19E2-FDD5-485C-8866-6247BF3AA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59FD-5F3F-4CFA-A716-372FE8E5DFC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A604-6F46-4467-ACF8-11887D30D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1947-7A26-4830-8DBE-E51D840EFFC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B1B9-D88E-481D-B22E-294D97EF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D013-74E1-4B36-AD12-8D9F21E550A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2AA9-8C6D-4A64-B53E-F0383C3BB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8CAB-AA60-485C-B97C-10617939A5E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DB1C-EDFF-44AC-8976-4C1020BC5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0EB030-4A56-495B-8F60-F0FBEC682A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ED9B52F-2482-4E19-BEA9-11B4A7A1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4E68F22-3978-40C1-944E-5F4DCD3C2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6C76DAB4-33D4-4483-9E24-07907105E8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C8F08CA-6EF8-45D4-BD93-4AAE4D8A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F869B9B-0828-4FAB-AE7F-E387779C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AB33A50-80A2-4A95-A8AB-9C662A96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4AA3E029-DB28-46EC-A41F-750C65ED4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3DCEA38-C046-4A70-B8A7-099FA6FCC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E469D12-C738-4775-B534-A9529D884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C3366C8-5829-41A4-A6F5-B0376B40D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855CB00-D521-42A1-9E9D-E6C7F6D5F7C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F65C-5C0F-42C6-AA2B-7ADB9915C718}" type="datetime5">
              <a:rPr b="0" lang="en-US" sz="1000" spc="-1" strike="noStrike">
                <a:solidFill>
                  <a:srgbClr val="898989"/>
                </a:solidFill>
                <a:latin typeface="Times New Roman"/>
              </a:rPr>
              <a:t>Jul 31,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4AFF-5F61-49BB-BA59-F8FB9B47873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B642-2F86-41F1-BF6B-CA792F1C362D}"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A7A8-07A5-4DA3-BBB1-86438D58009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E144-95DE-4B70-ADEA-DE732EC6BAAC}"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7F01-10BF-49C4-8F78-E6C6BFBF479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5320-C55B-4F76-80B9-28FB39CEE55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1562-AAF7-4FF2-9B58-12FE28FC12B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7177-6D37-46FD-9932-CAFE6073118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7777-5CFB-4ACE-8447-08CEACAD186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1087-4B13-4C00-9EA7-28118D578B45}"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ABDB-F0B2-4941-99C6-B5F239CBAEE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5B4A-73D5-4AB4-A4E9-4658B9DB7AE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F8CB-A1B2-40CC-AF37-763B5EC2E87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DEC1-D7AF-40F8-8391-63356DFA8B2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3393-3DB5-4844-B438-BA6D5A7A87A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DC3F-DC0B-4BED-BA7B-D3100F53CDFE}"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7BB6-8C1E-4A8E-90FC-33296834E7D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448F-AD99-4E5E-B59B-4638EC9CAFB9}"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3CFD-380F-4B33-807B-E8F5942914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0BEE-075E-4934-851A-F6E6AA51043B}" type="datetime5">
              <a:rPr b="0" lang="en-US" sz="1000" spc="-1" strike="noStrike">
                <a:solidFill>
                  <a:srgbClr val="898989"/>
                </a:solidFill>
                <a:latin typeface="Arial"/>
              </a:rPr>
              <a:t>Jul 31,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3312-9DF8-479D-905A-E9A149D0676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