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0695-6A0F-433F-901E-18B906A8B2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2AB4-C1FC-42BA-8B47-06F86E379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A26F-0538-4815-B219-D32F038579F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345B-C44A-492E-8D60-705F8A705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1B33-1B63-4708-9FBF-421EF18B0B2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567C-95EF-462C-B208-3C9A5B73E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7A06-75A3-4715-AF23-EDBF7FCD652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202E-0A45-4813-8D21-14C8B898F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8118-87D7-4586-AD53-A1E914CD3A9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DFFF-3AA9-4DEC-902F-3E8F82905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B1A7-1A01-41A5-8E9B-C927B4872CF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BDC8-3CB9-413A-B350-7901515C9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50CE-AADB-4D61-9126-E2ECACC8350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165A-06A5-4362-8280-12192D642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7F9B-D05D-47C1-88B5-B9FC3D4F962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8422-13FF-47C7-A380-A15585133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1F28B-E211-470E-8093-B298511B09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E3BE3-5074-4B5B-A1D9-4E4D25D2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7051C-C94E-44FF-940C-74AF1F90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DE113-113C-45FD-8A89-D3C0074DFE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003DC-6461-41CB-AEB3-D7A40BD0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22343-2989-4C27-A3CB-91AA763A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08152-BF63-4C68-8EE1-210E73A8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8DF5D-AC0D-4BEF-9595-6DA8FB068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9E2BC-87FE-4CE9-8548-6E9A7D265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47BFC-F1B3-41BD-B0EF-262C3EBB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55012-E818-4C3B-BD5A-3227B033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E1152-CB0A-48E6-86E2-292C6764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FC46-A5B0-4DF3-8F8C-B1099C3F0647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C2CF-CD28-4A86-B4A4-D45071EAF124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9</a:t>
            </a:r>
            <a:br>
              <a:rPr sz="4000"/>
            </a:b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Verdana"/>
              </a:rPr>
              <a:t>Improving Industry Participation in IEEE R8 Sponsored Conferences</a:t>
            </a:r>
            <a:r>
              <a:rPr b="1" lang="en-GB" sz="3600" spc="-1" strike="noStrike">
                <a:solidFill>
                  <a:srgbClr val="005582"/>
                </a:solidFill>
                <a:latin typeface="Verdana"/>
              </a:rPr>
              <a:t> </a:t>
            </a:r>
            <a:br>
              <a:rPr sz="4800"/>
            </a:br>
            <a:endParaRPr b="1" lang="en-US" sz="36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Group members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09480" y="1371600"/>
          <a:ext cx="8534520" cy="478476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je Gjengedal           Norway ( Moderat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ao Costa-Freire        Portug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rhan Ozkan, 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rt Richter,                 Aust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acob Al-Mulla            Qatar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vid Law                   UK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esa Bastaki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UA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hmad Al Naamany    O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ik Stilling                  Denma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őklan Gelebi,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mu Mushcab          Saudi-Arab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5582"/>
                </a:solidFill>
                <a:latin typeface="Verdana"/>
              </a:rPr>
              <a:t>Background: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articipation (outside R&amp;D) in R8 sponsored conferences is very wea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erceives that IEEE conferences are more suitable for academic and research professionals rather than addressing industrial iss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ow to improve industry participation in R8 sponsored Conferences, resulting in changing industry perception about our conferences</a:t>
            </a: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275B-862E-47F9-975D-403A72BDA51B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EFD8-31CD-4D31-849C-359E71FF3997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Some possible reasons for the current lack of interest from Industry Sector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es not give me th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pics, papers are not relev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o theoretical and to little on applications, experiences etc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 my preferred meeting place- others are more attractive and gives me mor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1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me of the conference should be attractive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industry members in Org. 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ite industrial sessions/trac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special topics of interest for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.g. on standards, applications, experiences, best practices++++++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ever possible industrial exhibitions are recomm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2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 the industry participants to submit only abstract reviewed and PP 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fP should clearly state requirements for industrial presen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roach and network with industry as early as possible – build their inter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hasize on advertisement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582"/>
                </a:solidFill>
                <a:latin typeface="Verdana"/>
              </a:rPr>
              <a:t>Final Recommendation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se recommendations  should be adopted by Conference Coordination SC to improve industrial particip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3:34Z</dcterms:modified>
  <cp:revision>18</cp:revision>
  <dc:subject/>
  <dc:title>Slide 1</dc:title>
</cp:coreProperties>
</file>