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0DE32-2115-4D30-9448-9BEFA58A8D2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CEED-2D69-4908-9C80-4DED20D24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F493B-FF1A-4C3A-A11A-4FD8621743E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34E1-760B-4937-8779-FC2DBCD27A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D557-D577-4F42-BD98-FCA3E67AFA0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A926-8490-4574-993C-4A1F41B30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68B0-F61F-434A-93AE-17AA894AD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43E9-AF07-41A3-A3CD-9E5C574E92E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38AD-A2C0-4FF5-9CF1-2DBD7636315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F49E6-7D00-442E-B9F5-C605BA60C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8CD3-A997-4100-9187-FD600051FE1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4670-6E56-4B95-991D-FA11B98F3A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F6CA-5E80-46C9-AF41-03317F9323C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1BE0-5D35-4D76-A968-C0EE38FAB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5CFC-2CC3-46D4-9126-218672359F2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30C8C-4CBB-4A06-9397-704C2502E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F9E4-14D0-4EFE-AC10-2E3FAC470D4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81DB-CA58-4EE0-98A3-7E9B41B0C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9D71-A242-4604-A2BB-FBC5F56A9DD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332AF-3399-4014-9886-907E1CB67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1A81-48D5-4C19-B638-F6385F5EDF7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CCC9-2CDC-463B-B1BB-7FF0D9AA1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D14F4-A599-41B1-9D01-1D2D2336AD5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A9688-D6EF-4596-B5BA-EBB55BEA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49B37-1252-4D95-881C-A091A3AE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9B6FB-7FCF-4377-8E23-DF3CF2449C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54B89-BEED-4011-B053-DCEF4469D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2BA94-09E5-4867-8DD1-8140AF511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88D83-AE44-4D24-B46B-D33AC892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4813F-76BD-477C-98C4-CEF5720A4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92D92-F54E-4587-BE29-92922FF26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3493A-0B28-4359-BD77-F50355E6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FD0E4-1CE5-48A6-8113-863574C59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5625B-307A-4085-B8C5-3093F00B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A322-5849-4B1E-93CD-ADE81F8A399A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CBA8-B940-4BFA-9FA0-632A4DBEBC70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82188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aucus group no. 8</a:t>
            </a:r>
            <a:br>
              <a:rPr sz="4000"/>
            </a:br>
            <a:br>
              <a:rPr sz="1400"/>
            </a:b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Participation of Sections in the Organization of IEEE Conferences in Region 8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85840" y="3886200"/>
            <a:ext cx="7577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5582"/>
                </a:solidFill>
                <a:latin typeface="Verdana"/>
              </a:rPr>
              <a:t>Carl James Debono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5582"/>
                </a:solidFill>
                <a:latin typeface="Verdana"/>
              </a:rPr>
              <a:t>Moderator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8D495-C502-495A-AD05-FEB71B4A504D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Objectiv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level of involvement Sections should have in Conferences organized within their reg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the way forwar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ose standard practi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ED44-A9FD-4574-B20D-FC5FF605096B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articipants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1294920"/>
            <a:ext cx="4572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ohn Vi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ean-Gabriel Rem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mre Rud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rancisco Sandov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ttar B. Sadkh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rian Kazmierkowsk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acob Baal-Sch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lexander Miker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rina Naidiono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niel Pasqu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95E5E-8CFA-4CE4-8811-28A3040BDBE2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2 Marcador de contenido"/>
          <p:cNvSpPr/>
          <p:nvPr/>
        </p:nvSpPr>
        <p:spPr>
          <a:xfrm>
            <a:off x="4572000" y="1219320"/>
            <a:ext cx="4572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ourad Loul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ristine N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moakoh Gyasi Agy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are not always informed about confer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ven though according to IEEE rules the Section has to endor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ocieties are stro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hy should Society need Sec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Section knows well the country (people, hotels, legal aspects, VAT, etc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Sections can reach the whole engineering community (through good relation with local societie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C7DE-E643-4C26-A33F-B5F619ECEA70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11426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n the other hand – if I have conferences through the society and I pay membership directly with IEEE …. Why do I need a Sec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have to make it attractive for the conference general chair to get them invol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are sometimes asked for help too l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should be involved in local ev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specially new sections since they need  more expos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DD94-9E03-41AF-8625-F94635A887BD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hould we have joint conferences with Region 10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hould we have joint conferences between sections (say 7 or more secti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ical co-sponsorship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A number of conferences are asking co-sponsorship (sometimes from an OU from outside the countr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Can be useful to attract new members unless competing with IEEE established conferen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DD53-CBCB-4C48-B7C0-552CDC9C3023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BF97A-DA33-40E8-95AD-19DB80B24E64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 Marcador de contenido"/>
          <p:cNvSpPr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 meetings should include an item on the agenda to discuss society – section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trengthen chapter – society 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should be directly involved in local co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need to know if a society is doing an international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apter Coordination Subcommittee can spot conferences through their contact with societies and inform S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9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7185-08E9-4697-8BB6-EE12A88D1265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2 Marcador de contenido"/>
          <p:cNvSpPr/>
          <p:nvPr/>
        </p:nvSpPr>
        <p:spPr>
          <a:xfrm>
            <a:off x="304920" y="1219320"/>
            <a:ext cx="8534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ical co-sponso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-sponsorship by OU outside Section should not be accep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ction Chair should be inform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uidelines from H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can prepare a marketing leaflet for some places that are excellent to host con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rket team to attract confer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ve a reasonable schedule/planning and business plan 3 – 4 years in adv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timize results for Sections and Reg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17FC2-9DAA-45AB-B2E7-1BE8CC35936F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2 Marcador de contenido"/>
          <p:cNvSpPr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ve joint conferences with Region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ain from the diversity in Region 8 and Region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hance relation with Region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oo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 a good practice man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8:21Z</dcterms:modified>
  <cp:revision>58</cp:revision>
  <dc:subject/>
  <dc:title>Slide 1</dc:title>
</cp:coreProperties>
</file>