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6B7A-4425-4DD3-8200-BB857E6E11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C599-155B-4C51-A649-203518468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AFEA-8DCF-4CF2-AA13-3913A848270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EDF0-E6AF-4CF7-ACF2-D6413EEA2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00EC-F3E9-4654-A124-D7F579039F2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55D5-3D07-4643-8F83-156181AA6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0F39-E627-4096-A705-CE5CB28C82B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507C-EAD7-4B80-A02E-FCC17027F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3A75-F85E-43FE-ACF9-8F9625F2918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66D1-0D79-4302-9FEB-65175A5D3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32FD-DB5E-43F1-A5A3-98516B50E97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09C8-FB97-4B97-930C-9574C1D73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4E3F-12C1-4E90-8EFC-D33757A51F7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6701-25E2-45B0-9810-D8E459CFB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640E-43F7-42CB-AB61-6A943D871DD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1CDB-A192-46C8-9E58-ECDCC8775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40A2-FCCE-44E4-B8B3-78E3F87B0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A47D-5700-480A-A2B9-ADEF23AE579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9E10-E7BD-4CA0-B402-A5E7C37FE2C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F697-652A-4BE3-B8E9-F00461A67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2E43-D91C-43C5-91F6-2FF5C996BCD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CD41-8B7B-4D4D-BFDF-48EA44718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B6DF-B0BE-4EB7-A680-EC53290FFC8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0522-EE32-490C-9445-42FA65CFB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261A-31E9-46EC-ABB6-82867C6317A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4264-D3E8-4F16-A295-7D742B85E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81F1-B6E6-4C0A-8539-D2AA329AD0B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0FBD-E8C0-4418-9792-356C71F9B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2470-660A-4085-A9C2-648EB51C4C5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6C1F-BE1C-49C3-A01D-6E335E665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24F7-B5D9-46FD-9F7D-53A1FEDB3F8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7B2B-1AB8-4A10-951A-AC1111A9A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64564-6FED-4562-AE0B-5A3E03CFEB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C8E06-3F73-4257-8EA9-A93D41F6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8D3BA-D2F2-4052-91B5-E7F32476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994CD-7BA8-4318-A9F2-B8501FA6EC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85395-784A-4439-8400-E701C3F1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79C62-A221-4D1F-96CE-6D50A2B7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58F34-B76A-4201-B110-AA4CBAB5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B1085-028E-4B0E-ABD9-EA140AD4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2B875-1466-4C28-AA04-77CC80F5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E54A1-A4B9-4E0B-B43C-4EE119C4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A64E0-FB50-426F-BD83-5248AF90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F40F6-9417-4490-A1E2-6CC926A3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D501-0C45-467E-8B79-805C4B10A735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4F18-765A-4002-933B-2A86AA4F5705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Caucus 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roup no. </a:t>
            </a: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Andrzej Pacut, Poland Se</a:t>
            </a: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ction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	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Moderator /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In conjuction wit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h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8 AdHoc Committe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for Operations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lso numerous inconsist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al Director may approve an exception to any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f the guidelines stated in Section 9 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Section 9 includes such rules 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 Chair may appoint additional voting members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provided that their number) shall not be more than 1/4 the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Officers and Ex-Officio members, rounded up to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next whole number….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i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intended to prevent from filling the Region Committee with R8 Director supporter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protection is cancelled by giving the Region Director the power to approve exceptions to the rul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proposes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8 should follow only those parts of the MGAB document which are compatible with R8 requirem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– addditonal remarks 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oc committee will welcome additional assistance in locating problem-clauses in the R8 Bylaws and in writing revisions to the R8 Bylaw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8 volunteers should work for a revision of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GAB manu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uses considered to be inappropriate. The needs of the USA Regions may differ significantly from the needs of some Regions outside US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AdHoc Committee </a:t>
            </a:r>
            <a:r>
              <a:rPr b="1" lang="pl-PL" sz="3200" spc="-1" strike="noStrike">
                <a:solidFill>
                  <a:srgbClr val="005582"/>
                </a:solidFill>
                <a:latin typeface="Arial"/>
              </a:rPr>
              <a:t>-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Time Lin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will endeavor to operate according to the following time li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vers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posal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8 Bylaws </a:t>
            </a:r>
            <a:r>
              <a:rPr b="1" i="1" lang="pl-PL" sz="2400" spc="-1" strike="noStrike">
                <a:solidFill>
                  <a:srgbClr val="000000"/>
                </a:solidFill>
                <a:latin typeface="Verdana"/>
              </a:rPr>
              <a:t>chang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completed in time fo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OpCom Review a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ptance at the October 2009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Committe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ther discussion of issues related to the MGAB Operations Manual, the R8 Bylaws and the Operational Guideli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to be continu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til complet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 the end of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Financial operations of Sec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Financial operation mod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legal statu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of Sections: various solutions, some on a border of being acceptable to IEEE or to local (tax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Region 8 covers many separate countries with totally independent legal systems, currencies and languages, and needs to operate harmoniously throughout this diverse environmen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Legal standing of Sections in their countries is a long-standing issue. In 2001-2002 there was a big effort to collect data on the sit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No generic solution, each Section is different (in UKRI: &gt;= 4 legal systems, 2 currencies); Caucus discussion may only raise awareness without creating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o we have an embarassing dise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at CAN be do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collect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exemplary model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act to fulfill long-promised action for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IEEE to open accounts in local currenc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 for actions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2193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rmalization of idea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: 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commendation for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unds from R8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ar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limited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; 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ternative funding may come from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oundation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ew Initiativ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ther sourc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ternal spons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ject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deas with no financial impact are welco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all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actions 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otions or projects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trics for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onclusions – summary of results - t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 be presented by leader to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mitt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329D-8645-4825-A6D7-9A8A937EC69F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945A-E390-4737-9D0E-743C7051C422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67BA-1F98-472D-9229-08F43E15682A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EDDC-1687-4C9E-A708-B8D6EF036FD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5800" y="531720"/>
            <a:ext cx="73152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Operations Review SubCommittee (ROSC) - AdHoc</a:t>
            </a:r>
            <a:br>
              <a:rPr sz="2800"/>
            </a:b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ony Davies (UKRI) – Chair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arko Delimar (Croati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Gerhard Hancke (S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Rolf Remshardt (German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OpCom Responsible Member</a:t>
            </a:r>
            <a:r>
              <a:rPr b="0" lang="pl-PL" sz="2800" spc="-1" strike="noStrike">
                <a:solidFill>
                  <a:srgbClr val="005582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 Director Jozef Model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EA80-D2A2-41FC-9FB4-7D48EE33ABA6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9BFC-2A65-46C9-94B9-303F96F9E1A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no.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2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: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Participa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ndrzej Pacut  (Poland S.Chair)   -  Moderator/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ny Davies  (Past Director,  ORSC Chai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urice Papo (Past Director,  Fr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arles Turner (Past Director,  PASC membe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ihal Sinnadurai (IRSC membe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rtin Bastiaans (SAC member,  Benelu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ine Aydal (PASC Chai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B2F7-B5C2-493D-8B2E-668C684007A9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B208-28EC-4DB9-8093-736FA9C1436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s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s Review Caucus considered, discussed and debated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sues  and recommends that the Ad-Hoc Committee role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ake on board the following recommend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fundamental chan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eeded in the role of the R8 Committee. Basic structure is well-suited to the needs. The authority of Region 8 will continue to be vested in the R8 Committee. Region 8 will remain unchanged geograph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ions Manual for Region 8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prepared which would provide, in an easy to read and informal way, an overall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larificat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of the objectives, procedures, practices and traditions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isting R8 ByLa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be fine tun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changes cannot be phrased in the Operation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nual wi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be in confli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the new MGA ByLa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Recommendations (2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dditionally, the following particular issues are recommended to be considered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etings of R8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mmittee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bcommitte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be managed to enable the members to network and work together for the benefit of all members in R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ting committe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continue to meet face to face at one common loc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Also, annu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-locating all Sub-Committees to allow cross fertilisation and interaction with Section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irs and other leaders is seen as a great benefit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will be contin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econ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mmitte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d Subcommitties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meeting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ill be hel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u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igh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ploit available audio-visual meeting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chnologi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by groups of section chairs may gather at a few locations and confer by video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dio and data links, which shall include opportunities for individual speakers to be made visible a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o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financial issue of v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y small section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all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ken into consid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Report Summary 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(</a:t>
            </a: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1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major revision of the R8 Bylaws (the ‘Maurice Papo’ version) have proved to be an effective basis of operation, and stood the test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rect some omissions/ambiguities/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y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pose and structure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-drafting requires skilled attention to det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ole of the R8 Committee, and the R8 contribution to IEEE as a whole: no fundamental changes needed. Basic structure (3 V-Chairs) well-suited to the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ter management of R8 Committee-initiated activities is needed, with clarification ab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mittee particip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voting, non-voting, not members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officers appoint wh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members be voting me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ion of small Sections ha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seq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es for the R8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&gt;&gt; 50 members before a new Section is approv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R8 Committee meetings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ear for Sections with &lt;200 mem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y small Sections Sub-Se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(2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Examples of inconsistencies / ambiguitie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urrent R8 by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Vice Chair, Student Activities, shall be responsible for presenting to the Region 8 Director a nomination for the Student Representative appointed position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clear if this is the only source of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in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 8 Director make an alternative appointment regardless of whether other nominations are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is not certain that the Region 8 Director need appoint anyone since another clause sta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ther members such as a Student Representative, may be appointed without voting privileges….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two Vice Chairs are given responsibility to appoint their own subcommittees, so it is odd that the Vice Chair, Student Activitie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ee (3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Need of interpretation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pretation of bylaw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y b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ource of potential difficul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Hoc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mmittee recommends that there should be a document forming th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would provide, in an easy to read and informal way, an overall explanation of the objectives, procedures, practices and traditions of the R8 Committee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ilability of R8 Operational Guidelines i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urgent need  valuable to both experienced and new volunte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jor start has been made on preparing a draf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law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vs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ylaws upd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quires a formal procedure, with adherence to rules and timescal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be infrequ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dments to Operational Guidelines can be made much more easily, and supplementary explanations can be add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1)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GA Board Operations Manual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placed ol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B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u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t there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 in the interests of R8 to follo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ustrative exampl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8 has a Student Activities Committee, regarded as active and successful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hich currently has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 describes a type of Region Student Activities Committee 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hich would hav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 (in R8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2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suggestion of a Region having a Vice Chair for Student Activ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 concept of Vice Chairs appears unique to R8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Hoc committee is strongly of the opinion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hat thi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ould be retai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2:36Z</dcterms:modified>
  <cp:revision>93</cp:revision>
  <dc:subject/>
  <dc:title>Slide 1</dc:title>
</cp:coreProperties>
</file>