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2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dt" idx="3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4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F83AF6-5A26-4162-90D3-2103130E6EB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59955D-AB70-413F-AA00-D60E1FDB70C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8128BFA-DE7C-464C-AF8E-E3C50EC76C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0D4928-11DD-459F-BC16-379720465E2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8543B1-AB0B-4FE2-8443-6728F63C134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0E7809-BFDF-48B6-99E8-ED0CE8C6242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4888FC-3FBE-4ADB-B839-D530778A203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32AABD4-3973-45DC-9AC9-A7CEFF3098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0A8081-FE49-42DC-A928-159CB3E85CA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1"/>
          <p:cNvSpPr/>
          <p:nvPr/>
        </p:nvSpPr>
        <p:spPr>
          <a:xfrm>
            <a:off x="1209600" y="693720"/>
            <a:ext cx="4437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79920" cy="41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0A4F9E-1982-493F-8BAC-FC0CFC8CDC1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1"/>
          <p:cNvSpPr/>
          <p:nvPr/>
        </p:nvSpPr>
        <p:spPr>
          <a:xfrm>
            <a:off x="1209600" y="693720"/>
            <a:ext cx="4437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79920" cy="41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68C1CC-E8CA-4014-AE31-F76380A69A5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1"/>
          <p:cNvSpPr/>
          <p:nvPr/>
        </p:nvSpPr>
        <p:spPr>
          <a:xfrm>
            <a:off x="1209600" y="693720"/>
            <a:ext cx="4437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79920" cy="41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044332-A24C-43CC-8855-A2F79A55BC9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1"/>
          <p:cNvSpPr/>
          <p:nvPr/>
        </p:nvSpPr>
        <p:spPr>
          <a:xfrm>
            <a:off x="1209600" y="693720"/>
            <a:ext cx="4437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79920" cy="41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EB3CA9-9DC8-4A7D-AE6C-AD87ACCC075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B0B41C5-F211-4FF2-A3C3-7570DDD636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22FC28-69AA-49A0-9A86-C880ECD23C8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F1C8EF-F573-4459-B015-74D63A0C19B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AEA288-98A0-4423-AFD8-92389AF8B24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218E89-5311-4AC7-8D70-B9D09B0B2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3E27E4-F40B-458E-B4B7-4AD082F50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BEBBC-CA4E-41EE-9FC5-E5DC9619C30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09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4EAFB1-99FA-4759-AA70-BE48EF8C5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24F9EA-83DF-4455-83D7-0A5B06539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FD7AF3-20E2-4ABE-9F55-B692843C9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78F286-DE3A-4B5A-8DDF-0FE755F2B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09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386103-1A46-42E7-8BC8-8059C1B7F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FB8627-4C65-4924-ACC6-7F0D73977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4EC34C-3BDC-43A3-B098-6F2524BE8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12A85F-8D12-4E15-9B6D-5EA4CC879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" name="Picture 3" descr="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19320" y="6172200"/>
            <a:ext cx="31226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Apr 26, 2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533520" y="6172200"/>
            <a:ext cx="68400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08954B-9E9A-451E-93CD-5F6D4FEDCE3E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3"/>
          <a:stretch/>
        </p:blipFill>
        <p:spPr>
          <a:xfrm>
            <a:off x="7772400" y="6019920"/>
            <a:ext cx="1143000" cy="672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1"/>
          <p:cNvSpPr/>
          <p:nvPr/>
        </p:nvSpPr>
        <p:spPr>
          <a:xfrm>
            <a:off x="1295280" y="82224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_tradnl" sz="4400" spc="-1" strike="noStrike">
                <a:solidFill>
                  <a:srgbClr val="ffffff"/>
                </a:solidFill>
                <a:latin typeface="Verdana"/>
              </a:rPr>
              <a:t>Caucus group no. 5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2"/>
          <p:cNvSpPr/>
          <p:nvPr/>
        </p:nvSpPr>
        <p:spPr>
          <a:xfrm>
            <a:off x="1185840" y="3962520"/>
            <a:ext cx="7577280" cy="18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_tradnl" sz="2200" spc="-1" strike="noStrike">
                <a:solidFill>
                  <a:srgbClr val="005582"/>
                </a:solidFill>
                <a:latin typeface="Verdana"/>
              </a:rPr>
              <a:t>Dirk Van Herte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_tradnl" sz="2200" spc="-1" strike="noStrike">
                <a:solidFill>
                  <a:srgbClr val="005582"/>
                </a:solidFill>
                <a:latin typeface="Verdana"/>
              </a:rPr>
              <a:t>Benelux sec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_tradnl" sz="2200" spc="-1" strike="noStrike">
                <a:solidFill>
                  <a:srgbClr val="005582"/>
                </a:solidFill>
                <a:latin typeface="Verdana"/>
              </a:rPr>
              <a:t>In conjuction with R8 SAC vicechair Eva La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561600"/>
            <a:ext cx="7772400" cy="12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Motion 1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Title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egrate at least one graduate student and one Gold member in section ExCo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Proposed mot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integrate at least one [graduate] student and one Gold member in their section ExCo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Financial implicat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n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Pro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Your section will get visibility with young engineers, new fresh motivated volunteers are integrat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Con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n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37960"/>
            <a:ext cx="7772400" cy="12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Motion 2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2724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Title: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tion presence at Branch meeting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Proposed motio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sections chairs to report at least one visit of a section board member to a student branch activ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Financial implicatio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one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Pro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dentify future potential IEEE leadershi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on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37960"/>
            <a:ext cx="7772400" cy="12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Motion 3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26880"/>
            <a:ext cx="8229600" cy="51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Title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udent award at section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Proposed mot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sections to create at least one student award in their section on the field they consider appropri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Financial implicat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p to the section: Can be certific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Pro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ward the young engineers and future potential IEEE leadership and encourage volunteering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Con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n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685800" y="609480"/>
            <a:ext cx="77724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_tradnl" sz="3200" spc="-1" strike="noStrike">
                <a:solidFill>
                  <a:srgbClr val="005582"/>
                </a:solidFill>
                <a:latin typeface="Verdana"/>
              </a:rPr>
              <a:t>Caucus no. 5: How to integrate Students and Young engineers in Section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2"/>
          <p:cNvSpPr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purpose of this focus group is to define guidelines for how  and where </a:t>
            </a:r>
            <a:r>
              <a:rPr b="0" lang="en-US" sz="2200" spc="-1" strike="noStrike">
                <a:solidFill>
                  <a:srgbClr val="ff0000"/>
                </a:solidFill>
                <a:latin typeface="Verdana"/>
              </a:rPr>
              <a:t>to integrate student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ff0000"/>
                </a:solidFill>
                <a:latin typeface="Verdana"/>
              </a:rPr>
              <a:t>and young professionals in the Sectio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's everyday business. This group of IEEE members (more than one quarter of overall Region 8 Membership) shows great enthusiasm and motivation to bring in and implement new ideas. The workshop will focus on </a:t>
            </a:r>
            <a:r>
              <a:rPr b="0" lang="en-US" sz="2200" spc="-1" strike="noStrike">
                <a:solidFill>
                  <a:srgbClr val="ff0000"/>
                </a:solidFill>
                <a:latin typeface="Verdana"/>
              </a:rPr>
              <a:t>how to manage this potential of volunteer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for the Section's benefit in reaching out to members, </a:t>
            </a:r>
            <a:r>
              <a:rPr b="0" lang="en-US" sz="2200" spc="-1" strike="noStrike">
                <a:solidFill>
                  <a:srgbClr val="ff0000"/>
                </a:solidFill>
                <a:latin typeface="Verdana"/>
              </a:rPr>
              <a:t>create a pool of good young volunteer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nd find a good balance between fresh blood and experience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Apr 26, 2009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4FD7CB4-ABD7-4A56-BC0B-4AEAB43DB6D0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Datumsplatzhalter 3"/>
          <p:cNvSpPr/>
          <p:nvPr/>
        </p:nvSpPr>
        <p:spPr>
          <a:xfrm>
            <a:off x="1219320" y="6172200"/>
            <a:ext cx="31226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Apr 26, 2009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400" y="312840"/>
            <a:ext cx="8227800" cy="10634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ember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24000" y="1133640"/>
            <a:ext cx="8045280" cy="5032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rk Van Hertem (Benelux S. Representative)  -  Moderator/Chai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anos Kakarountas (Greece S.Chair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Vladimir Dimcev (Macedonia S. Chair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elie Anglade (SAC member, UK&amp;RI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ablo Herrero (Students Rep., SAC,  Germany)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ahel Muhammad (R8 GOLD SubCommittee member, Egyp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drian Pais (IEEE GOLD Chair, Benelux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va Lang  - VC/S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Karl Gudmundsson (Iceland section chair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Yasemin Baser (Isbir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ce Sanci (ISBIR representative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uka Lugaric (SAC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Datumsplatzhalter 3"/>
          <p:cNvSpPr/>
          <p:nvPr/>
        </p:nvSpPr>
        <p:spPr>
          <a:xfrm>
            <a:off x="1219320" y="6172200"/>
            <a:ext cx="31226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Apr 26, 2009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5400" y="312840"/>
            <a:ext cx="8227800" cy="10634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Backside information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05920" y="1327320"/>
            <a:ext cx="89377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tudent branches can be very active and reach great resul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any good and willing volunteers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25% of IEEE R8 is student, most of them drop out after graduating. Arrears are much higher with students than with other members.  Why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5572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igher du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5572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enefits not really clea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557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o contact with sec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557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blems with IEEE bureaucracy/paperwork (different addresses/emails,...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5572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ow can we keep the good volunteers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ake them active!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et them involve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ake them visible to fellow young engineer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Datumsplatzhalter 3"/>
          <p:cNvSpPr/>
          <p:nvPr/>
        </p:nvSpPr>
        <p:spPr>
          <a:xfrm>
            <a:off x="1219320" y="6172200"/>
            <a:ext cx="31226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Apr 26, 2009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400" y="312840"/>
            <a:ext cx="8227800" cy="10634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quirements to hold office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y full member including graduate student can hold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an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ffice within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secti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r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chapter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(also section chair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237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Datumsplatzhalter 3"/>
          <p:cNvSpPr/>
          <p:nvPr/>
        </p:nvSpPr>
        <p:spPr>
          <a:xfrm>
            <a:off x="1219320" y="6172200"/>
            <a:ext cx="31226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Apr 26, 2009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11826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Freebies (these should come automatic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8000"/>
          </a:bodyPr>
          <a:p>
            <a:pPr marL="415080" indent="-312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Section student representative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==&gt; you should have one (is there a valid reason not to have one?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15080" indent="-312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GOL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(graduates of the last decade): start up an affinity group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15080" indent="-312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bmaster &amp; electronic communic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15080" indent="-312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ut there is no reason not to have a young person being the membership development chair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or any other functi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within the se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1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_tradnl" sz="3200" spc="-1" strike="noStrike">
                <a:solidFill>
                  <a:srgbClr val="005582"/>
                </a:solidFill>
                <a:latin typeface="Verdana"/>
              </a:rPr>
              <a:t>Meeting outco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2"/>
          <p:cNvSpPr/>
          <p:nvPr/>
        </p:nvSpPr>
        <p:spPr>
          <a:xfrm>
            <a:off x="685800" y="1125360"/>
            <a:ext cx="77724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SzPct val="102909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Experiences in the different sections were share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SzPct val="102909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Already quite some sections had 2-4 students or young engineers (&lt;35 years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SzPct val="102909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There are some good practices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ostly making use of the freebi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Inviting student branches to join ExCom meeting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SzPct val="102909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There are also some problems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Young engineers experience old and fixed excom which does not believe in young engineers with voting rights at the ExCo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Young engineers for the “Freebies” is ok, but not for the res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Apr 26, 2009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88BD12B-E25B-48D0-817D-01D60EFF491C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561600"/>
            <a:ext cx="7772400" cy="12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Recommendation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ke a list of potential good candidates for future volunteering while they are stud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this list: bring them into contact with chapters, appoint them yourself and acknowledge their contribu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so Women in Engineering and professional activities are well suited for Y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561600"/>
            <a:ext cx="7772400" cy="12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Action 1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Title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vite student branch leaders to ExCom meeting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Proposed act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tion leaders shall adopt a policy to invite student branch leaders to the ExCom member on a regular bas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Financial implicat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n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Pro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ntify new leaders for your se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Con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n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1T14:29:15Z</dcterms:created>
  <dc:creator>Yolanda Paskovich</dc:creator>
  <dc:description/>
  <dc:language>en-US</dc:language>
  <cp:lastModifiedBy>Windows User</cp:lastModifiedBy>
  <dcterms:modified xsi:type="dcterms:W3CDTF">2009-05-03T15:26:33Z</dcterms:modified>
  <cp:revision>57</cp:revision>
  <dc:subject/>
  <dc:title>Slide 1</dc:title>
</cp:coreProperties>
</file>