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D223-26A9-4D73-A588-40BD05166B99}" type="datetime">
              <a:rPr b="0" lang="en-US" sz="1300" spc="-1" strike="noStrike">
                <a:solidFill>
                  <a:srgbClr val="000000"/>
                </a:solidFill>
                <a:latin typeface="Times New Roman"/>
              </a:rPr>
              <a:t>07/30/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27CE-368E-4809-832C-C09B2A6DE42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5848-6B90-4F78-8407-4CBCB529D5D9}"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E466-2F99-4CE2-8FE7-FEE1A5429A9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8EEC-3548-4149-8243-5630F19A123B}"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8F98-628E-47F9-8EE7-2D7B5393866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A96C-BA42-41D7-9AC9-C2DDFB72090A}"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EC9E-BA75-4BF0-AEB9-6BC20A48131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0190-9A1A-49E0-B8DF-5D72C0C1C057}"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794F-1ED6-4DAB-A40A-4B7A6A28816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FE75-20C5-4955-A9A9-B46DDD4CAA2C}"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2F41-BA9C-4DB6-AC54-B9485878D51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8E50-4F2B-4B82-82EE-B96B1164E50C}"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E71A-8045-4934-A9D5-A64DAD8E3B9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AA9B4D-E5C9-4BC4-BB4B-961FD59B583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8BE080C3-F1CA-4DEA-84DB-63F1D9DA6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0A129EC3-7334-425E-AA88-DC966A667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E5799494-708E-4FA8-84C7-C11CF80C9AF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6D2D9C8F-B318-4462-B5D4-B8927FD76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D548CC2C-4088-4B12-A577-E727EB8D2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4291B0CD-8E04-4B74-987F-16604BCAF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932009D2-6750-40AA-9C65-F3465D299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72D027F-1928-4A6A-999F-60166F3BF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82FCED21-11A2-48A8-93F3-14492176B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C050D8F-B57C-4094-8282-88AFEA7EC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1EADFA3C-B2EC-4DFD-A3B6-AD0092E53D9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474A-0081-42FC-B3B9-CAB2C4C47522}" type="datetime5">
              <a:rPr b="0" lang="en-US" sz="1000" spc="-1" strike="noStrike">
                <a:solidFill>
                  <a:srgbClr val="898989"/>
                </a:solidFill>
                <a:latin typeface="Times New Roman"/>
              </a:rPr>
              <a:t>Jul 30,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A78D-78C4-4DF5-A357-8817D8C034AC}"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2C8E-1D44-4A16-9D72-546016789252}"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2698-DD1A-43E4-B822-821BF13B8E6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94DA-AB23-401B-B42F-2C85BF8FB94D}"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4770-62A7-4B33-8F45-99062DB45E1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D817-4FA6-4938-B91E-56F725915AFE}"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ADD7-2A29-45DA-A236-15706EFA707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3735-3E20-4017-A113-05596A9D8344}"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E775-0B10-460C-AD89-6F8BF604996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B330-C1A1-491C-B6EA-130296094150}"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4F2D-55AC-4235-AFD3-871DF25E7F0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5820-111A-4932-A32E-7C26A95203D5}"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117E-02FC-4B32-A6EB-764355E05B9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4D00-A182-4FA4-A48D-A9CDEFDCA423}"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52C6-F60B-4CDD-BE6C-E1F484C6510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53AD-68E4-4EB1-9745-3E6D70AB1E59}"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8194-1E5C-4F69-90C1-01A1C3E13AC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9090-9173-4501-934B-5184A87EF469}"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8281-FB68-4F7C-A211-D5E28746C9A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