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4A164-1A24-4D21-9ECF-6612407D41C9}" type="datetime">
              <a:rPr b="0" lang="en-US" sz="1300" spc="-1" strike="noStrike">
                <a:solidFill>
                  <a:srgbClr val="000000"/>
                </a:solidFill>
                <a:latin typeface="Times New Roman"/>
              </a:rPr>
              <a:t>07/29/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42135-CBFD-489C-B510-05F5FB75892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E311-62C1-4BC1-84BE-AE065D0F21FC}"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19925-69BB-4E5C-9655-84B9239F628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0B0D-C535-403E-9EFA-F79993E25189}"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51B88-0B4B-4037-B703-E047A629C1D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FEC2C-714F-412E-825F-9F1C4CC5F39D}"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5EF3F-5234-49C4-A479-7A5C7104F0F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348D-23D4-41B4-AFF0-E2551DE49257}"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7814-18DB-4990-9E20-A21F53730F9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6FB6-D633-4C15-92DA-18CB9652584C}"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4C90-8178-425A-AFC7-7CAA38A9CCD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16BC-7232-4E67-A90C-90AB938D58EC}"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A980-FF65-42FC-87C0-F75426DC38D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064F58-849D-48E8-904D-9E7929A7AF9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DCD963BD-5EF0-4103-970E-1EBA13028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5A559911-8CD5-4DC5-803D-7D77040C9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A24793AA-BE54-481B-AB39-30649939967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64326359-31A7-4D61-9603-0953FBA90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51D2E677-0F8D-4908-9AC8-AD997E80D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5F22F696-FB97-4E9E-97A6-2CB5C4B85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73FDBD29-1306-47B4-AE3E-025FCCBB7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D030A87-4F6A-4201-9895-5A9DFAF61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48FF4992-7660-4830-9F44-0B714ED10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E3982A70-0312-4C18-B53F-CE2ED78EF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2EE99152-883E-4986-97B9-4861FD06357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379C-E4C6-41C5-B485-4A50CE6A5D03}" type="datetime5">
              <a:rPr b="0" lang="en-US" sz="1000" spc="-1" strike="noStrike">
                <a:solidFill>
                  <a:srgbClr val="898989"/>
                </a:solidFill>
                <a:latin typeface="Times New Roman"/>
              </a:rPr>
              <a:t>Jul 29,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7C4DE-FF5C-4053-9A4A-76ACE9225F9C}"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30EE-E1E6-4431-B5E4-B905DB0ACBBD}"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AD76F-2034-4480-BCEF-05A7D21889E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B8AD-A7C6-4E47-A615-CE25463A4F20}"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4583-8B19-418C-B0CF-EEC39AE2A0C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1763-EE3B-4694-872B-D6F3590BA890}"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6FB9-151F-446B-890D-E92D06AC4D6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BDD9B-A5D2-45F7-BED6-3FD343D0EB5F}"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64FA9-189F-4388-A743-AA284CD0240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1A81-F30F-4310-8B68-A68D4A4C623D}"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B15B-116E-406C-A0F3-0B97DC552D4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12106-4C7C-4F14-9793-D7EFE74E34A3}"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DA34B-ED58-4299-A305-81FE97802A3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32294-C3E3-46E3-B8DD-304BAA161B15}"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B9759-6F8D-4D66-8427-9BB772B12F7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CAFE-9270-463E-9743-8253ACBE67B4}"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574F-981B-40D3-96DB-8AB1FFCA1F2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C6C8-9A71-49E2-9F63-586B23079AD4}"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5947-6BBA-4C36-9257-2B556EB82A7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