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7FE2-24BE-4408-B408-2247FB9B0A9C}" type="datetime">
              <a:rPr b="0" lang="en-US" sz="1300" spc="-1" strike="noStrike">
                <a:solidFill>
                  <a:srgbClr val="000000"/>
                </a:solidFill>
                <a:latin typeface="Times New Roman"/>
              </a:rPr>
              <a:t>07/28/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3E98-B998-4F8B-B20C-721C40D1AC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7401-ABA2-46B2-A19E-02C730AEB811}"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169B-4E1E-4460-8D9F-678540A43C8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B047-D424-4CAA-A7ED-088E87E2139D}"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40B5-2132-4665-AFBA-65D2D1F604C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648B-AA7B-4D67-B757-98D7D147F04F}"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5C9B-C16F-44EE-823C-62051B97209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B001-5083-44E0-A178-4193728E4296}"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8017-D70A-42F2-8A2B-90559B3DF4D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8305-419C-4198-9EE0-13992FACEA2D}"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6AEF-4CA6-465A-9A19-42D2CE4DA7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ECE4-C2FD-438D-BF95-B08D872B2B29}"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4DFD-CF68-45B2-BD16-AD1B7CA873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5D4319-7102-4760-A221-42728B586DB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EC556D2E-A2B1-4384-974A-52277F061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C37ACFAA-6A5D-4EF9-8887-1D298671D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46D24890-9D8F-43CB-AF53-335D03E9DB9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9882148E-E1FB-47A0-8D57-6D001E116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BA4EC07B-8059-4056-B1F5-7F8A6E7F8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5849E2D-80A4-45C4-BBC0-20B12ED05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D560BD45-2EF6-4A19-9429-4B1B2B19E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5C74471-747D-4DFF-852A-3C8B74A20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FE143FC-2258-4473-89E4-0A3F20361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F845CD8C-E51B-4628-A5C1-8835D0E93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355399A-C11B-4A5E-99DE-25D9B03C12A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2A3F-58B0-4AD1-8C98-F9E2ABD953A2}"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017B-3927-4AB6-B199-31000ABF972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0484-E5D6-4F6B-9E9D-1D93D79F598D}"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6B257-9D14-4385-9365-645A5065ABD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56C2-00D1-4B53-8395-2FC1F542AB8C}"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B8C3-411A-4BCB-9438-167C47EE2BD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CC5D-F69D-499C-95F8-BC6B254FEFF5}"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D5B0-AA17-4FBF-930D-797B6A1771B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7D80-A49E-451E-8958-04D5B4D4DD4A}"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5E72-8C59-4A36-8A53-92A266D0C05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0D95-63E3-4ACA-AB6B-FFAA95E6193F}"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D868-3C2B-4CFF-86B3-C65A721F5A3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62F7-666B-44A9-B343-3A2DE88C0C63}"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0E81-A187-4A09-85D4-D7C29A58FF4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E7EA-2F23-4874-8706-DBF06170874A}"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8E76-BC93-4B9B-A0F6-BDF6989D12C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0032-D256-4A98-B803-1056380F2700}"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FAB8-79A2-49D0-BEFC-F83610A3A68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13E7-79CC-49BC-AD6E-2AF5A6C9D23D}"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C19D-B413-4D05-B03B-95151B97298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