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AFFF8-8D2D-4163-B88E-4FBA1DCEDD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09812-2AAF-4F02-8DA5-840430DF1C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AE336-60A7-4E59-8D99-75DDE1BEB57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98CFB-A22B-447B-BA39-BBD3A684F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9BAF0-B0F2-465B-B3D9-17001F26F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D0D81-ADEA-4B83-9AB6-AA82A637A38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7CE45-F274-40E7-BCBF-15EFC97D9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ECC46-B4C8-4FA3-BEDB-7253E77E299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FB8AD-E0BD-4F40-B9D0-A73F26858C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C0E56-B107-4CFA-8971-EF0618B2AE1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C8ABF-EA90-40A1-ADD3-627BFDF2BFF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E36F3-C11E-4355-B9EA-2249C786D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408FD-596B-46D6-B876-0E44CF8EB76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78CDA-C475-46D7-A47D-BCF756B93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74136-AEA1-4524-B386-D7F0BB0A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CC75C-20BB-40FF-B976-FDE7665782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77474-E199-4D0F-80BD-129AB84DA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3960B-8F51-4FF8-9703-035C5968F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7B3A1-45B5-4E70-886C-383D79753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D057B-7A39-4920-AD10-BAB71D2A9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DE5CD-1FE0-47A1-B01B-C4EDF61F7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0EAD2-17FE-4801-BD94-8A85D71C9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5A107-88B2-4F20-AA32-3424FCE7A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BB5DB-D53E-4B84-96E5-EA3259BF0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D0054-7775-4F23-A8CC-461D6655011C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5439F-BAFF-4478-8F42-3155127A5DBD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821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Verdana"/>
              </a:rPr>
              <a:t>Caucus group no. 1</a:t>
            </a:r>
            <a:br>
              <a:rPr sz="4000"/>
            </a:b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Verdana"/>
              </a:rPr>
              <a:t>IEEE Visibility</a:t>
            </a:r>
            <a:endParaRPr b="1" lang="en-US" sz="40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85840" y="3962520"/>
            <a:ext cx="7577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5582"/>
                </a:solidFill>
                <a:latin typeface="Verdana"/>
              </a:rPr>
              <a:t>IEEE Germany Section Chai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5582"/>
                </a:solidFill>
                <a:latin typeface="Verdana"/>
              </a:rPr>
              <a:t>Dr.-Ing. Andreas Lux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Caucus group No.1 “Visibility”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0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96F49-3405-484A-A0DD-C66BF919C074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BF175-50D2-4D3A-9E7A-462354B6FFA5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1494000" y="1523880"/>
            <a:ext cx="6156000" cy="46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Objectives - general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28240" y="121932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Think about the actions, ideas, initiatives in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IEEE at lar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Region 8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Sec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Other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And on th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Scientif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Commerci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Academic leve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CF0C6-3FA9-4D14-B889-D89D3BC99B17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D3D1A-0F45-41CA-8810-84905570B836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What we are going to do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8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DD440-CD2E-43B7-A5EF-9AB2D07A44CC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A0D9C-5B88-403F-94E5-D049E2A17066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04920" y="26668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Verdana"/>
              </a:rPr>
              <a:t>Thank you for your atten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2A518-7B95-4BF8-B2A1-8B68255FB39F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988CC-9E1C-4337-AC4C-278844C0B01D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7:25Z</dcterms:modified>
  <cp:revision>68</cp:revision>
  <dc:subject/>
  <dc:title>Slide 1</dc:title>
</cp:coreProperties>
</file>