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4A955-71B8-408D-A23C-D78B641681F1}" type="datetime">
              <a:rPr b="0" lang="en-US" sz="1300" spc="-1" strike="noStrike">
                <a:solidFill>
                  <a:srgbClr val="000000"/>
                </a:solidFill>
                <a:latin typeface="Times New Roman"/>
              </a:rPr>
              <a:t>07/30/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559D0-C179-44BD-B11C-AC73A309D0A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23F0-F917-43A4-A6AE-1FAC1FD28B68}"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8C513-BC82-476E-8840-3BD55DD8CB5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E77B-C191-44BC-9A5D-61C5B399FC8F}"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D89C0-F42A-4DD0-A6AF-02DB69D516C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612EA-1817-4FDE-9819-A1C9B56D6A0D}"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3D9E-7216-4182-BB11-12E8BA7BFF0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3CBF-5A06-480F-A07E-2FBCFCD02D46}"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5DDE-18AD-4880-B7A5-23F22327C6C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AAA0-3DD8-48DE-BA49-014ECB7F5E7A}"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D904-7973-4E6B-814D-54C87258364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5BFB-9EDD-4A6E-A23F-17EFE28F71CB}"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9BDB-AF99-4ED2-87F3-F64117C85B0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40AC54-2E4A-4BF9-BBC8-649AC182A22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7BC6311C-DE8A-4C3B-9318-DD07D8926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16BB5782-DA6B-4760-9402-38FAED355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5558EC62-EAA4-4873-A0ED-AF25B43ED93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EA45F628-C2D6-4DF3-869E-9479FBB8B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D211244D-9498-4391-8EBC-029091C5E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CFD97F21-A114-4177-8903-3DF16B08F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92F92CEF-2D95-450C-8A0F-29EE9BBD9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0EB05FE-ABDE-4556-B567-12A09F705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7A54C090-6315-4D87-A35D-04D8350B2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0A1D4A09-8A64-43B1-AEEA-4A9ADB79A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5ED9ADBA-D755-404C-A927-BCE93669D62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08DD-D65E-400F-9A43-5FDC7FC0F59A}" type="datetime5">
              <a:rPr b="0" lang="en-US" sz="1000" spc="-1" strike="noStrike">
                <a:solidFill>
                  <a:srgbClr val="898989"/>
                </a:solidFill>
                <a:latin typeface="Times New Roman"/>
              </a:rPr>
              <a:t>Jul 30,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3685-8514-4FD0-837C-E29FC0899528}"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54972-1E3C-43E6-A4B2-2E9D7225A3A1}"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0BD6-87FB-4C1B-82ED-8356E415D8A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EA235-2DAC-4848-A0AC-3EA94334B9B8}"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9AD7-559C-48E5-9368-35C912A55CE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011A-F44E-4502-97D8-F3972B7CF4D3}"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9C32-8D33-4797-B947-BE652A18E09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6EC7-5039-4AA2-8994-3C55B814C340}"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F8616-32F2-426F-B850-C0870359D6D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2F57F-A0C2-44DD-824A-BAF6571088FD}"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E60E-14D0-481C-8117-37A74261937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39FF-1342-4DBF-98D4-93BA2466A874}"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E02CC-331B-42F2-BFC4-2C9EFCE70A9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51DA-BAC5-470F-A309-2BBCF95E10FF}"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D38EA-C9D6-408F-95C2-A69117A1970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BC195-559E-4C68-A881-29FC0DA37C4C}"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5AD1-98CC-4490-B223-70B8F34F567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D3A1-58DB-41F5-B7DD-78318F5EFDB4}"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05EA0-5D1A-4D31-B4A2-5E00806EEB1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