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123F6-3426-4C93-81F8-8417824E09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A5D62-A877-4BC3-91CB-41B2247D45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F0E71F-DDB6-46D0-A95B-4430EAC72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1047C-3104-44B6-8EBF-57A1659931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ED7D7-D049-4981-8D5D-8818CCCD90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CF394-39A5-4AFE-9FFA-811A9DF156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A9C50-B669-44A0-8CD1-F4909D943C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5407FA-7B7C-46F5-BF8F-26F62B35D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4F58B-23FA-46D2-A219-236DC7E88C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62EF7-FEBB-468B-9FE5-DD078ED493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537BE-7C74-4143-8BFC-66DF499718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F5562-3145-42C1-8C38-C5385CF367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207C3-DD9F-4F89-B71D-34204B6279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E9F62F-8388-42AA-8743-910701599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A69A3-5424-400E-B160-AF93E272BD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38CFC-D8E6-4796-AAAE-D73A9068DC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DE8B1-A994-47A9-A2EA-E5A7902337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052E1-AADF-4B59-9C36-DA339024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9DC6A-581B-48C8-A07F-A0BB73C4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C1A7A-6ADD-44C3-B490-8C711A7CB2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CDDDB-C17B-458F-AF42-C1850E16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A8025-29AC-4E62-B050-3EDB0C82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22936-90BE-41A1-BC52-276C67EB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28B13-E081-4266-8E16-4C8E9B4F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01501-1589-49BB-A45A-443E4377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8481E-C887-4D4F-A16F-144A5947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7B233-F48F-4964-968F-6E1D2D8D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0F13B-C967-4238-AD94-0E690C2D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Apr 26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520" y="6172200"/>
            <a:ext cx="684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EEACB5-4B8A-4EA5-9D29-B9141BA169CD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95280" y="822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Verdana"/>
              </a:rPr>
              <a:t>Caucus group no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85840" y="3962520"/>
            <a:ext cx="7577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Dirk Van Her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Benelux 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In conjuction with R8 SAC vicechair Eva L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 at least one graduate student and one Gold member in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tegrate at least one [graduate] student and one Gold member in their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section will get visibility with young engineers, new fresh motivated volunteers are integ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2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272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tion presence at Branch meet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ctions chairs to report at least one visit of a section board member to a student branch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future potential IEEE leade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3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award at section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ctions to create at least one student award in their section on the field they consider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the section: Can be certif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d the young engineers and future potential IEEE leadership and encourage voluntee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Caucus no. 5: How to integrate Students and Young engineers in S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focus group is to define guidelines for how  and wher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o integrate stud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d young professionals in the Se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everyday business. This group of IEEE members (more than one quarter of overall Region 8 Membership) shows great enthusiasm and motivation to bring in and implement new ideas. The workshop will focus 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how to manage this potential of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the Section's benefit in reaching out to members,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create a pool of good young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find a good balance between fresh blood and experie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90B9DD-DC54-452E-B362-54AD0FBDA71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33640"/>
            <a:ext cx="80452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k Van Hertem (Benelux S. Representative)  -  Moderator/Ch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nos Kakarountas (Greece S.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adimir Dimcev (Macedonia S.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lie Anglade (SAC member, UK&amp;R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blo Herrero (Students Rep., SAC,  German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hel Muhammad (R8 GOLD SubCommittee member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ian Pais (IEEE GOLD Chair, Benelu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a Lang  - VC/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arl Gudmundsson (Iceland section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asemin Baser (Isb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ce Sanci (ISBIR representat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uka Lugaric (SA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ckside inform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920" y="1327320"/>
            <a:ext cx="8937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branches can be very active and reach great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good and willing volunte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IEEE R8 is student, most of them drop out after graduating. Arrears are much higher with students than with other members. 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 d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not really cl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contact with 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s with IEEE bureaucracy/paperwork (different addresses/emails,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can we keep the good volunte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activ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m invol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visible to fellow young engin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to hold offic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ull member including graduate student can hol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ice with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hap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section cha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eebies (these should come automatic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 student representati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=&gt; you should have one (is there a valid reason not to have on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graduates of the last decade): start up an affinity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master &amp; electronic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here is no reason not to have a young person being the membership development chai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r any other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in the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Meeting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85800" y="1125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xperiences in the different sections were sh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lready quite some sections had 2-4 students or young engineers (&lt;35 yea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some good practi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ly making use of the freeb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iting student branches to join ExCom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also some proble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experience old and fixed excom which does not believe in young engineers with voting rights at the Ex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for the “Freebies” is ok, but not for the r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B8861E-A124-490D-9F77-ADF3489BFF8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list of potential good candidates for future volunteering while they ar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is list: bring them into contact with chapters, appoint them yourself and acknowledge their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Women in Engineering and professional activities are well suited for Y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c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 student branch leaders to ExCom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leaders shall adopt a policy to invite student branch leaders to the ExCom member on a regular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new leaders for your s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6:33Z</dcterms:modified>
  <cp:revision>57</cp:revision>
  <dc:subject/>
  <dc:title>Slide 1</dc:title>
</cp:coreProperties>
</file>