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43AC-CFFC-4F80-B878-F8BEF359D1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736E-CF3A-4048-A3BE-03A6ED459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80C3-DE94-4E44-BC5C-C0589A86527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3AC2-D986-4896-A18F-70FAD14F5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5142-94E1-44D1-B9E8-AAE6781C89B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6EDE-36C8-4C5F-9543-B3DE1A62F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A76B-BDDE-40E0-963D-FFAF5279F14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8090-84BB-4E37-96BA-E17D3F147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D9BE-B2EB-46A7-AAF2-37519D04EC5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FBBD-C28B-4F46-B5B7-3A26F1E80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4C01-948B-4E2E-8FE5-311EABB2630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7461-368E-4707-A7CD-3E24C486B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3116-1D02-408C-B82F-5D59C2E0AC3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F4A8-BA78-4C64-AACA-D57D8570C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EDD1-DA65-4B00-9261-E63D8F1916E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3A3C-404C-47A3-987E-7640916B8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D7045-AA14-48F9-9512-D38F14A14F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2A121-35BC-41AA-AEFA-A8B480CB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F3AF4-6988-403B-B5C8-720C80A6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70011-09CC-4759-AFB9-20B1D0C25E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02007-2214-441A-85D9-4C6E5E4C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B519C-638D-414E-BECE-CF19398D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D7188-4D0F-4025-B39F-4F3936B7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E6209-E5E2-4EC6-AADD-78D68945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0B3E4-F8D8-40B5-8282-95C403D0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D9EA5-227F-46FA-A4ED-DB839C1F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3576E-CF4C-4C6A-96BE-AF5A2505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4FF10-DB76-446D-9DC1-EA74FC3C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252C-3F99-41E7-8A59-C3A4B0FFB8D2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4036-F045-49ED-80D3-9A28215501A4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9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Improving Industry Participation in IEEE R8 Sponsored Conferences</a:t>
            </a:r>
            <a:r>
              <a:rPr b="1" lang="en-GB" sz="3600" spc="-1" strike="noStrike">
                <a:solidFill>
                  <a:srgbClr val="005582"/>
                </a:solidFill>
                <a:latin typeface="Verdana"/>
              </a:rPr>
              <a:t> </a:t>
            </a:r>
            <a:br>
              <a:rPr sz="4800"/>
            </a:br>
            <a:endParaRPr b="1" lang="en-US" sz="36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Group members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1371600"/>
          <a:ext cx="8534520" cy="478476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je Gjengedal           Norway ( Modera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ao Costa-Freire        Portug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rhan Ozkan, 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rt Richter,                 Aust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acob Al-Mulla            Qatar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vid Law                   UK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esa Bastaki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UA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hmad Al Naamany    O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ik Stilling                  Denm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őklan Gelebi,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u Mushcab          Saudi-Arab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5582"/>
                </a:solidFill>
                <a:latin typeface="Verdana"/>
              </a:rPr>
              <a:t>Background: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articipation (outside R&amp;D) in R8 sponsored conferences is very wea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erceives that IEEE conferences are more suitable for academic and research professionals rather than addressing industrial iss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ow to improve industry participation in R8 sponsored Conferences, resulting in changing industry perception about our conferences</a:t>
            </a: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26FA-7065-4302-BA16-62ABD54D8EDE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056E-AD0C-4310-B85F-9D118E663B18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Some possible reasons for the current lack of interest from Industry Sector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 not give me th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pics, papers are not relev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o theoretical and to little on applications, experiences etc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my preferred meeting place- others are more attractive and gives me mor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1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me of the conference should be attractive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industry members in Org. 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ite industrial sessions/trac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special topics of interest for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.g. on standards, applications, experiences, best practices++++++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ever possible industrial exhibitions are recomm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2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 the industry participants to submit only abstract reviewed and PP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fP should clearly state requirements for industrial pres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roach and network with industry as early as possible – build their inte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hasize on advertisement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582"/>
                </a:solidFill>
                <a:latin typeface="Verdana"/>
              </a:rPr>
              <a:t>Final Recommendation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se recommendations  should be adopted by Conference Coordination SC to improve industrial particip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3:34Z</dcterms:modified>
  <cp:revision>18</cp:revision>
  <dc:subject/>
  <dc:title>Slide 1</dc:title>
</cp:coreProperties>
</file>