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DF41-C59B-4296-B1D7-1F98C1370D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4E75-C8E9-46C9-9BEF-9CF506F6D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A17C-0E1E-4F83-9E2D-F96D377245C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6C5E-33B8-4800-8F1C-E460E6E33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138F-2CCA-4E8E-9E8F-D7CEAC2FBAF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A3C5-F156-4106-B4F9-101D8C540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5078-9B04-4170-BFA4-97134458EBA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1D89-5968-4F7A-88FD-6C79D6623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9F0D-03A2-4837-8CE4-FF8AB4ED3E8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CFD9-371F-498A-93B3-F5517B448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EA525-B37A-44F9-A91A-F348A78D5D0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CD61-B15D-4F0F-AC50-1155CBAD4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4616-676D-44C2-9D38-0DAFB99984E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7808-00FC-4135-B7E7-5AF91AFFC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7B57-D89C-46F8-ACB3-324E8687C1B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AD6D-D061-4C68-B1E4-7E40F6DD9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DB190-3673-4C8C-AEBB-7C18CCDF78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9ED66-C24F-4A95-9ECF-322135EF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10B69-7B7C-4012-8EF6-250B9FFD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E396D-9AFF-4327-92AD-543E4BB91B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57770-906C-4DDD-BA70-4224E921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7B6E8-0C26-430A-B8EB-3290AAE6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2EE9E-D07F-4BC6-9809-BA627F27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EF0F9-AB51-4E53-A557-1E3500891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013CD-87F6-4DCA-81D1-C9AFEE571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B781E-E058-4E98-A90A-C1D28F81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7B178-264D-4774-9694-1C110754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3BA90-6EBA-4383-9A66-3B5D758D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B347-78B0-4CE0-B038-0A808E9B38D0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A2A0-248D-4342-942D-3D7F4FE816F1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Caucus group no. 9</a:t>
            </a:r>
            <a:br>
              <a:rPr sz="4000"/>
            </a:br>
            <a:br>
              <a:rPr sz="4000"/>
            </a:br>
            <a:r>
              <a:rPr b="1" lang="en-GB" sz="3600" spc="-1" strike="noStrike">
                <a:solidFill>
                  <a:srgbClr val="ffffff"/>
                </a:solidFill>
                <a:latin typeface="Verdana"/>
              </a:rPr>
              <a:t>Improving Industry Participation in IEEE R8 Sponsored Conferences</a:t>
            </a:r>
            <a:r>
              <a:rPr b="1" lang="en-GB" sz="3600" spc="-1" strike="noStrike">
                <a:solidFill>
                  <a:srgbClr val="005582"/>
                </a:solidFill>
                <a:latin typeface="Verdana"/>
              </a:rPr>
              <a:t> </a:t>
            </a:r>
            <a:br>
              <a:rPr sz="4800"/>
            </a:br>
            <a:endParaRPr b="1" lang="en-US" sz="36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Group members: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09480" y="1371600"/>
          <a:ext cx="8534520" cy="478476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47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je Gjengedal           Norway ( Moderato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ao Costa-Freire        Portug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rhan Ozkan,             Tur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rt Richter,                 Aust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acob Al-Mulla            Qatar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vid Law                   UK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esa Bastaki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UA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hmad Al Naamany    O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ik Stilling                  Denma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őklan Gelebi,            Tur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mu Mushcab          Saudi-Arab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5582"/>
                </a:solidFill>
                <a:latin typeface="Verdana"/>
              </a:rPr>
              <a:t>Background:</a:t>
            </a:r>
            <a:endParaRPr b="1" lang="en-US" sz="4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dustry participation (outside R&amp;D) in R8 sponsored conferences is very wea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dustry perceives that IEEE conferences are more suitable for academic and research professionals rather than addressing industrial iss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ow to improve industry participation in R8 sponsored Conferences, resulting in changing industry perception about our conferences</a:t>
            </a: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A4A9-8085-409C-936F-4D6599A1BD35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0D6B-FB89-44AC-BCD4-99C272524E17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Some possible reasons for the current lack of interest from Industry Sector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es not give me the benef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pics, papers are not relev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o theoretical and to little on applications, experiences etc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 my preferred meeting place- others are more attractive and gives me more benef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Recommendations to be adopted by CCSC to  increase Industry participation (1):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me of the conference should be attractive to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industry members in Org. C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ite industrial sessions/trac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special topics of interest for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.g. on standards, applications, experiences, best practices++++++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ever possible industrial exhibitions are recomm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Recommendations to be adopted by CCSC to  increase Industry participation (2):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w the industry participants to submit only abstract reviewed and PP pres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fP should clearly state requirements for industrial present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roach and network with industry as early as possible – build their inter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hasize on advertisement to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582"/>
                </a:solidFill>
                <a:latin typeface="Verdana"/>
              </a:rPr>
              <a:t>Final Recommendation: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se recommendations  should be adopted by Conference Coordination SC to improve industrial particip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3:34Z</dcterms:modified>
  <cp:revision>18</cp:revision>
  <dc:subject/>
  <dc:title>Slide 1</dc:title>
</cp:coreProperties>
</file>