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29D27-3E5E-481D-BF6F-1C2F2B56D884}" type="datetime">
              <a:rPr b="0" lang="en-US" sz="1300" spc="-1" strike="noStrike">
                <a:solidFill>
                  <a:srgbClr val="000000"/>
                </a:solidFill>
                <a:latin typeface="Times New Roman"/>
              </a:rPr>
              <a:t>07/28/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130B8-DFA2-40C7-952B-7FBAC10B92B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05CDC-7FB6-42E6-BFD7-4B3FE06E7715}"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F6B88-36C5-4ADA-B380-FB8CE476D14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68B8E-2F8A-4EC0-AA67-E25C2A39CAFE}"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EC835-5F12-4684-A329-D50C5BE5061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8D80A-3E4D-4C83-83D6-E3E41ACF6D1D}"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2A79A-B91F-4CA1-B326-FBAF445F807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CF0F4-1308-44E4-A577-EDB36E383FA3}"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F11A-38E4-4141-B1E3-CF1B96B5DDE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0A88-B29A-4539-8BD4-EEA52AC53F63}"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B212E-C9FD-4207-953B-EA926D5901F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F0F1D-92C0-4823-B97B-18A03B248207}"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58E3E-F7EF-4DBA-9A87-25073B4A589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E67AD3-6582-4AB6-8F7D-9F277FCE34A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EC177ED3-109F-49F1-BAD8-078379180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CD2AAEA8-4A15-4C1D-96AE-B1AEC58DF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5E89FC68-EE94-4782-B826-73F0BF84D21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838551CE-A948-44CE-8018-18C914A6A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CFB6B4AC-62E9-47D3-A2A2-AE235030E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CDB5068A-E9E8-419D-B836-A949BA7D6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36CC1174-6726-40E0-AA78-327A39A410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B599F10D-77D4-4E9A-A413-E758E8775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D26FB397-9572-43E2-BFC3-7EB37467A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C443D242-F98D-486A-AEF6-77E9D768E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A69F16A0-EA47-42BC-90CD-1FC1D854E5D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52B7B-AB79-4B82-9391-510FFE2BC5DD}" type="datetime5">
              <a:rPr b="0" lang="en-US" sz="1000" spc="-1" strike="noStrike">
                <a:solidFill>
                  <a:srgbClr val="898989"/>
                </a:solidFill>
                <a:latin typeface="Times New Roman"/>
              </a:rPr>
              <a:t>Jul 28,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CEDB7-E67A-48AA-83DC-0747312626A5}"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4A20-B2AF-4FE5-A481-5EE1A75554FA}"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DAA2-C1E1-4716-BF6E-DA25486D8FA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820D6-CD60-4C2C-8A3C-C0612C52F36E}"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6762-1FB6-4AC1-82A7-44914BCD2C7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D92F7-67B0-4F47-A2BB-CBA0EC535AC7}"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9F46-8A28-46A2-BA60-2F54B906FC6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300A9-7707-4C3C-A27A-E6C0634D8767}"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6347-3439-45BC-81AB-70C827C6E46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3CFE0-4B16-4B89-B096-60C5D9B4634F}"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D1AC7-AB8D-4BB1-841C-80AC8825D11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0F97-98CF-4414-9D4A-DB172E609613}"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6791C-432E-4EE5-BC18-CC757CA308D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C11E-2F07-4EEF-B222-F8E90BDC1372}"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5BED-E0A2-4239-96F9-807A8D691A9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CE400-12B5-4E76-85CB-F3EE3B19E9C7}"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B2E6E-3D57-4906-9D2F-E2A620E5A86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D8DD4-9B16-42FF-A173-49D44F79954B}"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5EEA-719D-42AA-A894-452DFBDB436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