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5F106-3DA2-4F2C-B59C-A95E4889B2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308E2-F80D-4E35-8D7A-F084159B1A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E5C97-744A-46F4-AFD3-663A54BF664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373C8-5657-4FA8-B47C-69FE37650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B8086-04A4-4EEE-8E4F-EE7A947A883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2EC52-B221-44F2-8CFB-DDD1FCAB7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1CEB2-9C93-4A59-AAFB-5E7E38FDD89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CA44A-4A02-46A6-BE0F-544D8C36B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21E0E-165F-45C9-9EFD-3F793200663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78595-3C1D-448B-8988-78D504027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14F56-BD2A-446F-A0DF-C84C4CA281B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27342-B6A6-4B40-87EC-99C88FF1C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5D309-BBC3-4037-B7A3-125A71167F8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44415-F214-4FFE-986F-C2D1AF329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40681-C687-426B-9B9C-133B0504F28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57A91-25F7-4F9E-9D21-898DA05AAE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5F6CF-6372-498C-BFC4-F4C2295D52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B3FF8-FF0A-419A-B044-FA097C377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16381-1D6A-4368-96AE-F30F62901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3B195-DE1F-4CB2-9DE7-E308813CAAD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9CBA1-A14C-4878-A5BC-8C4F63DBB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79F93-8BE4-4F5E-9F65-ACC617132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EAE32-901B-4D2A-B598-93780D02F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57E06-99C9-4EA3-8663-D388E3195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1F143-A0AF-44CD-85D4-E94B24EFA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73C11-BC5A-49FB-8BFC-746162A80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68CB9-3FD7-4C2A-98F6-1298C2393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0B38A-EB9D-4C55-8F67-DD1F3070D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C9DE6-A883-4862-83CC-3386631765B6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975D6-FE9E-4F24-A419-44450E31A231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821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Verdana"/>
              </a:rPr>
              <a:t>Caucus group no. 9</a:t>
            </a:r>
            <a:br>
              <a:rPr sz="4000"/>
            </a:br>
            <a:br>
              <a:rPr sz="4000"/>
            </a:br>
            <a:r>
              <a:rPr b="1" lang="en-GB" sz="3600" spc="-1" strike="noStrike">
                <a:solidFill>
                  <a:srgbClr val="ffffff"/>
                </a:solidFill>
                <a:latin typeface="Verdana"/>
              </a:rPr>
              <a:t>Improving Industry Participation in IEEE R8 Sponsored Conferences</a:t>
            </a:r>
            <a:r>
              <a:rPr b="1" lang="en-GB" sz="3600" spc="-1" strike="noStrike">
                <a:solidFill>
                  <a:srgbClr val="005582"/>
                </a:solidFill>
                <a:latin typeface="Verdana"/>
              </a:rPr>
              <a:t> </a:t>
            </a:r>
            <a:br>
              <a:rPr sz="4800"/>
            </a:br>
            <a:endParaRPr b="1" lang="en-US" sz="36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Group members: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609480" y="1371600"/>
          <a:ext cx="8534520" cy="4784760"/>
        </p:xfrm>
        <a:graphic>
          <a:graphicData uri="http://schemas.openxmlformats.org/drawingml/2006/table">
            <a:tbl>
              <a:tblPr/>
              <a:tblGrid>
                <a:gridCol w="8534520"/>
              </a:tblGrid>
              <a:tr h="478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rje Gjengedal           Norway ( Moderato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oao Costa-Freire        Portug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rhan Ozkan,             Turk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urt Richter,                 Austr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acob Al-Mulla            Qatar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vid Law                   UKR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esa Bastaki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UA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hmad Al Naamany    Om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rik Stilling                  Denmar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őklan Gelebi,            Turk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mu Mushcab          Saudi-Arab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5582"/>
                </a:solidFill>
                <a:latin typeface="Verdana"/>
              </a:rPr>
              <a:t>Background:</a:t>
            </a:r>
            <a:endParaRPr b="1" lang="en-US" sz="40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80880" y="10666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dustry participation (outside R&amp;D) in R8 sponsored conferences is very weak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dustry perceives that IEEE conferences are more suitable for academic and research professionals rather than addressing industrial iss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ow to improve industry participation in R8 sponsored Conferences, resulting in changing industry perception about our conferences</a:t>
            </a:r>
            <a:r>
              <a:rPr b="0" lang="nb-NO" sz="32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75573-4E2E-4F4A-8124-EFB4A0A6FE3B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A9112-180E-471B-8443-552D68840ADC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Some possible reasons for the current lack of interest from Industry Sector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es not give me the benef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pics, papers are not relev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o theoretical and to little on applications, experiences etc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t my preferred meeting place- others are more attractive and gives me more benef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Recommendations to be adopted by CCSC to  increase Industry participation (1):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me of the conference should be attractive to indust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industry members in Org. Co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ite industrial sessions/trac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special topics of interest for indust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.g. on standards, applications, experiences, best practices++++++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ever possible industrial exhibitions are recomme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Recommendations to be adopted by CCSC to  increase Industry participation (2):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w the industry participants to submit only abstract reviewed and PP presen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fP should clearly state requirements for industrial present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roach and network with industry as early as possible – build their inter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phasize on advertisement to indust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582"/>
                </a:solidFill>
                <a:latin typeface="Verdana"/>
              </a:rPr>
              <a:t>Final Recommendation: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se recommendations  should be adopted by Conference Coordination SC to improve industrial particip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3:34Z</dcterms:modified>
  <cp:revision>18</cp:revision>
  <dc:subject/>
  <dc:title>Slide 1</dc:title>
</cp:coreProperties>
</file>