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5A611-E8E9-454E-8B5F-EE2E850CFFDB}"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66C54-AAF3-4895-8793-0FA6E337D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0EB2-668D-4B26-8BBD-9B8974085B28}"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F0DE-839F-4438-8EB5-E32C4AFCB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540E-5420-4A36-A791-500285917178}"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A6E1-C066-45ED-91AD-F74D216F4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11C2-9E8E-4D96-A9F6-15E705F4E001}"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38078-58EF-48A4-88F5-306E7E784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9298-600D-4EBB-AB18-8D6ED9DEFA9D}"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AB25-4237-4B0A-A5B8-0BA04899A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9FA54-F8FC-4F69-8B8B-6DCD28E6566C}"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D771-1ECF-4965-9070-9551B359F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BDFA-22C7-4933-9C29-3CFCB2B3DC1D}"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9476-5CA1-4368-8672-03912723E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FB9C-BB4A-42CA-9829-E6D2AF94E803}"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A8AF-4A47-4745-A670-5D94F2301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4A38E-038E-4C24-8673-365EC320678E}"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0074-7D20-471B-878F-C85B0E209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CBCB-AF3F-4EFE-ABEC-5C25134585B0}"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A8D7-52B2-4106-A310-A9FD4D030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4050F-6C52-4843-A5AB-493F8D751A3E}"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4275-DD1B-40AD-8583-832618EEB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0BCB-5638-45C6-B30D-E98EC53BA92D}"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47A1D-65B9-4AE8-AE3A-87C4EB381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3A97-7F83-4665-9DBB-60973E57A0B6}"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F93D-1E54-44FB-9924-B7D30E6F3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5E4F24-4CC6-47B2-88B4-1A6191D85BE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8FD4D0E1-9277-4700-8CFA-7937EDC1B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30F30AE1-2D06-4FFE-BBAD-06E8439F4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FECE0B6A-DEB8-4267-98B5-0F5F4BC61BB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8861E0F0-B71B-469B-9E74-40F9777B9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D80F76ED-A8FB-4D24-9150-B9C656830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8A2F6582-260E-4267-8BA4-00F2A7FC3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3E5D6D93-8D37-43A1-8CCD-5595CE9B3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0531212-973A-45EB-9D6F-A1E3E21AB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162DA380-F4D0-419E-AF79-94EA86DE4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209FFC38-F2DF-403F-AB9C-6F7D6D0E7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E7BB320A-54B8-464B-9A6A-547400820C2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1AE2-217F-4100-9A44-63DB6B9DD843}" type="datetime5">
              <a:rPr b="0" lang="en-US" sz="1000" spc="-1" strike="noStrike">
                <a:solidFill>
                  <a:srgbClr val="898989"/>
                </a:solidFill>
                <a:latin typeface="Times New Roman"/>
              </a:rPr>
              <a:t>Jul 30,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4541-020F-4335-BCCB-186C718D6062}"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A82A-00F8-4685-B4D8-4525012CBDAB}"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80E9-C874-4E56-B440-72DF6E68A53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D568-F313-4B99-B0B4-1EC855C83D7E}"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17614-E23D-4DF8-B4B8-0DC69680340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CBCE-95EB-4B5B-8392-D0F7424A26D0}"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9B58C-E455-44D7-B59C-D0BAEE25395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3B53-2E75-49CA-9172-0238A39EF86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8028-C559-4290-9353-3BFBD2493A6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B85B-46DB-4D66-A877-CA7F624AB3E4}"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0877-3ED1-43BB-8490-776DA1F6EA0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C71A1-C904-4A6A-8771-39668B360462}"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C09A-CB0C-45EC-B526-21608A9402D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AA7B-50A3-4D87-836D-C71EB47F0F97}"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92EE-F011-426C-A007-E0163B5F398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AE121-BBE3-4BE3-9F65-8C234E61DDB2}"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380F8-2BE0-4DA9-AECF-2CD4C7306FC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AD9B8-8A48-4190-8F22-01F37AE30925}"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1413-7C40-4859-9197-B74BD33F47F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1AECA-4F5B-464D-9EEB-FD42F8462493}"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5D0E-3008-4851-BAB2-094B392F649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