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3CB5-0D5B-4E07-9685-C9F8020359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ECEB-B2B4-4545-A8CC-849071A45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282F-86C7-4A19-85B7-5AE8DC0688F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2489-ECD5-4658-87FF-CDB5CF580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2A4A-B8D4-4123-BEB5-ECD108FED46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BE2A-3E82-4BAE-AFD4-19034BD2E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6CDB-86A7-410B-AE47-AC1650426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A709-5AFB-4D3D-BAD0-10887F68699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1FA3-D225-4A4C-98A3-D0DBF977474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30B7-3E9F-4E22-85F9-3A237FA27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0F87-85C7-42E8-B1F4-4C7E933245D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767B-B6BC-4E04-A326-66D7D2CE1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6A07-6F12-4BBC-9A4F-30509B7E706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57D1-B019-4F05-9965-904753B96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295D-17DA-4C24-9F74-B99B9A2E6CA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6557-46D7-47CA-B6BF-02216B8AF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21C7-09D4-4619-8877-C6514FC1DDE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4F42-0EA6-4971-9294-F936B9BD4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FBC5-9902-4E87-8202-245E868BCE0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5D1D-9BD8-47D2-9D78-5C3E94223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5F67-F0DF-4069-A9F3-48444292B37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AF3C-D39E-4BC5-B2BC-E2D4AA9D2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318A1-1386-45C2-845B-5BCE867635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DA8BC-4A8C-4276-AFEE-A61BC10A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E06FD-7A4D-4CFA-9815-BB427508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18B3B-347D-45E2-93A0-15858AFCFC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C46D7-7305-4BBC-A160-48642A3E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1232B-E8C3-4DBB-A405-8140F158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92AE0-25BB-432C-BCE4-3BA7C02A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878B0-4692-4ACC-9F7F-40A6D398E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1C73E-9C03-43D9-B093-7118B6C04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A87B5-0F86-4054-BE2A-57547389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ED4BE-C6CB-477A-8379-1A82A0BF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048BD-8950-46D4-A4C0-34A2252F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8296-8481-45F5-89F5-F4DACB50B3F3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86F4-6825-47A3-81E5-22E47C2E941C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82188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aucus group no. 8</a:t>
            </a:r>
            <a:br>
              <a:rPr sz="4000"/>
            </a:br>
            <a:br>
              <a:rPr sz="1400"/>
            </a:b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Participation of Sections in the Organization of IEEE Conferences in Region 8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886200"/>
            <a:ext cx="7577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5582"/>
                </a:solidFill>
                <a:latin typeface="Verdana"/>
              </a:rPr>
              <a:t>Carl James Debono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5582"/>
                </a:solidFill>
                <a:latin typeface="Verdana"/>
              </a:rPr>
              <a:t>Moderator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859A-7A3C-44ED-8F1D-492FFB551E92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level of involvement Sections should have in Conferences organized within their reg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the way forwar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ose standard practi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7344-2CF3-480E-9C37-C564D71B41BF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articipants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294920"/>
            <a:ext cx="4572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ohn Vi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ean-Gabriel Rem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mre Rud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rancisco Sandov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ttar B. Sadkh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rian Kazmierkow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acob Baal-Sc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lexander Miker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rina Naidiono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niel Pasqu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D247-8C2D-42D3-8341-22D28D5A6723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 Marcador de contenido"/>
          <p:cNvSpPr/>
          <p:nvPr/>
        </p:nvSpPr>
        <p:spPr>
          <a:xfrm>
            <a:off x="4572000" y="1219320"/>
            <a:ext cx="4572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urad Loul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ristine N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moakoh Gyasi Agy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not always informed about confer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ven though according to IEEE rules the Section has to endor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ocieties are stro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y should Society need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 knows well the country (people, hotels, legal aspects, VAT, etc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s can reach the whole engineering community (through good relation with local societie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A99A-58ED-4E56-A428-F505AD4A4E2F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1426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n the other hand – if I have conferences through the society and I pay membership directly with IEEE …. Why do I need a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have to make it attractive for the conference general chair to get them invol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sometimes asked for help too l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involved in local ev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specially new sections since they need  more expos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D3F6-FD18-4857-A86B-28E91E4A4AF9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with Region 10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between sections (say 7 or more secti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A number of conferences are asking co-sponsorship (sometimes from an OU from outside the countr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Can be useful to attract new members unless competing with IEEE established conferen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635F-5F8D-405C-81C9-E342971B54A1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C7EE-BD42-4BC6-9626-F906A698EBDE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 meetings should include an item on the agenda to discuss society – section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trengthen chapter – society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directly involved in local 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need to know if a society is doing an international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pter Coordination Subcommittee can spot conferences through their contact with societies and inform S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9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3869-CB0C-4FD7-A9F4-DF1C290BABCF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2 Marcador de contenido"/>
          <p:cNvSpPr/>
          <p:nvPr/>
        </p:nvSpPr>
        <p:spPr>
          <a:xfrm>
            <a:off x="304920" y="1219320"/>
            <a:ext cx="8534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-sponsorship by OU outside Section should not be accep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ction Chair should be inform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uidelines from H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can prepare a marketing leaflet for some places that are excellent to host con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rket team to attract con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a reasonable schedule/planning and business plan 3 – 4 years in adv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timize results for Sections and Reg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A191-5962-4AA5-B719-969CD46ED308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joint conferences with Region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ain from the diversity in Region 8 and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hance relation with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oo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 a good practice man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8:21Z</dcterms:modified>
  <cp:revision>58</cp:revision>
  <dc:subject/>
  <dc:title>Slide 1</dc:title>
</cp:coreProperties>
</file>