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90B26-572F-4A56-9E62-E8A20DDC4A0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2065A-D9FF-4C14-8F5E-7AD22E894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78314-3E8B-4C04-A368-ADE79A4818E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48803-8C73-4B06-87F7-3E4696D3A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D06A-D66F-4418-AB51-85EF91525B0E}"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29AF3-8381-43A4-9887-83E932B57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563FF-E827-472E-A0F6-2DE776755B6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61B95-F3D5-4474-A365-151E99847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C1B2-677A-44D6-8358-582EB9A5DBF6}"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23497-936D-41B4-86EC-A2007EFCF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B1E73-8960-4297-9CAD-7643D6CBD1DE}"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07F3B-5601-41D9-8049-95A88C28F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D140-5D78-4AB2-AC1D-F5D3510406DD}"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1AF60-9EA7-4B08-A9B9-954E0C612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890F-ABBC-4384-B340-17D71FD4EAD8}"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D7FD-F653-403B-97CF-8291603AC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6945B-0D1D-4416-AA63-1C56CB8193C1}"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6CE9-9538-43B4-ACB8-120084930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D4644-6145-4184-980A-B34969BC6CD8}"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BBBC-BF80-4051-AB2A-5B5A4526F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533C-6007-473D-8DF0-C882F15CB03E}"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E3F71-50B5-431B-AA05-3568C822E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0718-F107-4251-9948-95986BC75073}"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AA82-1B40-4CB1-A58A-787680AFC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008D-06B0-45DE-8DBA-6F50C220A83F}"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2EED-FE3B-49D2-A137-104A74BF3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F72D40-97B5-457F-9F6D-481485394BE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F6C2B596-C7E2-4CB6-90BC-B0E88FD3C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0B817B09-5188-468A-9933-ED80E4E26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1983B5FD-9EE3-4A8F-AAB0-264936A00DE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23568381-DF52-4ABC-A9D6-FEBEBC50C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EB1F728C-6FCF-4B59-BFE5-A9EE8E7A2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76C7EED8-5089-4849-81F7-0E2FAA966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7D7A8793-7A1F-44FC-B23F-5DB62B903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02EBDCF-C45B-4FC4-BFAC-85DEAFB08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E36AED57-D062-4B2A-B72A-B3033ED88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1D244E7A-DEB5-4F79-BDF5-C6124F396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36DA9586-7FFF-460D-B33E-6837DEDF8E2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D27BB-88C4-411B-8CA4-C5E9A2364F38}" type="datetime5">
              <a:rPr b="0" lang="en-US" sz="1000" spc="-1" strike="noStrike">
                <a:solidFill>
                  <a:srgbClr val="898989"/>
                </a:solidFill>
                <a:latin typeface="Times New Roman"/>
              </a:rPr>
              <a:t>Jul 29,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57E1-B2B5-4303-98E4-EE7A72374D57}"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EDC6-1B56-45E3-93AE-B590D3D8F5AC}"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F9D07-EBB2-4442-B658-6447B0132CF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1DB78-019D-4E7A-91D2-F4B5119F8E1E}"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DE6A2-42FE-4DDE-B043-8CDA8B424D9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DFED-D013-4796-8491-FB6B768D5575}"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FFDF-CB72-4A62-BA59-DD6A9A38322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C858B-C62C-48A6-850A-7AB48B6EBED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9352-FAD2-4B92-9E02-D232EC40001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B24AE-715D-4B24-AB1E-EF94E35D24EB}"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E9B8-1AE5-46F5-8D5E-3222A0A4297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D660-1B67-4B88-8A74-70D5336888ED}"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0914D-F841-4151-9939-4256B92B2B5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BDB5F-4596-4C7E-89D1-BE5E3AA18814}"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37CE4-6A72-404F-A133-9F1B6365960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81E0C-F83B-4C4B-A734-FBEBC32F815D}"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D0964-56BC-4EE7-B375-1DB8693323A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A5B1-25D0-46F3-A43E-2DB39426EA3C}"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9785-C6CC-4271-BE3D-CC72642B84A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2098-8775-4657-BBD7-03E5030CC159}"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01AE-9D82-4A9B-A9D8-C48274F22DF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