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B0A3-F87C-45DE-B06A-CB3E7A164F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5DDD-C7D9-4782-92D5-EF165348D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FD45-50F7-4923-AA06-51D179672E6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2CD2-63A8-46C1-B956-A9F9F30B2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D9F7-8CC8-4D69-A3F7-8C05E1D8848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8426-F144-479A-A32F-34B9F431A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71A3-DEA2-4346-B434-6D98F7B6E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C9E6-89DB-4C43-885B-41BD1A0146F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376D-41E5-4DD1-BDCD-508F664FACF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68CB-77C2-4714-80BA-455CEAD43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F466-58A1-4DA5-B342-E666CD58A68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7840-ED75-4E91-AA83-B22A55A44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83FE-D31A-495E-8C57-284B0201A7D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73BC-2C16-442C-AA9A-82030EEAB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39A5-0B26-49D6-8972-06B05D58DA1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A19C-82C3-4FDA-98D1-DBF3C2B14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8C14-1B8B-4738-862A-6CF80DE6BB2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4768-10A0-4193-AEBC-4CBAA7DE2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6B7D-2419-48C6-9128-921F3DE922F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B583-86EC-4BE4-BCAC-D2A342943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0D25-1F1E-4B1B-BD5E-80D4437E01A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A127-C6A5-4452-AE2D-D9ED32FEA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EF7F4-0738-4992-8395-C9B387846A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52763-60A2-440D-ABDF-19383153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E85C1-4EC2-47CF-9B0D-E7D5F92B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6D3CF-F274-48FD-9275-0545C53DF5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C94D8-67C0-499B-86CF-9A2F4A10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EB992-78F2-4815-B794-6F38B4AA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F31C3-A3AF-4D72-A11D-929203AB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FA6EE-151B-4248-B5FF-3CC80C9FC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378B6-B4D8-4C5B-90EF-C431DEE6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9C05D-1FD0-4E3C-9621-182CF966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AAAFF-DBA0-4CDA-B855-34442D8E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40BB7-3E52-4983-B5E1-1DA894FB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B8EC-A431-4B34-8824-7684CA577ACF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519E-BBE9-4BEA-ABBC-90B35B18D1D0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82188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aucus group no. 8</a:t>
            </a:r>
            <a:br>
              <a:rPr sz="4000"/>
            </a:br>
            <a:br>
              <a:rPr sz="1400"/>
            </a:b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Participation of Sections in the Organization of IEEE Conferences in Region 8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886200"/>
            <a:ext cx="7577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5582"/>
                </a:solidFill>
                <a:latin typeface="Verdana"/>
              </a:rPr>
              <a:t>Carl James Debono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5582"/>
                </a:solidFill>
                <a:latin typeface="Verdana"/>
              </a:rPr>
              <a:t>Moderator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0DE7-9DE5-4E12-81AD-891D6486CE7D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level of involvement Sections should have in Conferences organized within their reg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the way forwar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ose standard practi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A578-D2EC-4B1C-8A76-790F0C747BA1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articipants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294920"/>
            <a:ext cx="4572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ohn Vi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ean-Gabriel Rem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mre Rud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rancisco Sandov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ttar B. Sadkh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rian Kazmierkow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acob Baal-Sc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lexander Miker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rina Naidiono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niel Pasqu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041A-FF16-4FF8-AACA-EB5C946689C0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 Marcador de contenido"/>
          <p:cNvSpPr/>
          <p:nvPr/>
        </p:nvSpPr>
        <p:spPr>
          <a:xfrm>
            <a:off x="4572000" y="1219320"/>
            <a:ext cx="4572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urad Loul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ristine N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moakoh Gyasi Agy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not always informed about confer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ven though according to IEEE rules the Section has to endor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ocieties are stro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y should Society need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 knows well the country (people, hotels, legal aspects, VAT, etc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s can reach the whole engineering community (through good relation with local societie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EC59-09DF-4BC9-8DB5-B5E8E5178673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1426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n the other hand – if I have conferences through the society and I pay membership directly with IEEE …. Why do I need a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have to make it attractive for the conference general chair to get them invol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sometimes asked for help too l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involved in local ev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specially new sections since they need  more expos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56A5-D212-41F1-825E-F7DB877E6C0C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with Region 10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between sections (say 7 or more secti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A number of conferences are asking co-sponsorship (sometimes from an OU from outside the countr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Can be useful to attract new members unless competing with IEEE established conferen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C3EA-8FCC-4C13-B3C8-6876170A87D1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5391-80FA-4B39-A2F0-2A89EA70CF11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 meetings should include an item on the agenda to discuss society – section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trengthen chapter – society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directly involved in local 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need to know if a society is doing an international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pter Coordination Subcommittee can spot conferences through their contact with societies and inform S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9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C38E-F5B7-4069-92D7-A3C375A9CCDF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2 Marcador de contenido"/>
          <p:cNvSpPr/>
          <p:nvPr/>
        </p:nvSpPr>
        <p:spPr>
          <a:xfrm>
            <a:off x="304920" y="1219320"/>
            <a:ext cx="8534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-sponsorship by OU outside Section should not be accep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ction Chair should be inform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uidelines from H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can prepare a marketing leaflet for some places that are excellent to host con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rket team to attract con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a reasonable schedule/planning and business plan 3 – 4 years in adv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timize results for Sections and Reg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87A5-1A3D-4488-B294-4700538BD782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joint conferences with Region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ain from the diversity in Region 8 and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hance relation with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oo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 a good practice man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8:21Z</dcterms:modified>
  <cp:revision>58</cp:revision>
  <dc:subject/>
  <dc:title>Slide 1</dc:title>
</cp:coreProperties>
</file>