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Text Box 2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3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639C68-8EF6-413B-9DE6-370EC19260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FD4E2B-EA58-4AF0-A4DD-712FF783462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DE4050B-D31C-421B-B669-815088753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995E2-C3D7-4D4E-AF8A-8A1891E12C0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78999B-1965-4432-9536-9C4C4735E84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00C929-1C23-4C25-ABFE-81AC87A0EAE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137AA-62C9-4FEE-8AC0-D7EABBB7542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590284E-CFF7-4817-B036-80ECAFAE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FFDBD3-6079-47D2-ADC4-0B4360E2DF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BD907-D51E-4177-9D9B-EA2E637C303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6179F-CE6A-44EB-9CF0-52C59C02061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EF45E8-7421-48CD-B340-354D0D5E518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1"/>
          <p:cNvSpPr/>
          <p:nvPr/>
        </p:nvSpPr>
        <p:spPr>
          <a:xfrm>
            <a:off x="1209600" y="693720"/>
            <a:ext cx="4437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79920" cy="419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3968D6-9E88-487B-97CE-AB50933737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1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D17FB35D-D473-485F-B023-71012721D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803C7A-A77C-428D-B8C3-07F2B51D16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3"/>
          <p:cNvSpPr/>
          <p:nvPr/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04/26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3884760" y="8685360"/>
            <a:ext cx="297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1D6075-5D31-4BA5-9707-C729AA4E40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BA9C4-AFEC-4A02-9500-1C6254677C1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266D0-8DF4-48F4-A117-103EA312B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76F8A5-2374-42A9-84E5-A44BFEF5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D8DE-05FB-46A2-AE96-8AA2B0C025A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17B10-FF8D-4EF1-A429-CD3061F5A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44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0720" y="198108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44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0720" y="4129920"/>
            <a:ext cx="25020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2456B4-2B24-4476-A911-3603EB24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E6BC2-D331-4BE2-819B-2E5738B0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6C9F10-CE43-43CF-8A4E-9B8005173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0B0CF-D02E-4613-8F3A-36A16F692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93058A-87C8-47F9-85DF-35EEFCDB5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7760" y="412992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14836-1D11-4C8C-93A0-FCCEE0063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7760" y="1981080"/>
            <a:ext cx="37918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709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773E1-E6BF-4FD9-9EA5-859B6227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3" descr=""/>
          <p:cNvPicPr/>
          <p:nvPr/>
        </p:nvPicPr>
        <p:blipFill>
          <a:blip r:embed="rId3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Apr 26, 200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520" y="6172200"/>
            <a:ext cx="684000" cy="3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6A51E-FFB5-487C-AAE0-DB0B7BBF6919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0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1"/>
          <p:cNvSpPr/>
          <p:nvPr/>
        </p:nvSpPr>
        <p:spPr>
          <a:xfrm>
            <a:off x="1295280" y="822240"/>
            <a:ext cx="716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4400" spc="-1" strike="noStrike">
                <a:solidFill>
                  <a:srgbClr val="ffffff"/>
                </a:solidFill>
                <a:latin typeface="Verdana"/>
              </a:rPr>
              <a:t>Caucus group no.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1185840" y="3962520"/>
            <a:ext cx="7577280" cy="18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Dirk Van Herte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Benelux section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2200" spc="-1" strike="noStrike">
                <a:solidFill>
                  <a:srgbClr val="005582"/>
                </a:solidFill>
                <a:latin typeface="Verdana"/>
              </a:rPr>
              <a:t>In conjuction with R8 SAC vicechair Eva Lang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grate at least one graduate student and one Gold member in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integrate at least one [graduate] student and one Gold member in their section ExC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our section will get visibility with young engineers, new fresh motivated volunteers are integrat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2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2724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ection presence at Branch meeting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sections chairs to report at least one visit of a section board member to a student branch activ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dentify future potential IEEE leadership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37960"/>
            <a:ext cx="7772400" cy="12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Motion 3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226880"/>
            <a:ext cx="8229600" cy="51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udent award at section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mo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o sections to create at least one student award in their section on the field they consider appropri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p to the section: Can be certifica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ward the young engineers and future potential IEEE leadership and encourage volunteer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Caucus no. 5: How to integrate Students and Young engineers in S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2"/>
          <p:cNvSpPr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69880"/>
                <a:tab algn="l" pos="1484280"/>
                <a:tab algn="l" pos="2398680"/>
                <a:tab algn="l" pos="3313080"/>
                <a:tab algn="l" pos="4227480"/>
                <a:tab algn="l" pos="5141880"/>
                <a:tab algn="l" pos="6056280"/>
                <a:tab algn="l" pos="6970680"/>
                <a:tab algn="l" pos="7885080"/>
                <a:tab algn="l" pos="8799480"/>
                <a:tab algn="l" pos="9713880"/>
                <a:tab algn="l" pos="10058400"/>
                <a:tab algn="l" pos="10515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e purpose of this focus group is to define guidelines for how  and where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to integrate student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and young professionals in the Sect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's everyday business. This group of IEEE members (more than one quarter of overall Region 8 Membership) shows great enthusiasm and motivation to bring in and implement new ideas. The workshop will focus on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how to manage this potential of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for the Section's benefit in reaching out to members, </a:t>
            </a:r>
            <a:r>
              <a:rPr b="0" lang="en-US" sz="2200" spc="-1" strike="noStrike">
                <a:solidFill>
                  <a:srgbClr val="ff0000"/>
                </a:solidFill>
                <a:latin typeface="Verdana"/>
              </a:rPr>
              <a:t>create a pool of good young volunteer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nd find a good balance between fresh blood and experienc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4D93E21F-7D24-4202-BA8E-E5F95AA00FF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mber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4000" y="1133640"/>
            <a:ext cx="8045280" cy="50320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rk Van Hertem (Benelux S. Representative)  -  Moderator/Chai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hanos Kakarountas (Greece S.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Vladimir Dimcev (Macedonia S.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elie Anglade (SAC member, UK&amp;RI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ablo Herrero (Students Rep., SAC,  Germany)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ahel Muhammad (R8 GOLD SubCommittee member, Egyp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drian Pais (IEEE GOLD Chair, Benelux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va Lang  - VC/SA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Karl Gudmundsson (Iceland section cha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Yasemin Baser (Isbir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Ece Sanci (ISBIR representative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uka Lugaric (SAC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Backside information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05920" y="1327320"/>
            <a:ext cx="89377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tudent branches can be very active and reach great result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ny good and willing volunteers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25% of IEEE R8 is student, most of them drop out after graduating. Arrears are much higher with students than with other members.  Why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igher du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Benefits not really clea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o contact with sec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blems with IEEE bureaucracy/paperwork (different addresses/emails,...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855720" indent="-3207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ow can we keep the good volunteers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active!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et them involved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ake them visible to fellow young engine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400" y="312840"/>
            <a:ext cx="8227800" cy="106344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s to hold offic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423720" indent="-3189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y full member including graduate student can hold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ny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fice within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chapte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also section chair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2372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Datumsplatzhalter 3"/>
          <p:cNvSpPr/>
          <p:nvPr/>
        </p:nvSpPr>
        <p:spPr>
          <a:xfrm>
            <a:off x="1219320" y="6172200"/>
            <a:ext cx="312264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11826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Freebies (these should come automatic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436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 fontScale="98000"/>
          </a:bodyPr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Section student representativ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=&gt; you should have one (is there a valid reason not to have one?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GOLD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(graduates of the last decade): start up an affinity grou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bmaster &amp; electronic communica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15080" indent="-3124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993600"/>
                <a:tab algn="l" pos="1908000"/>
                <a:tab algn="l" pos="2822400"/>
                <a:tab algn="l" pos="3736800"/>
                <a:tab algn="l" pos="4651200"/>
                <a:tab algn="l" pos="5565600"/>
                <a:tab algn="l" pos="6480000"/>
                <a:tab algn="l" pos="7394400"/>
                <a:tab algn="l" pos="8308800"/>
                <a:tab algn="l" pos="9223200"/>
                <a:tab algn="l" pos="101376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t there is no reason not to have a young person being the membership development chair 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or any other function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within the s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1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s-ES_tradnl" sz="3200" spc="-1" strike="noStrike">
                <a:solidFill>
                  <a:srgbClr val="005582"/>
                </a:solidFill>
                <a:latin typeface="Verdana"/>
              </a:rPr>
              <a:t>Meeting outc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2"/>
          <p:cNvSpPr/>
          <p:nvPr/>
        </p:nvSpPr>
        <p:spPr>
          <a:xfrm>
            <a:off x="685800" y="1125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xperiences in the different sections were shared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lready quite some sections had 2-4 students or young engineers (&lt;35 years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some good practice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ostly making use of the freebie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Inviting student branches to join ExCom meeting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SzPct val="102909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There are also some problems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experience old and fixed excom which does not believe in young engineers with voting rights at the ExCom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oung engineers for the “Freebies” is ok, but not for the res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000" spc="-1" strike="noStrike">
                <a:solidFill>
                  <a:srgbClr val="898989"/>
                </a:solidFill>
                <a:latin typeface="Arial"/>
              </a:rPr>
              <a:t>Apr 26, 2009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08B3BA06-500B-4F8C-988E-306C70A9B70F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Recommenda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ke a list of potential good candidates for future volunteering while they are stude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this list: bring them into contact with chapters, appoint them yourself and acknowledge their contrib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so Women in Engineering and professional activities are well suited for Y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561600"/>
            <a:ext cx="7772400" cy="12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Action 1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Title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vite student branch leaders to ExCom meet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posed ac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tion leaders shall adopt a policy to invite student branch leaders to the ExCom member on a regular bas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Financial implication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Pr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ntify new leaders for your se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C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649"/>
              </a:spcBef>
              <a:buClr>
                <a:srgbClr val="000000"/>
              </a:buClr>
              <a:buFont typeface="Verdan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n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6:33Z</dcterms:modified>
  <cp:revision>57</cp:revision>
  <dc:subject/>
  <dc:title>Slide 1</dc:title>
</cp:coreProperties>
</file>