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36222-BC88-4209-A132-83441A414A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9AAB-1D4B-406A-A221-C83B3E0D5D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63729-306B-4C5D-8ACA-E6CAECE0DF8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EC36-84DA-45EA-8F06-4F254CF44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33F2A-64AE-4B33-BC1D-D42CEDEC8A7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4C637-67FD-4AD9-A063-6A4FFC7A65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4678D-8A32-4C7E-8760-96E0B799C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31E31-F804-4D9E-AD19-491699D55BE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31D45-AA44-442E-8B58-94B53F31FCB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77347-3233-4BF7-B24B-33E145186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D7B8E-5CC2-46FB-ABC8-B919D1BF747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0E61-8BCA-4D8D-800C-23C9CDBD3F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4C6BD-5D8D-4302-AD4F-547FB74E8CD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5675D-FA2C-4001-9C15-68197D3ED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CDD7E-EECE-4C45-951F-A420B944E27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3F525-167D-4546-81A5-CC426873BD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2C077-5E0A-4A59-97AC-2FAC0895148D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66DD3-03CE-4F1D-82B6-3FAFBF6265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9C0E1-989A-412B-9F82-2B157646DA6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1ADE3-0ADF-4CF7-BE0C-8150985FF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714A-82CF-48D7-A172-9FB7DCB24A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430AE-064C-4E25-B8D8-401BD4AF1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F8B63-13CE-4B17-8991-DA262A05E6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112695-EB56-4855-B460-830112205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A625-8623-4930-98BB-6A0B19DC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44633A-7351-400B-86D8-EAD55553D91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0D32F2-8D9E-4DA7-9D3B-E94C11C3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43AB2-864B-4ABB-94D7-7CFDF8F87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EB5CC-A3AA-4657-A3DA-62A668CB4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B3E4B-9B57-4784-A0E8-401D930FB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289A5-21B1-44B8-85D3-360F083B1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6E7A5-C52D-44EE-A586-9B5B80568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69DDC9-AE71-4C90-8133-8B64F2969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865538-E75C-4AF3-9E8F-33CC9D69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33EF4-F251-4D49-8AA8-6026E783A58E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1FD5-C057-4E77-BBBA-028443FC9475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280" y="8218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Caucus group no. 8</a:t>
            </a:r>
            <a:br>
              <a:rPr sz="4000"/>
            </a:br>
            <a:br>
              <a:rPr sz="1400"/>
            </a:b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Participation of Sections in the Organization of IEEE Conferences in Region 8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886200"/>
            <a:ext cx="757728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5582"/>
                </a:solidFill>
                <a:latin typeface="Verdana"/>
              </a:rPr>
              <a:t>Carl James Debono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5582"/>
                </a:solidFill>
                <a:latin typeface="Verdana"/>
              </a:rPr>
              <a:t>Moderator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ank Yo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E83EE-4848-4425-9494-06DD5E74A23E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level of involvement Sections should have in Conferences organized within their regio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dentify the way forwar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pose standard practic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AACA7-9C74-45B8-AFBB-241FB420C0A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articipants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80880" y="1294920"/>
            <a:ext cx="4572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ohn Vi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ean-Gabriel Rem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mre Ruda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rancisco Sandov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ttar B. Sadkh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arian Kazmierkow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Jacob Baal-Sch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lexander Mikerov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rina Naidionov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niel Pasque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5FA1-B5C5-4C36-9CD4-C2A2902420D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2 Marcador de contenido"/>
          <p:cNvSpPr/>
          <p:nvPr/>
        </p:nvSpPr>
        <p:spPr>
          <a:xfrm>
            <a:off x="4572000" y="1219320"/>
            <a:ext cx="45720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urad Loul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hristine N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moakoh Gyasi Agye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not always informed about conferenc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ven though according to IEEE rules the Section has to endor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ocieties are stro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Why should Society need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 knows well the country (people, hotels, legal aspects, VAT, etc.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Sections can reach the whole engineering community (through good relation with local societie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84D0-FD62-4F77-B0CA-B99A601E5826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304920" y="11426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n the other hand – if I have conferences through the society and I pay membership directly with IEEE …. Why do I need a Section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have to make it attractive for the conference general chair to get them involv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are sometimes asked for help too l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involved in local ev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Especially new sections since they need  more exposur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5FD54-9D8F-4787-9C6C-D5B47D3D73C4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Poi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with Region 10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hould we have joint conferences between sections (say 7 or more section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 probl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A number of conferences are asking co-sponsorship (sometimes from an OU from outside the country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</a:rPr>
              <a:t>Can be useful to attract new members unless competing with IEEE established conferen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A0F4-9B65-49A8-BD7D-F679CC6C5B6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B2A54-A7E9-45F7-959A-76DC18ECF40C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 meetings should include an item on the agenda to discuss society – section rel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trengthen chapter – society re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should be directly involved in local confer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need to know if a society is doing an international con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hapter Coordination Subcommittee can spot conferences through their contact with societies and inform S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9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FBEF-D8BD-4D30-BCD8-8AA1502BAB7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2 Marcador de contenido"/>
          <p:cNvSpPr/>
          <p:nvPr/>
        </p:nvSpPr>
        <p:spPr>
          <a:xfrm>
            <a:off x="304920" y="1219320"/>
            <a:ext cx="85341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echnical co-sponso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-sponsorship by OU outside Section should not be accep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ction Chair should be inform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uidelines from HQ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ctions can prepare a marketing leaflet for some places that are excellent to host con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arket team to attract confere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a reasonable schedule/planning and business plan 3 – 4 years in adva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ptimize results for Sections and Reg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515DC-2CB7-4A55-806F-5B78229F1BF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2 Marcador de contenido"/>
          <p:cNvSpPr/>
          <p:nvPr/>
        </p:nvSpPr>
        <p:spPr>
          <a:xfrm>
            <a:off x="6858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ve joint conferences with Region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ain from the diversity in Region 8 and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hance relation with Region 1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Good Pract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velop a good practice manu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8:21Z</dcterms:modified>
  <cp:revision>58</cp:revision>
  <dc:subject/>
  <dc:title>Slide 1</dc:title>
</cp:coreProperties>
</file>