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5BBB-BD6C-4385-9911-5C656FDE5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CB65A-EC75-422C-BF24-DFDE22DA6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B455-FE43-483A-B447-494EF38C6B6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54FA-EBE7-4047-AB19-BFBF271B8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2AA2-4BBF-4805-9649-6FCD1F697060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B9276-723C-453C-909A-4998090C3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BF31-2403-4946-81EA-D83DFE8F659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5E3F4-AD40-4AB8-B80F-BCF4C238DC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1DF2-4C75-40DD-9146-EC586770E033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BF1AC-58B9-45B3-AD0E-94F829C60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13697-1AD6-4AC2-847B-A4DB54BE1D3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C7907-AC45-4A76-8768-CE20D51EC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D5395-8795-45F6-811C-ECC3755733B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78E66-1511-4055-939D-FEA52EB667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2D69-CA91-4F86-97D5-74A2BB84F447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EEBF5-1B66-4961-B2FC-EA6CE611F7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C2753-4B4D-4FC4-A1C5-358428B02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56267-24AB-4C8F-BAE8-EC353AAF935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E6EF4-254A-43AD-83F7-C55727F0E6A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0D01-9B7F-4089-8D5E-93BA051EF9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CDB48-2CA4-4826-A591-BD44F4FC7C9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ACE6C-B481-447F-952A-D79BD9DF3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C4391-C11E-4497-8662-553C93F7C7EB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2FC4-EA2A-4919-A4EB-24242E27C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C902A-AA7F-4674-99C6-46DF718CA3B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8BAE4-BB85-4B53-BBFD-D9FDB77C5A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2CE5B-ADBE-4918-BD91-B99E28B60AA8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7C97-3873-410D-B164-FCEFFDFD2A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7384-6BD1-4D9C-9CBE-A9FA5487FE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0C405-8F34-4F32-B3E1-2C377BF82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3 - Θέση ημερομηνίας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8D256-10AA-43BB-8A4A-8B7B0BAF625C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4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91983-7ED8-43AF-8D5D-3AC7D2851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823C42-C7F0-4F07-A06E-E7AB142F548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1D94E7-C421-4173-A6BA-18D0CBE4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809DE-510D-4C92-AC31-800ED8B8B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0122-47B0-443E-B900-D96BC06C30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C7D2A-DC68-466C-894F-A98D0C5E1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0BE5-43E0-4060-AF9A-5F9637D01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40A28-FC77-41E5-AAEB-39A7DD50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B3EF-9723-4864-B7CF-09D797C39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EA5D1-A81C-4042-9929-4C28CD50D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1519EB-F50A-43FE-9142-E5829D7AC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52673-B288-492E-B864-1BF45D0CF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576AA-1977-4356-B192-2BA67A4F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9BA58-2299-40BA-B39F-E544577D0BBF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26498-C3E9-40C8-8895-8F0D360BA27C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Caucus </a:t>
            </a:r>
            <a:r>
              <a:rPr b="1" lang="pl-PL" sz="4400" spc="-1" strike="noStrike">
                <a:solidFill>
                  <a:srgbClr val="ffffff"/>
                </a:solidFill>
                <a:latin typeface="Verdana"/>
              </a:rPr>
              <a:t>G</a:t>
            </a:r>
            <a:r>
              <a:rPr b="1" lang="es-ES" sz="4400" spc="-1" strike="noStrike">
                <a:solidFill>
                  <a:srgbClr val="ffffff"/>
                </a:solidFill>
                <a:latin typeface="Verdana"/>
              </a:rPr>
              <a:t>roup no. </a:t>
            </a:r>
            <a:r>
              <a:rPr b="1" lang="pl-PL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4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09120" y="3886200"/>
            <a:ext cx="8534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Andrzej Pacut, Poland Se</a:t>
            </a: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ction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	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Moderator / Chair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005582"/>
                </a:solidFill>
                <a:latin typeface="Verdana"/>
              </a:rPr>
              <a:t>In conjuction wit</a:t>
            </a:r>
            <a:r>
              <a:rPr b="1" lang="pl-PL" sz="2700" spc="-1" strike="noStrike">
                <a:solidFill>
                  <a:srgbClr val="005582"/>
                </a:solidFill>
                <a:latin typeface="Verdana"/>
              </a:rPr>
              <a:t>h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8 AdHoc Committee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 for Operations Review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2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83908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re are also numerous inconsistenc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al Director may approve an exception to any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of the guidelines stated in Section 9 …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…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le Section 9 includes such rules a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Region Chair may appoint additional voting members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(provided that their number) shall not be more than 1/4 the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number of Officers and Ex-Officio members, rounded up to 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next whole number….”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ich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 intended to prevent from filling the Region Committee with R8 Director supporter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his protection is cancelled by giving the Region Director the power to approve exceptions to the rules!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proposes that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8 should follow only those parts of the MGAB document which are compatible with R8 requiremen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– addditonal remarks 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AdHoc committee will welcome additional assistance in locating problem-clauses in the R8 Bylaws and in writing revisions to the R8 Bylaws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8 volunteers should work for a revision of </a:t>
            </a: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GAB manual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auses considered to be inappropriate. The needs of the USA Regions may differ significantly from the needs of some Regions outside USA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AdHoc Committee </a:t>
            </a:r>
            <a:r>
              <a:rPr b="1" lang="pl-PL" sz="3200" spc="-1" strike="noStrike">
                <a:solidFill>
                  <a:srgbClr val="005582"/>
                </a:solidFill>
                <a:latin typeface="Arial"/>
              </a:rPr>
              <a:t>-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Time Lin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dHoc committee will endeavor to operate according to the following time lin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raft version of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1" i="1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nd p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posals for 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R8 Bylaws </a:t>
            </a:r>
            <a:r>
              <a:rPr b="1" i="1" lang="pl-PL" sz="2400" spc="-1" strike="noStrike">
                <a:solidFill>
                  <a:srgbClr val="000000"/>
                </a:solidFill>
                <a:latin typeface="Verdana"/>
              </a:rPr>
              <a:t>changes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o be completed in time for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OpCom Review an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cceptance at the October 2009 </a:t>
            </a:r>
            <a:r>
              <a:rPr b="0" lang="pl-PL" sz="2200" spc="-1" strike="noStrike">
                <a:solidFill>
                  <a:srgbClr val="000000"/>
                </a:solidFill>
                <a:latin typeface="Arial"/>
              </a:rPr>
              <a:t>R8 Committee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eeting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rther discussion of issues related to the MGAB Operations Manual, the R8 Bylaws and the Operational Guidelin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to be continued 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until complet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ion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at the end of 2009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Financial operations of Section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Financial operation mod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legal statu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of Sections: various solutions, some on a border of being acceptable to IEEE or to local (taxation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i="1" lang="pl-PL" sz="2000" spc="-1" strike="noStrike">
                <a:solidFill>
                  <a:srgbClr val="000000"/>
                </a:solidFill>
                <a:latin typeface="Verdana"/>
              </a:rPr>
              <a:t>Region 8 covers many separate countries with totally independent legal systems, currencies and languages, and needs to operate harmoniously throughout this diverse environment”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Legal standing of Sections in their countries is a long-standing issue. In 2001-2002 there was a big effort to collect data on the situ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D: No generic solution, each Section is different (in UKRI: &gt;= 4 legal systems, 2 currencies); Caucus discussion may only raise awareness without creating solutio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o we have an embarassing disease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What CAN be don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collect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exemplary model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motion to act to fulfill long-promised action for </a:t>
            </a:r>
            <a:r>
              <a:rPr b="1" lang="pl-PL" sz="2200" spc="-1" strike="noStrike">
                <a:solidFill>
                  <a:srgbClr val="000000"/>
                </a:solidFill>
                <a:latin typeface="Verdana"/>
              </a:rPr>
              <a:t>IEEE to open accounts in local currenci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 for actions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51920" y="1219320"/>
            <a:ext cx="86108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Formalization of ideas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: 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commendation for ac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unds from R8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ar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 limited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; a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lternative funding may come from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Foundation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New Initiativ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Other source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 / E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xternal spons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5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Projects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ideas with no financial impact are welcom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For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 all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actions /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otions or projects consid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me fra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liverab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Metrics for evalu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onclusions – summary of results - t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 be presented by leader to 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mitte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92C0C-052B-41C9-83DF-9BC2DB65B53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5D65B-E0EC-4525-A879-BA5E478A17A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99434-C8CC-44A9-B327-1B9656125F58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EF6F0-58DB-49BC-95A7-759FA939A100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685800" y="531720"/>
            <a:ext cx="7315200" cy="55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582"/>
                </a:solidFill>
                <a:latin typeface="Verdana"/>
              </a:rPr>
              <a:t>Operations Review SubCommittee (ROSC) - AdHoc</a:t>
            </a:r>
            <a:br>
              <a:rPr sz="2800"/>
            </a:b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Tony Davies (UKRI) – Chair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Marko Delimar (Croati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Gerhard Hancke (SA)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Verdana"/>
              </a:rPr>
              <a:t>Rolf Remshardt (Germany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OpCom Responsible Member</a:t>
            </a:r>
            <a:r>
              <a:rPr b="0" lang="pl-PL" sz="2800" spc="-1" strike="noStrike">
                <a:solidFill>
                  <a:srgbClr val="005582"/>
                </a:solidFill>
                <a:latin typeface="Verdana"/>
              </a:rPr>
              <a:t>:</a:t>
            </a:r>
            <a:r>
              <a:rPr b="0" lang="en-US" sz="2800" spc="-1" strike="noStrike">
                <a:solidFill>
                  <a:srgbClr val="005582"/>
                </a:solidFill>
                <a:latin typeface="Verdana"/>
              </a:rPr>
              <a:t> Director Jozef Modelsk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85FB-57F6-40BA-8963-1F0E06A11851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9AFD-794F-4E18-BBC7-F5A5CA9F13A3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no.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2</a:t>
            </a: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: </a:t>
            </a: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Participants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ndrzej Pacut  (Poland S.Chair)   -  Moderator/Cha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Tony Davies  (Past Director,  ORSC Chai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urice Papo (Past Director,  Franc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harles Turner (Past Director,  PASC membe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Nihal Sinnadurai (IRSC member,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artin Bastiaans (SAC member,  Benelux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mine Aydal (PASC Chair,  UK&amp;RI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SzPct val="11513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78C76-713B-4BB6-B259-EF5173E65B5E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414F-0B54-4D4B-88CA-A391EA9DAB31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Recommendations (1)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1426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s Review Caucus considered, discussed and debated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ssues  and recommends that the Ad-Hoc Committee role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defined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 take on board the following recommendation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 fundamental chang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re needed in the role of the R8 Committee. Basic structure is well-suited to the needs. The authority of Region 8 will continue to be vested in the R8 Committee. Region 8 will remain unchanged geographicall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perations Manual for Region 8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ll be prepared which would provide, in an easy to read and informal way, an overall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larificati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of the objectives, procedures, practices and traditions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 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xisting R8 ByLaw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ll be fine tuned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only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if the changes cannot be phrased in the Operation Manu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Oper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Manual will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not be in conflic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with the new MGA ByLaw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Recommendations (2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dditionally, the following particular issues are recommended to be considered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Meetings of R8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ommittee and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ubcommittee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be managed to enable the members to network and work together for the benefit of all members in R8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ting committee meet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will continue to meet face to face at one common location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. Also, annual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o-locating all Sub-Committees to allow cross fertilisation and interaction with Section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hairs and other leaders is seen as a great benefit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will be continu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second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8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mmitte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nd Subcommitties 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meeting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will be held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bu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migh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xploit available audio-visual meeting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 t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echnologi</a:t>
            </a:r>
            <a:r>
              <a:rPr b="1" lang="pl-PL" sz="2000" spc="-1" strike="noStrike">
                <a:solidFill>
                  <a:srgbClr val="000000"/>
                </a:solidFill>
                <a:latin typeface="Verdana"/>
              </a:rPr>
              <a:t>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whereby groups of section chairs may gather at a few locations and confer by video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udio and data links, which shall include opportunities for individual speakers to be made visible at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ll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loc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he financial issue of v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ry small section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hall be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taken into conside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456840"/>
            <a:ext cx="807732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Report Summary 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(</a:t>
            </a: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1</a:t>
            </a:r>
            <a:r>
              <a:rPr b="1" lang="pl-PL" sz="2800" spc="-1" strike="noStrike">
                <a:solidFill>
                  <a:srgbClr val="005582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last major revision of the R8 Bylaws (the ‘Maurice Papo’ version) have proved to be an effective basis of operation, and stood the test of ti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rrect some omissions/ambiguities/inconsistenci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rify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gre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urpose and structure of the R8 Committe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-drafting requires skilled attention to detai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e role of the R8 Committee, and the R8 contribution to IEEE as a whole: no fundamental changes needed. Basic structure (3 V-Chairs) well-suited to the need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Better management of R8 Committee-initiated activities is needed, with clarification abo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mmittee participa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(voting, non-voting, not members)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hich officers appoint who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ul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ppointed members be voting membe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1513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rmation of small Sections ha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consequ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ces for the R8 budge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requir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&gt;&gt; 50 members before a new Section is approved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one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R8 Committee meetings </a:t>
            </a: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per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year for Sections with &lt;200 memb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76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900" spc="-1" strike="noStrike">
                <a:solidFill>
                  <a:srgbClr val="000000"/>
                </a:solidFill>
                <a:latin typeface="Arial"/>
              </a:rPr>
              <a:t>change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very small Sections Sub-Section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tee (2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Examples of inconsistencies / ambiguitie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917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current R8 bylaw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The Vice Chair, Student Activities, shall be responsible for presenting to the Region 8 Director a nomination for the Student Representative appointed position”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clear if this is the only source of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mination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may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gion 8 Director make an alternative appointment regardless of whether other nominations are ma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 is not certain that the Region 8 Director need appoint anyone since another clause state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“…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Other members such as a Student Representative, may be appointed without voting privileges….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other two Vice Chairs are given responsibility to appoint their own subcommittees, so it is odd that the Vice Chair, Student Activities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380880"/>
            <a:ext cx="899172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AdHoc Commitee (3): </a:t>
            </a:r>
            <a:br>
              <a:rPr sz="2800"/>
            </a:br>
            <a:r>
              <a:rPr b="1" lang="pl-PL" sz="2800" spc="-1" strike="noStrike">
                <a:solidFill>
                  <a:srgbClr val="005582"/>
                </a:solidFill>
                <a:latin typeface="Verdana"/>
              </a:rPr>
              <a:t>Need of interpretations</a:t>
            </a:r>
            <a:endParaRPr b="1" lang="en-US" sz="28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terpretation of bylaws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may be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source of potential difficult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47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AdHoc </a:t>
            </a:r>
            <a:r>
              <a:rPr b="0" lang="pl-PL" sz="22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mmittee recommends that there should be a document forming the </a:t>
            </a:r>
            <a:r>
              <a:rPr b="1" i="1" lang="en-US" sz="2200" spc="-1" strike="noStrike">
                <a:solidFill>
                  <a:srgbClr val="000000"/>
                </a:solidFill>
                <a:latin typeface="Verdana"/>
              </a:rPr>
              <a:t>Operational Guidelines for the R8 Committee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which would provide, in an easy to read and informal way, an overall explanation of the objectives, procedures, practices and traditions of the R8 Committee.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ailability of R8 Operational Guidelines i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 urgent need  valuable to both experienced and new volunteer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 major start has been made on preparing a draft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1513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ylaws 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vs Guideli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bylaws updating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requires a formal procedure, with adherence to rules and timescales</a:t>
            </a: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hould be infrequen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endments to Operational Guidelines can be made much more easily, and supplementary explanations can be added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280" y="609480"/>
            <a:ext cx="88394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5582"/>
                </a:solidFill>
                <a:latin typeface="Verdana"/>
              </a:rPr>
              <a:t>MGA Board Operation Manual (1) 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29492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GA Board Operations Manual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replaced old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AB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manua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but there ar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rts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not in the interests of R8 to follow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lustrative example</a:t>
            </a: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 1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8 has a Student Activities Committee, regarded as active and successful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which currently has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 describes a type of Region Student Activities Committee w</a:t>
            </a:r>
            <a:r>
              <a:rPr b="0" lang="pl-PL" sz="2100" spc="-1" strike="noStrike">
                <a:solidFill>
                  <a:srgbClr val="000000"/>
                </a:solidFill>
                <a:latin typeface="Arial"/>
              </a:rPr>
              <a:t>hich would have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bout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member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 (in R8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Verdana"/>
              </a:rPr>
              <a:t>Illustrative example 2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GAB documents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o suggestion of a Region having a Vice Chair for Student Activiti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e concept of Vice Chairs appears unique to R8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dHoc committee is strongly of the opinion </a:t>
            </a:r>
            <a:r>
              <a:rPr b="0" lang="pl-PL" sz="2100" spc="-1" strike="noStrike">
                <a:solidFill>
                  <a:srgbClr val="000000"/>
                </a:solidFill>
                <a:latin typeface="Verdana"/>
              </a:rPr>
              <a:t>that this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hould be retain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2:36Z</dcterms:modified>
  <cp:revision>93</cp:revision>
  <dc:subject/>
  <dc:title>Slide 1</dc:title>
</cp:coreProperties>
</file>