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B3EE5-6DE6-4AF4-8F3B-E678A444FE1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0BE3A-7A28-4BF5-881A-F6725A35B8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F8D07-E9D7-4B7D-A7AA-D96DBAAC4EF5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C2A1-5E94-4F2B-980B-194ABD6D60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9D090-2A5B-4168-9957-A3951D24E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9E8A4-55F0-4397-86C9-CB3B5C63860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EEED6-4FF3-434C-A3C8-B250B38DB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F681-7D28-4CBE-8F11-3F10AE8E303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0D5D5-DA27-48DC-8D77-768E978E9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DB13-6176-4F7C-94F0-F1798D082816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Marcador de fecha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0FDAB-176C-4613-BB44-E87FFF081AB4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4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FAED8-21DE-4CD9-A805-3EDCD66DB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05AF7-E9BD-4532-BDC5-12ADEB7EAA4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D37C4-A6F9-49BF-A0B2-6089766A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B9025-394B-4162-9BCC-D7ACBF152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C74F1-11B2-4692-995F-4494CBA8AA6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CA949-4431-4801-BE88-A45F8ADBAF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A0E6-C9EE-443E-A00C-20E994637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DB69C-7081-4E1A-85C1-90169CBE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F89A17-1897-4725-B453-0EF0B014B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618B4-1584-419E-81B5-47B19C273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69CB52-19ED-49B3-8C66-A25801843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C72C-48A4-4275-B3F6-DBCF0257A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92F22-CD44-4760-975B-78036CE9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3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Picture 4" descr="IEEE_125_cmyk.png"/>
          <p:cNvPicPr/>
          <p:nvPr/>
        </p:nvPicPr>
        <p:blipFill>
          <a:blip r:embed="rId4"/>
          <a:stretch/>
        </p:blipFill>
        <p:spPr>
          <a:xfrm>
            <a:off x="8001000" y="5862600"/>
            <a:ext cx="914400" cy="538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38A5-4F5E-445B-8E28-863E2431BCFA}" type="datetime5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53316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D018-1396-461B-8152-1F4A0662CD60}" type="slidenum">
              <a:rPr b="0" lang="en-US" sz="10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IEEE_125_cmyk.png"/>
          <p:cNvPicPr/>
          <p:nvPr/>
        </p:nvPicPr>
        <p:blipFill>
          <a:blip r:embed="rId3"/>
          <a:stretch/>
        </p:blipFill>
        <p:spPr>
          <a:xfrm>
            <a:off x="7772400" y="6019920"/>
            <a:ext cx="1143000" cy="6728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582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808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94920" y="82188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Caucus group no. 1</a:t>
            </a:r>
            <a:br>
              <a:rPr sz="4000"/>
            </a:br>
            <a:br>
              <a:rPr sz="4000"/>
            </a:br>
            <a:r>
              <a:rPr b="1" lang="es-ES" sz="4000" spc="-1" strike="noStrike">
                <a:solidFill>
                  <a:srgbClr val="ffffff"/>
                </a:solidFill>
                <a:latin typeface="Verdana"/>
              </a:rPr>
              <a:t>IEEE Visibility</a:t>
            </a:r>
            <a:endParaRPr b="1" lang="en-US" sz="40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185840" y="3962520"/>
            <a:ext cx="7577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IEEE Germany Section Chai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5582"/>
                </a:solidFill>
                <a:latin typeface="Verdana"/>
              </a:rPr>
              <a:t>Dr.-Ing. Andreas Lux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Caucus group No.1 “Visibility”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0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50A62-40A5-4B4A-872B-5E09458C0623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12A4-E807-4319-8E25-3642303CB30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"/>
          <p:cNvPicPr/>
          <p:nvPr/>
        </p:nvPicPr>
        <p:blipFill>
          <a:blip r:embed="rId1"/>
          <a:stretch/>
        </p:blipFill>
        <p:spPr>
          <a:xfrm>
            <a:off x="1494000" y="1523880"/>
            <a:ext cx="6156000" cy="46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Objectives - general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28240" y="1219320"/>
            <a:ext cx="853452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Think about the actions, ideas, initiatives in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IEEE at lar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Region 8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ection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Othe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nd on t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Scientific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Commerci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649"/>
              </a:spcBef>
              <a:buClr>
                <a:srgbClr val="80808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Verdana"/>
              </a:rPr>
              <a:t>Academic level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B1C3-28F5-4047-8A2C-2C8B4489378A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4C0C-C7EB-4AF2-AF4D-22E63D77468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5582"/>
                </a:solidFill>
                <a:latin typeface="Verdana"/>
              </a:rPr>
              <a:t>What we are going to do</a:t>
            </a:r>
            <a:endParaRPr b="1" lang="en-US" sz="3200" spc="-1" strike="noStrike">
              <a:solidFill>
                <a:srgbClr val="005582"/>
              </a:solidFill>
              <a:latin typeface="Verdana"/>
            </a:endParaRPr>
          </a:p>
        </p:txBody>
      </p:sp>
      <p:sp>
        <p:nvSpPr>
          <p:cNvPr id="98" name="Date Placeholder 3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B675-851F-413C-89AA-B6EC8DD54FD0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4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36A9-2AAF-4509-8879-028488C846BD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304920" y="2666880"/>
            <a:ext cx="8610480" cy="106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Verdana"/>
              </a:rPr>
              <a:t>Thank you for your atten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3 Marcador de fecha"/>
          <p:cNvSpPr/>
          <p:nvPr/>
        </p:nvSpPr>
        <p:spPr>
          <a:xfrm>
            <a:off x="1219320" y="6172200"/>
            <a:ext cx="3124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02C71-030C-4176-A150-B3E2D35969FF}" type="datetime5">
              <a:rPr b="0" lang="en-US" sz="1000" spc="-1" strike="noStrike">
                <a:solidFill>
                  <a:srgbClr val="898989"/>
                </a:solidFill>
                <a:latin typeface="Arial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4 Marcador de número de diapositiva"/>
          <p:cNvSpPr/>
          <p:nvPr/>
        </p:nvSpPr>
        <p:spPr>
          <a:xfrm>
            <a:off x="533520" y="6172200"/>
            <a:ext cx="685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A5140-0227-46C8-9F3B-99EB181C1838}" type="slidenum">
              <a:rPr b="0" lang="en-US" sz="10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4:29:15Z</dcterms:created>
  <dc:creator>Yolanda Paskovich</dc:creator>
  <dc:description/>
  <dc:language>en-US</dc:language>
  <cp:lastModifiedBy>Windows User</cp:lastModifiedBy>
  <dcterms:modified xsi:type="dcterms:W3CDTF">2009-05-03T15:27:25Z</dcterms:modified>
  <cp:revision>68</cp:revision>
  <dc:subject/>
  <dc:title>Slide 1</dc:title>
</cp:coreProperties>
</file>