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9F6DC-A486-4D73-9B6D-B2544C98161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F54B-ACF9-4085-91FE-2CFB6E1B7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30C67-F941-4213-B558-F4B24E639F2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76FBA-0F25-471B-B7CD-8F1749A6FC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12B67-FCBA-4F82-942C-E63D25D90D9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84A3B-41F0-4A75-8B90-F17839C30F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FB930-43CB-4D11-99B9-D59261DE1A1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CBB0-43AB-48E6-BFE6-B4A60F078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A437-7810-4C02-97DC-1F23722F199A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16438-77BE-454C-A5EF-9A9F574202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0FFB-3091-4436-A439-E93E5810DB2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8AC6-FFEE-4DA8-9861-E4923FC5B9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03A48-0BAC-46B8-BD86-25C70BF8258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41E5-AEA2-4D1F-B00E-AEDDA32D49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6FB4B-6CB9-4136-8CC4-38D4A8BD83F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1EE4-3A91-47EC-94D5-1BDBF14DE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71D5D-ABE2-4B57-9461-22C852D1B0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4EEE0-C9F9-42F0-91AF-3CDDD1F3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8FD6E0-27FA-4922-BF43-2AD98A47E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5B090-F194-4181-A4A4-AABD63E983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01E59-9EE4-4ABB-ABDF-5649783A8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F8194-1BAA-48AA-AB19-46337D320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1108C-6A73-41D1-B0C5-F5CEC7DB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9BABF-A9CD-46C8-B0EF-C5F7E53B9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689F5-1B04-47C8-B405-69ADA39A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45511-0703-4C70-AFA1-07F52D65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70D3E9-790C-47F9-B0A9-58EEFF79E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26C1D-2388-453B-9AFC-47D1CD4AF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40308-CAAA-4A97-8191-9E674AD29F68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325B-E4BA-409A-A9B1-F104D9171B94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9</a:t>
            </a:r>
            <a:br>
              <a:rPr sz="4000"/>
            </a:br>
            <a:br>
              <a:rPr sz="4000"/>
            </a:br>
            <a:r>
              <a:rPr b="1" lang="en-GB" sz="3600" spc="-1" strike="noStrike">
                <a:solidFill>
                  <a:srgbClr val="ffffff"/>
                </a:solidFill>
                <a:latin typeface="Verdana"/>
              </a:rPr>
              <a:t>Improving Industry Participation in IEEE R8 Sponsored Conferences</a:t>
            </a:r>
            <a:r>
              <a:rPr b="1" lang="en-GB" sz="3600" spc="-1" strike="noStrike">
                <a:solidFill>
                  <a:srgbClr val="005582"/>
                </a:solidFill>
                <a:latin typeface="Verdana"/>
              </a:rPr>
              <a:t> </a:t>
            </a:r>
            <a:br>
              <a:rPr sz="4800"/>
            </a:br>
            <a:endParaRPr b="1" lang="en-US" sz="36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Group members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09480" y="1371600"/>
          <a:ext cx="8534520" cy="4784760"/>
        </p:xfrm>
        <a:graphic>
          <a:graphicData uri="http://schemas.openxmlformats.org/drawingml/2006/table">
            <a:tbl>
              <a:tblPr/>
              <a:tblGrid>
                <a:gridCol w="8534520"/>
              </a:tblGrid>
              <a:tr h="478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rje Gjengedal           Norway ( Moderator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Joao Costa-Freire        Portug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rhan Ozkan, 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urt Richter,                 Austr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acob Al-Mulla            Qatar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vid Law                   UKR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esa Bastaki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	</a:t>
                      </a: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     U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hmad Al Naamany    O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rik Stilling                  Denm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őklan Gelebi,            Turke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mu Mushcab          Saudi-Arab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5582"/>
                </a:solidFill>
                <a:latin typeface="Verdana"/>
              </a:rPr>
              <a:t>Background: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380880" y="10666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articipation (outside R&amp;D) in R8 sponsored conferences is very wea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dustry perceives that IEEE conferences are more suitable for academic and research professionals rather than addressing industrial issu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ow to improve industry participation in R8 sponsored Conferences, resulting in changing industry perception about our conferences</a:t>
            </a:r>
            <a:r>
              <a:rPr b="0" lang="nb-NO" sz="3200" spc="-1" strike="noStrike">
                <a:solidFill>
                  <a:srgbClr val="000000"/>
                </a:solidFill>
                <a:latin typeface="Verdana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8960" indent="-318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7F947-EBCC-4073-B450-4877EB574E25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42361-D8CF-4623-B45C-1103938C2707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Some possible reasons for the current lack of interest from Industry Sector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67616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es not give me th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pics, papers are not releva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o theoretical and to little on applications, experiences etc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ot my preferred meeting place- others are more attractive and gives me more benefi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1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me of the conference should be attractive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industry members in Org. C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ite industrial sessions/track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clude special topics of interest for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.g. on standards, applications, experiences, best practices++++++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enever possible industrial exhibitions are recommen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Recommendations to be adopted by CCSC to  increase Industry participation (2):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w the industry participants to submit only abstract reviewed and PP pres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fP should clearly state requirements for industrial present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pproach and network with industry as early as possible – build their interes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mphasize on advertisement to indust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5582"/>
                </a:solidFill>
                <a:latin typeface="Verdana"/>
              </a:rPr>
              <a:t>Final Recommendation: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se recommendations  should be adopted by Conference Coordination SC to improve industrial particip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3:34Z</dcterms:modified>
  <cp:revision>18</cp:revision>
  <dc:subject/>
  <dc:title>Slide 1</dc:title>
</cp:coreProperties>
</file>