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A617-7B93-4ED4-BFF6-8682B2624A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C4BE-FC78-49C1-A7B5-81C5BBFD6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E9A4-906F-4D5E-9901-BBDA0F98714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08AA-C5F9-458E-929F-762A0FFC8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C040-9ACD-4BCD-B8A0-B5D1A52C968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2B77-3CA3-41C8-8E6C-D33A93C2A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3A8A-77F9-4308-B031-1FC7BDF1C59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7DCD-68F5-468E-96D7-DB9952782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964D-6737-4867-B1EC-2D4CB1530ED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0D8F-4C1A-45DB-92DA-121BCBC40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97D2C-7902-49FA-9BF6-5CFB5434147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FF04-61DC-473D-8CFE-C138DF760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964B-2724-4D30-9D73-E4C31FDE7F7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B16E-F650-4126-97E0-33765EB38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83CD-4338-482A-A0A6-A9F3133D4B0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0F05-5599-4D2A-B7D8-0779C0F3E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4D334-E1BD-4F3E-BE96-B34F31CDC9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A2A0B-E4CF-4881-8A29-8892EF93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27882-90D4-4FA0-AD69-90BB51C4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9CE9B-FBD2-4E4F-99AA-3575AC9053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DFE2A-A8BD-47D9-8FD8-6A04BC6A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F9FDA-C960-4F05-B5D3-193A0EFE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8C8DF-7EAC-4837-BECA-E2F815F0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3798F-B84B-4427-A942-282A26856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D0C51-5DE7-4F91-BEBA-B67E5D5A7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8A7F0-75C2-4B30-A474-C4D02DF6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58422-7595-471A-B8EC-B1C0EAD4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77E2D-91BF-454D-9529-044D0BA6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5556-3A9C-4E1C-985F-91CE47D21956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0353-499C-4ADB-85A3-8DE3D07AC0C8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Caucus group no. 9</a:t>
            </a:r>
            <a:br>
              <a:rPr sz="4000"/>
            </a:br>
            <a:br>
              <a:rPr sz="4000"/>
            </a:br>
            <a:r>
              <a:rPr b="1" lang="en-GB" sz="3600" spc="-1" strike="noStrike">
                <a:solidFill>
                  <a:srgbClr val="ffffff"/>
                </a:solidFill>
                <a:latin typeface="Verdana"/>
              </a:rPr>
              <a:t>Improving Industry Participation in IEEE R8 Sponsored Conferences</a:t>
            </a:r>
            <a:r>
              <a:rPr b="1" lang="en-GB" sz="3600" spc="-1" strike="noStrike">
                <a:solidFill>
                  <a:srgbClr val="005582"/>
                </a:solidFill>
                <a:latin typeface="Verdana"/>
              </a:rPr>
              <a:t> </a:t>
            </a:r>
            <a:br>
              <a:rPr sz="4800"/>
            </a:br>
            <a:endParaRPr b="1" lang="en-US" sz="36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Group members: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09480" y="1371600"/>
          <a:ext cx="8534520" cy="478476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47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je Gjengedal           Norway ( Moderato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ao Costa-Freire        Portug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rhan Ozkan,             Tur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rt Richter,                 Aust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acob Al-Mulla            Qatar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vid Law                   UK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esa Bastaki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UA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hmad Al Naamany    O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ik Stilling                  Denma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őklan Gelebi,            Tur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mu Mushcab          Saudi-Arab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5582"/>
                </a:solidFill>
                <a:latin typeface="Verdana"/>
              </a:rPr>
              <a:t>Background:</a:t>
            </a:r>
            <a:endParaRPr b="1" lang="en-US" sz="4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dustry participation (outside R&amp;D) in R8 sponsored conferences is very wea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dustry perceives that IEEE conferences are more suitable for academic and research professionals rather than addressing industrial iss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ow to improve industry participation in R8 sponsored Conferences, resulting in changing industry perception about our conferences</a:t>
            </a: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8AB1-417F-4F46-8B48-9484DCABD7AF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99F2-861F-49D1-8282-FCBF3CF67635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Some possible reasons for the current lack of interest from Industry Sector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es not give me the benef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pics, papers are not relev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o theoretical and to little on applications, experiences etc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 my preferred meeting place- others are more attractive and gives me more benef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Recommendations to be adopted by CCSC to  increase Industry participation (1):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me of the conference should be attractive to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industry members in Org. C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ite industrial sessions/trac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special topics of interest for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.g. on standards, applications, experiences, best practices++++++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ever possible industrial exhibitions are recomm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Recommendations to be adopted by CCSC to  increase Industry participation (2):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w the industry participants to submit only abstract reviewed and PP pres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fP should clearly state requirements for industrial present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roach and network with industry as early as possible – build their inter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hasize on advertisement to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582"/>
                </a:solidFill>
                <a:latin typeface="Verdana"/>
              </a:rPr>
              <a:t>Final Recommendation: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se recommendations  should be adopted by Conference Coordination SC to improve industrial particip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3:34Z</dcterms:modified>
  <cp:revision>18</cp:revision>
  <dc:subject/>
  <dc:title>Slide 1</dc:title>
</cp:coreProperties>
</file>