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ADD9-7191-4E69-B09A-BCF467B882C5}" type="datetime">
              <a:rPr b="0" lang="en-US" sz="1300" spc="-1" strike="noStrike">
                <a:solidFill>
                  <a:srgbClr val="000000"/>
                </a:solidFill>
                <a:latin typeface="Times New Roman"/>
              </a:rPr>
              <a:t>07/28/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0766-4C62-46F9-B837-52CA5065D7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CEAC-1702-45E3-AA0A-7A63E7DEB475}"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62A9-9802-4580-A925-90995C55B8B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4D8F-29EC-436B-835B-105A4A420225}"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9DE0A-BA25-42B4-B7BC-C9A699BD93E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0C0E-EA27-45C6-ACEC-7EDFE8FAC1B9}"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6C46-68D6-47EA-833B-4856007C6EB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8B27A-7EBC-48BA-AEEE-F71CEFDC037E}"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FCC0-AABC-4521-A6B6-69090B8A061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35A1A-47D6-424E-A276-A272A32A2962}"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EED1-0197-4D64-B095-E8A5AA907A1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994C-F561-4103-8AC2-7C1BAB35B7B3}"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9AF31-32D8-4EAD-AA5C-962D94A044A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1E6538-2D51-4B2F-A345-FA5BC51F232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64ED3ED3-ACAB-4A3E-81CB-7EC91C35C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C0A32100-AE45-4229-88CB-3CADFB948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4DA8364A-8658-4E06-A0D4-16F799E4454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82A4AAA3-02D1-4438-9A12-C241F0EF3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C965A8F5-B2CF-4DAB-B1AC-1CC0ED8F5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F7DCD2B4-043E-4295-BED6-D35750335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90D38424-A7EA-40EA-ACDE-2B97EDFC2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5623864-941C-4E62-A7F1-D511EC8E0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0EA52043-D5F4-4E84-A0CA-D3C8F5EC6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5CC7C983-6E17-449F-80C4-CAFCFD4E3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D391335F-FDF3-487B-95F3-4BF754D068D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5D26-EF9E-4A3E-BD17-955EB4DE9FAD}" type="datetime5">
              <a:rPr b="0" lang="en-US" sz="1000" spc="-1" strike="noStrike">
                <a:solidFill>
                  <a:srgbClr val="898989"/>
                </a:solidFill>
                <a:latin typeface="Times New Roman"/>
              </a:rPr>
              <a:t>Jul 28,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2431-A42D-4570-8C1C-6EF9FC61C750}"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86EF-B705-4B59-9D15-E9BA1CCE190E}"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2A702-F433-4ECD-A908-8761E7142E6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88DB-9209-48D0-A7F9-96C2FA32198B}"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4EA3-18AB-4438-A173-3AAFFA489BD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0E16-B339-4026-8556-75EEDC2EF1D5}"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C4BD-0906-417E-A26C-E321FEEC980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B6C0-253A-41CE-8099-D0CAD0504950}"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37D9-3CF3-401B-A097-021E50BB4AE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BFF98-1308-4BC3-B734-14FBEA8211C7}"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2490-84E5-4499-99CA-6D00FB97252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4FA8-C93B-4B9A-8433-B865F59A801E}"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6B98-5443-4F31-BCB8-81635E51C45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76920-E0F4-4F0B-92A6-F5CC621C3F5A}"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EDFE-4BFF-4A5C-BFD8-C544A531074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75B6F-A594-4198-9511-BB2BC485F7BB}"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8F01-C2D3-45F2-9971-91DDF590583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04EC-3F01-4C1E-976A-DCE833E7538D}"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24E2-D9A3-4594-9E15-5A8DDA0693B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