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5DDD-D61C-4B85-9413-8612730B868D}" type="datetime">
              <a:rPr b="0" lang="en-US" sz="1300" spc="-1" strike="noStrike">
                <a:solidFill>
                  <a:srgbClr val="000000"/>
                </a:solidFill>
                <a:latin typeface="Times New Roman"/>
              </a:rPr>
              <a:t>07/31/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C3F5-3D43-40E0-BF62-0DBEC9A611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2A3C-85DF-4E20-9AF9-3675A330E7CF}"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F487-24B3-4952-B380-7DDB0A4669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DBF7-FBC3-410A-85F3-A02B780F4A40}"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36D6-49DD-422D-928C-D7305FE2A91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F664-E7A2-4840-B395-6F3ED04F77FB}"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6F90-ABD5-4CD8-B3FC-CACEC2D2B09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8ACE-6C41-4A39-A91C-51C3CD1E1CEC}"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460B-A2DB-47DB-85E0-647450691C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0105-FCAE-4694-B7D4-37490C382C24}"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1690-7F95-4008-89E6-33B6C3C20D5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9B60-2B05-4788-800B-712546C51B56}"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F04A-C77B-4E6A-B52B-CBF5F484CC1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027FB1-9335-4A5A-A2C7-0C6DDB14D62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5E9F5092-08E5-410F-AA70-FE7A80419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17832757-6A41-4B0C-81BF-6992FE566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FEDDC567-6B08-44A1-B3D6-98F31A452A2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47B374BF-080A-485D-A3A1-465418F4B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8CEF7CBF-8660-414E-96B4-2E67BCC8B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BBE30CEC-C367-4984-9952-A39588FCB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05181279-B3D2-4C83-993F-FC2F6A5FF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7BDF719-A014-4DC7-9E64-6EFE27CDF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8A39724-C2D6-408C-A2F9-664CA37B9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674B7993-2BC7-4E49-9538-FA286435B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747A559-C9D6-468A-B373-D257E57261F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D9A7-441E-45CA-BD74-70B546900263}" type="datetime5">
              <a:rPr b="0" lang="en-US" sz="1000" spc="-1" strike="noStrike">
                <a:solidFill>
                  <a:srgbClr val="898989"/>
                </a:solidFill>
                <a:latin typeface="Times New Roman"/>
              </a:rPr>
              <a:t>Jul 31,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E30B-82D7-4AC7-915B-17B0FF55E6E3}"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350B-50FE-4896-8AFB-0013279CFCA8}"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D30D-2180-4C38-A288-3F16E108424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2B3E-FC10-4627-85A6-2BF2ADF3BA61}"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968C-CD58-4D77-AE38-D350ECD5BC5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5C01-C0A9-4449-82A6-8406CF8B9309}"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934F-71ED-4C10-9358-7FC6A94559B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3AD2-8510-4735-97A4-DA3B3147655D}"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0010-E566-408C-9C2A-C92A0B141E2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626F-42F8-4AB8-9830-1434696B3EFA}"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FC1B-4D84-4808-80E3-EF922272212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8E6F-D46E-406C-A20A-8578BC087B19}"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3359-B131-4A41-91C6-9331285B0F7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80C7-ABAE-4A4D-B94B-C1CE5C6BF589}"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7804-37F6-480B-A5EA-FDD14068D7F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3F1A-A828-4BBF-B892-734DC8AFF2E7}"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A820-638C-46AA-B471-EA6EA7EB72C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3B9F-55BE-475C-8403-855AEE8ABE5B}"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F50A-F44F-46E7-807C-0CD44F17514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