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903C-E529-4CAB-957F-AF8A6869F89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6F49-BB70-42F7-8FEA-0AD493EFC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6EE4-9E08-4E2A-AE08-5455EE5C15D9}"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B58D-D391-46B6-8213-A9A38FB03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5D8A-1D4F-4E78-B976-191E0857355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99A3-2215-4ECA-95E8-E23D5EAE9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E01A-ABAD-4EEF-BB39-D4F6BE1B6FE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573F-2499-481F-8116-6BB5D73BD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AEFC-AB6C-4D03-9D61-27A18618E24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5362-D9D0-4AFB-8F1F-AE9C55059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3B28-9F25-4DAC-885B-C4B77D3333E9}"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A828-BBD3-43D1-B8AE-9F4511D42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0525-113B-41CB-9AE0-BF9965F7979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32FE-7C91-48A3-B581-2D7E8618F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198E-839B-4018-8EE3-6DAA89530DA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C1BB-A5AB-4CC7-B62D-7E2763D3D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AC46-87EE-4A6B-A663-7233D61D906D}"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CD1A-ED92-4BFB-BEB8-2C8DEA627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3419-0FD0-4B76-B756-7F4F11E16CC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2177-F610-4C8D-A542-1D1DB3DF4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EC6A-5D1D-4336-9471-871B6D27A92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E470-DCFF-4EF8-B214-73A7B8D6F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B012-2B6D-4F31-A036-A36C9EC91E2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D812-489C-4D04-9FF7-5441630F4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6428-222D-41E7-9794-AEA9AD85A5E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5DF67-05D0-4D44-A514-E37CE8C95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BE0066-94CF-4890-9EF9-AB796A8889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CFBCB24E-768B-43DE-B0B9-1A535E899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934B4985-5187-4B45-8B80-CE88BB696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88E296D0-7FF3-41FB-BC96-BF0B7CBD38A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63FE4710-05B4-4DB3-8CA8-56AAFB407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9AFCC830-8573-4A30-8F6D-E46D60E27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BCDD7A11-58BB-400C-8FB6-5F132264D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902540E8-10AF-4508-A3D0-8E041E9DD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227983B-F08C-4EAC-9B42-7E326F4F2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3192C7A-9B94-4EFB-BAC0-F48109358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590DDCAC-05A6-477F-8D87-5524FA316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B533DF91-553E-43D1-90FD-B44689D5C34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0388-5897-465D-BD91-FACEDFB45F9D}" type="datetime5">
              <a:rPr b="0" lang="en-US" sz="1000" spc="-1" strike="noStrike">
                <a:solidFill>
                  <a:srgbClr val="898989"/>
                </a:solidFill>
                <a:latin typeface="Times New Roman"/>
              </a:rPr>
              <a:t>Jul 31,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59E1-BE53-4F8E-8ED6-D78B6E3C525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8D9C-E1DB-4CEE-AEC8-F5F65CE0499C}"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E63A-D238-4E55-ACD7-CFB33C876CB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24F9-7254-44E8-93DC-C515A583B3C2}"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EC39-CFFD-44DB-9A84-61BF971A133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A11A-3D35-4EA6-BADC-8052FF1FD0DB}"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72E0-E12F-4EA9-9B29-5045E1F2859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2B80-0FB2-4C59-A7B6-307BFF09D8F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2AF6-A23A-4EE1-8F2A-053A6E6440C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7ED2-BF3F-4678-B7BF-366D76CAD62A}"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611D-1DE1-4434-A60A-8DCE2173A17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8025-CFED-4938-B160-6D762A5557AC}"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B863-83DC-45E9-9028-5211480F8BD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B00E-FD36-4A32-81E8-F7ADE7C1A59F}"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809E-AA31-406C-9FD5-94A363BD942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8FD1-5345-4134-80DE-D0DFCD5AEEE6}"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A168-8073-4791-BB88-42FC8FB1006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E40E-86E0-4BE5-908B-C3D8B93B56B2}"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B158-6C2D-4AE8-BA82-22344B06808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685C-6EBF-4618-9885-C08700D91DE1}"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8210-F92E-46DB-ABEE-1D24542B9A6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