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Text Box 2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dt" idx="3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04/26/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6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4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C39019-4A4F-4B5A-9D6A-0FD0953CCA9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3"/>
          <p:cNvSpPr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04/26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4788F8-45E7-4750-BB84-D1B8688B282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4/26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8FCFED1-4396-4A1A-959E-B27A67DB93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3"/>
          <p:cNvSpPr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04/26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9BBDCF-BBFD-4AFF-A2C6-2E40BD9D8D8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86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3"/>
          <p:cNvSpPr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04/26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3021E9-416A-4D04-A605-36DBBFC019F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86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3"/>
          <p:cNvSpPr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04/26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9E78E2-C207-466D-9B7E-E6518A0FB10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86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3"/>
          <p:cNvSpPr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04/26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12D465-9174-40EE-912C-2CABA005176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4/26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1F3DDA4-71D6-47C9-B62A-F4321BD37E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3"/>
          <p:cNvSpPr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04/26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6CE8A5-9DE1-48DA-89E5-511777D2D18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Text Box 1"/>
          <p:cNvSpPr/>
          <p:nvPr/>
        </p:nvSpPr>
        <p:spPr>
          <a:xfrm>
            <a:off x="1209600" y="693720"/>
            <a:ext cx="4437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body"/>
          </p:nvPr>
        </p:nvSpPr>
        <p:spPr>
          <a:xfrm>
            <a:off x="685800" y="4341960"/>
            <a:ext cx="5479920" cy="41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3"/>
          <p:cNvSpPr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04/26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5FF4D0-1046-4B37-B072-6A49A5D0E70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Text Box 1"/>
          <p:cNvSpPr/>
          <p:nvPr/>
        </p:nvSpPr>
        <p:spPr>
          <a:xfrm>
            <a:off x="1209600" y="693720"/>
            <a:ext cx="4437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body"/>
          </p:nvPr>
        </p:nvSpPr>
        <p:spPr>
          <a:xfrm>
            <a:off x="685800" y="4341960"/>
            <a:ext cx="5479920" cy="41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3"/>
          <p:cNvSpPr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04/26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4D1D14-1A31-4885-916A-BE50C268B8A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1"/>
          <p:cNvSpPr/>
          <p:nvPr/>
        </p:nvSpPr>
        <p:spPr>
          <a:xfrm>
            <a:off x="1209600" y="693720"/>
            <a:ext cx="4437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body"/>
          </p:nvPr>
        </p:nvSpPr>
        <p:spPr>
          <a:xfrm>
            <a:off x="685800" y="4341960"/>
            <a:ext cx="5479920" cy="41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3"/>
          <p:cNvSpPr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04/26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DCC499-74BB-4860-AE78-97E6D39CFB2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1"/>
          <p:cNvSpPr/>
          <p:nvPr/>
        </p:nvSpPr>
        <p:spPr>
          <a:xfrm>
            <a:off x="1209600" y="693720"/>
            <a:ext cx="4437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685800" y="4341960"/>
            <a:ext cx="5479920" cy="41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3"/>
          <p:cNvSpPr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04/26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8F63B6-1369-4E0D-9F4C-338FBF442B9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4/26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E70722C-87DE-43B2-AB97-410A017973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3"/>
          <p:cNvSpPr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04/26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0F5078-FEB0-440D-A97B-193E0F532EA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86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3"/>
          <p:cNvSpPr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04/26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4BE198-934E-4589-AFA5-3D006C3F2F2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86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D6287D-A44F-4894-A553-28FB982AB14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66D916-0E9B-449C-857E-BCF6AE3CE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36F036-8602-4267-A776-3350BC7B9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44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072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44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072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A48C20-E8E4-486C-93D5-29320D0CCB8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09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E651FC-B057-45CE-877F-1A2F1C574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44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072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44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072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44BDD7-66BD-47F5-AC2E-EC985CC3A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AB1222-948F-479C-A3D3-D1CC86F78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481A18-2CAC-4B98-A6AD-D3E8C852C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09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04346F-136F-4B69-8FBE-8A656C274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81A71B-AC51-4546-BE60-DF521B2E6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A13F64-EA5C-447C-8144-FEC036991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258A3A-A745-4338-BF6B-80998419D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" name="Picture 3" descr=""/>
          <p:cNvPicPr/>
          <p:nvPr/>
        </p:nvPicPr>
        <p:blipFill>
          <a:blip r:embed="rId3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219320" y="6172200"/>
            <a:ext cx="312264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Apr 26, 2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533520" y="6172200"/>
            <a:ext cx="68400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61E5965-0C93-4197-8113-82153D13BD76}" type="slidenum"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3"/>
          <a:stretch/>
        </p:blipFill>
        <p:spPr>
          <a:xfrm>
            <a:off x="7772400" y="6019920"/>
            <a:ext cx="1143000" cy="672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1"/>
          <p:cNvSpPr/>
          <p:nvPr/>
        </p:nvSpPr>
        <p:spPr>
          <a:xfrm>
            <a:off x="1295280" y="822240"/>
            <a:ext cx="716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s-ES_tradnl" sz="4400" spc="-1" strike="noStrike">
                <a:solidFill>
                  <a:srgbClr val="ffffff"/>
                </a:solidFill>
                <a:latin typeface="Verdana"/>
              </a:rPr>
              <a:t>Caucus group no. 5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2"/>
          <p:cNvSpPr/>
          <p:nvPr/>
        </p:nvSpPr>
        <p:spPr>
          <a:xfrm>
            <a:off x="1185840" y="3962520"/>
            <a:ext cx="7577280" cy="18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s-ES_tradnl" sz="2200" spc="-1" strike="noStrike">
                <a:solidFill>
                  <a:srgbClr val="005582"/>
                </a:solidFill>
                <a:latin typeface="Verdana"/>
              </a:rPr>
              <a:t>Dirk Van Hertem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s-ES_tradnl" sz="2200" spc="-1" strike="noStrike">
                <a:solidFill>
                  <a:srgbClr val="005582"/>
                </a:solidFill>
                <a:latin typeface="Verdana"/>
              </a:rPr>
              <a:t>Benelux sectio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s-ES_tradnl" sz="2200" spc="-1" strike="noStrike">
                <a:solidFill>
                  <a:srgbClr val="005582"/>
                </a:solidFill>
                <a:latin typeface="Verdana"/>
              </a:rPr>
              <a:t>In conjuction with R8 SAC vicechair Eva La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561600"/>
            <a:ext cx="7772400" cy="12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Motion 1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Title: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tegrate at least one graduate student and one Gold member in section ExCo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Proposed motion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 integrate at least one [graduate] student and one Gold member in their section ExCo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Financial implication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ne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Pro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Your section will get visibility with young engineers, new fresh motivated volunteers are integrat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Con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n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37960"/>
            <a:ext cx="7772400" cy="12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Motion 2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2724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Title: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ction presence at Branch meeting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Proposed motion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o sections chairs to report at least one visit of a section board member to a student branch activ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Financial implication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one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Pro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dentify future potential IEEE leadership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on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237960"/>
            <a:ext cx="7772400" cy="12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Motion 3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226880"/>
            <a:ext cx="8229600" cy="51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Title: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udent award at section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Proposed motion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 sections to create at least one student award in their section on the field they consider appropria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Financial implication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p to the section: Can be certifica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Pro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ward the young engineers and future potential IEEE leadership and encourage volunteering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Con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n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685800" y="609480"/>
            <a:ext cx="77724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s-ES_tradnl" sz="3200" spc="-1" strike="noStrike">
                <a:solidFill>
                  <a:srgbClr val="005582"/>
                </a:solidFill>
                <a:latin typeface="Verdana"/>
              </a:rPr>
              <a:t>Caucus no. 5: How to integrate Students and Young engineers in Section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Text Box 2"/>
          <p:cNvSpPr/>
          <p:nvPr/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 purpose of this focus group is to define guidelines for how  and where </a:t>
            </a:r>
            <a:r>
              <a:rPr b="0" lang="en-US" sz="2200" spc="-1" strike="noStrike">
                <a:solidFill>
                  <a:srgbClr val="ff0000"/>
                </a:solidFill>
                <a:latin typeface="Verdana"/>
              </a:rPr>
              <a:t>to integrate student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ff0000"/>
                </a:solidFill>
                <a:latin typeface="Verdana"/>
              </a:rPr>
              <a:t>and young professionals in the Section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's everyday business. This group of IEEE members (more than one quarter of overall Region 8 Membership) shows great enthusiasm and motivation to bring in and implement new ideas. The workshop will focus on </a:t>
            </a:r>
            <a:r>
              <a:rPr b="0" lang="en-US" sz="2200" spc="-1" strike="noStrike">
                <a:solidFill>
                  <a:srgbClr val="ff0000"/>
                </a:solidFill>
                <a:latin typeface="Verdana"/>
              </a:rPr>
              <a:t>how to manage this potential of volunteer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for the Section's benefit in reaching out to members, </a:t>
            </a:r>
            <a:r>
              <a:rPr b="0" lang="en-US" sz="2200" spc="-1" strike="noStrike">
                <a:solidFill>
                  <a:srgbClr val="ff0000"/>
                </a:solidFill>
                <a:latin typeface="Verdana"/>
              </a:rPr>
              <a:t>create a pool of good young volunteer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and find a good balance between fresh blood and experience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Apr 26, 2009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F14932C-825D-4148-A351-D8781964D6A7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Datumsplatzhalter 3"/>
          <p:cNvSpPr/>
          <p:nvPr/>
        </p:nvSpPr>
        <p:spPr>
          <a:xfrm>
            <a:off x="1219320" y="6172200"/>
            <a:ext cx="31226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Apr 26, 2009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400" y="312840"/>
            <a:ext cx="8227800" cy="10634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ember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24000" y="1133640"/>
            <a:ext cx="8045280" cy="5032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rk Van Hertem (Benelux S. Representative)  -  Moderator/Chai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anos Kakarountas (Greece S.Chair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Vladimir Dimcev (Macedonia S. Chair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elie Anglade (SAC member, UK&amp;RI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ablo Herrero (Students Rep., SAC,  Germany)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ahel Muhammad (R8 GOLD SubCommittee member, Egyp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drian Pais (IEEE GOLD Chair, Benelux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va Lang  - VC/SA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Karl Gudmundsson (Iceland section chair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Yasemin Baser (Isbir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ce Sanci (ISBIR representative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uka Lugaric (SAC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Datumsplatzhalter 3"/>
          <p:cNvSpPr/>
          <p:nvPr/>
        </p:nvSpPr>
        <p:spPr>
          <a:xfrm>
            <a:off x="1219320" y="6172200"/>
            <a:ext cx="31226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Apr 26, 2009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5400" y="312840"/>
            <a:ext cx="8227800" cy="10634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Backside information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05920" y="1327320"/>
            <a:ext cx="89377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tudent branches can be very active and reach great result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any good and willing volunteers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25% of IEEE R8 is student, most of them drop out after graduating. Arrears are much higher with students than with other members.  Why?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855720" indent="-3207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igher du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855720" indent="-3207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Benefits not really clea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85572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o contact with sec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85572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blems with IEEE bureaucracy/paperwork (different addresses/emails,...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855720" indent="-3207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ow can we keep the good volunteers?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ake them active!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et them involved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ake them visible to fellow young engineer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Datumsplatzhalter 3"/>
          <p:cNvSpPr/>
          <p:nvPr/>
        </p:nvSpPr>
        <p:spPr>
          <a:xfrm>
            <a:off x="1219320" y="6172200"/>
            <a:ext cx="31226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Apr 26, 2009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400" y="312840"/>
            <a:ext cx="8227800" cy="10634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Requirements to hold office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y full member including graduate student can hold 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any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office within 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section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or 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chapter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(also section chair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237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Datumsplatzhalter 3"/>
          <p:cNvSpPr/>
          <p:nvPr/>
        </p:nvSpPr>
        <p:spPr>
          <a:xfrm>
            <a:off x="1219320" y="6172200"/>
            <a:ext cx="31226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Apr 26, 2009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588600"/>
            <a:ext cx="7772400" cy="11826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Freebies (these should come automatic)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436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8000"/>
          </a:bodyPr>
          <a:p>
            <a:pPr marL="415080" indent="-312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Section student representative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==&gt; you should have one (is there a valid reason not to have one?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15080" indent="-312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GOLD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(graduates of the last decade): start up an affinity group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15080" indent="-312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ebmaster &amp; electronic communica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15080" indent="-312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ut there is no reason not to have a young person being the membership development chair 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or any other function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within the se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1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s-ES_tradnl" sz="3200" spc="-1" strike="noStrike">
                <a:solidFill>
                  <a:srgbClr val="005582"/>
                </a:solidFill>
                <a:latin typeface="Verdana"/>
              </a:rPr>
              <a:t>Meeting outco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2"/>
          <p:cNvSpPr/>
          <p:nvPr/>
        </p:nvSpPr>
        <p:spPr>
          <a:xfrm>
            <a:off x="685800" y="1125360"/>
            <a:ext cx="777240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SzPct val="102909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Experiences in the different sections were share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SzPct val="102909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Already quite some sections had 2-4 students or young engineers (&lt;35 years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SzPct val="102909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There are some good practices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Mostly making use of the freebi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Inviting student branches to join ExCom meeting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SzPct val="102909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There are also some problems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Young engineers experience old and fixed excom which does not believe in young engineers with voting rights at the ExCom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Young engineers for the “Freebies” is ok, but not for the res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Text Box 3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Apr 26, 2009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Text Box 4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E372C14-99E0-427C-88C3-4EB0C5998FB6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561600"/>
            <a:ext cx="7772400" cy="12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Recommendation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ke a list of potential good candidates for future volunteering while they are stud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this list: bring them into contact with chapters, appoint them yourself and acknowledge their contribu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so Women in Engineering and professional activities are well suited for Y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561600"/>
            <a:ext cx="7772400" cy="12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Action 1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Title: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vite student branch leaders to ExCom meeting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Proposed action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tion leaders shall adopt a policy to invite student branch leaders to the ExCom member on a regular basi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Financial implication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ne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Pro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ntify new leaders for your se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Con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n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1T14:29:15Z</dcterms:created>
  <dc:creator>Yolanda Paskovich</dc:creator>
  <dc:description/>
  <dc:language>en-US</dc:language>
  <cp:lastModifiedBy>Windows User</cp:lastModifiedBy>
  <dcterms:modified xsi:type="dcterms:W3CDTF">2009-05-03T15:26:33Z</dcterms:modified>
  <cp:revision>57</cp:revision>
  <dc:subject/>
  <dc:title>Slide 1</dc:title>
</cp:coreProperties>
</file>