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7937-5224-4004-BC60-CB36E1A3E5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F99E-799B-4845-B5AF-F59449B89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E67A-6F49-4DCF-B5A1-07F895B4677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7A0C-B264-49C3-BF2F-E304A51F6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80EE-B6CB-4462-A2A9-B21C650F9C5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5AE6-78EA-48C0-9644-F101643B4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3668-1811-4655-92F7-04A19BDB434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8252-BFBC-42F2-8447-DD9C6C4F9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09DA-5C18-4F07-897B-5050F598D6B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4291-9DD9-4423-9360-1C14623EE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594B-38A8-4C2D-87B4-4E1E4BECB87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D537-8DEF-4AA4-8914-52DBAE247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3B80-67CC-4E4D-905F-B7B93FA7893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1BA5-B0B6-4B5B-8C84-F10BDCDAA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85B3-83ED-4D73-B0D1-80D1307F07B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A8EC-9731-4B53-BC7D-9292B60DC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54F8B-06F8-484B-9DE7-E039CE41D8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7AA84-955D-4816-BB97-8C06D276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DC362-ECF6-4B92-A963-EAAA27CD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5E4A1-A283-4588-873A-8115C43544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DC2CA-14F1-4C90-8F84-577A4AFC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79FB8-32B8-41CC-8C57-3311EEDD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4CFB4-1819-4B1F-AD23-5B2CCD04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551CF-CC36-4293-A1F6-080B44C2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4F815-3B8E-41FB-B4E4-DE791960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A3AF6-43E9-4B28-AE7A-9134D227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ED9E8-FDBC-48DA-A8EA-C2FD8036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2885A-C108-4262-B3A1-57FBCB68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9591-24C3-4613-A0CE-D099B56A6771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3585-A270-4A7B-88E6-CE245F25B75B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9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Improving Industry Participation in IEEE R8 Sponsored Conferences</a:t>
            </a:r>
            <a:r>
              <a:rPr b="1" lang="en-GB" sz="3600" spc="-1" strike="noStrike">
                <a:solidFill>
                  <a:srgbClr val="005582"/>
                </a:solidFill>
                <a:latin typeface="Verdana"/>
              </a:rPr>
              <a:t> </a:t>
            </a:r>
            <a:br>
              <a:rPr sz="4800"/>
            </a:br>
            <a:endParaRPr b="1" lang="en-US" sz="36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Group members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371600"/>
          <a:ext cx="8534520" cy="478476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e Gjengedal           Norway ( Modera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ao Costa-Freire        Portug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han Ozkan, 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t Richter,                 Aust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cob Al-Mulla            Qatar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Law                   UK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sa Bastaki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U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mad Al Naamany    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ik Stilling                  Den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őklan Gelebi,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u Mushcab          Saudi-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5582"/>
                </a:solidFill>
                <a:latin typeface="Verdana"/>
              </a:rPr>
              <a:t>Background: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articipation (outside R&amp;D) in R8 sponsored conferences is very wea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erceives that IEEE conferences are more suitable for academic and research professionals rather than addressing industrial iss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w to improve industry participation in R8 sponsored Conferences, resulting in changing industry perception about our conferences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5B9E-8F6B-46A4-A202-622E77ACE335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6550-D418-46E8-8AB8-8CC805FA673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Some possible reasons for the current lack of interest from Industry Sector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give me th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ics, papers are not relev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theoretical and to little on applications, experiences etc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my preferred meeting place- others are more attractive and gives me mor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1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me of the conference should be attractive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dustry members in Org. 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ite industrial sessions/tra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special topics of interest for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 on standards, applications, experiences, best practices+++++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possible industrial exhibitions are recomm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2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 the industry participants to submit only abstract reviewed and PP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fP should clearly state requirements for industrial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 and network with industry as early as possible – build their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hasize on advertisement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582"/>
                </a:solidFill>
                <a:latin typeface="Verdana"/>
              </a:rPr>
              <a:t>Final Recommendation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recommendations  should be adopted by Conference Coordination SC to improve industrial particip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3:34Z</dcterms:modified>
  <cp:revision>18</cp:revision>
  <dc:subject/>
  <dc:title>Slide 1</dc:title>
</cp:coreProperties>
</file>