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5912-FBB5-4E4E-BE72-66710B78C8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DD57-3AF7-4998-85F4-493B0C3E5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2176-01D6-4767-A48A-5D4BD84195A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F75E-E14B-4F62-94E5-09234D9E3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47D2-EED8-4566-907D-1CA227F7F38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823F-6FAB-48F5-88C9-C5F0BBCDA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5F9A-CC19-4C9F-A9A4-730E4EAD853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A26E-A570-4700-9F0F-B2E0FA25C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5DF1-3E0F-4254-BE80-467C90D36EA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1EC9-675B-42C8-BC40-91CE8081E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59BE-A38F-4E52-A5E1-91812AAD131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611B-0C5F-4500-BB95-49FBB225A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4970-34F1-4491-B021-69B57456F1B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BBD6-4E1F-4FFF-A54C-FFFFB9690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882D-B4EB-4205-A0F8-BEC497A4E17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A905-B326-4995-8F0A-4B5ADBA55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A49C-2B73-4B0F-A23A-3DEA95DDA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CAE0-4A65-43EB-A9AA-1961B63C690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1B28-BA78-4D47-A7D5-086598C53B0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AA29-5BF4-45D5-A385-A5D4545D4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0C4A-CD08-45AD-959E-3744BE62F66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C8CC-886B-4127-82A3-F55151EE2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4FB3-D748-462C-9F09-18114160A1B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B758-ED84-4243-8D38-4AB139ACE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1F67-E8F9-4D17-80E9-9412EED1007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B6BB-F1D3-41B2-9756-B053A69D4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83A6-498F-4830-A09C-783F1FD38BC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D36E-13C8-49DB-9082-9D81644DF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2016-4001-4C89-958B-5CE04816096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05B8-1B65-4767-AEC5-9D7586310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9AD7-0AE2-4894-A82F-C2426FB7EF4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AB4E-1F82-42A4-AE48-B047F3F42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D8782-B336-4D3D-81CA-A3835599B1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4EFAB-3D3E-44EB-89F0-232B79A3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E957A-FA9F-4D53-8FDA-88CFE9D4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3BB31-3094-4C29-BF0C-46918E796C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B82E0-2298-4558-8ECC-8A76E368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7B052-0B27-4B8F-9824-9B98B3B5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18A3D-0E93-42CE-90BD-0B38F577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EBFF1-BDBF-4070-9C74-A2B9A3645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8C791-DC60-447C-9079-5C2FDDEF4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4380E-4BF0-4151-B2DF-278F2F27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D6DB1-6534-46CB-A679-3768FE3B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3B04C-1763-4B8F-8968-3E51F0A4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EB4A-A128-4102-8461-29BCF96057E5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A7B9-305F-4599-B970-12C7A492C606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Verdana"/>
              </a:rPr>
              <a:t>Caucus </a:t>
            </a:r>
            <a:r>
              <a:rPr b="1" lang="pl-PL" sz="44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1" lang="es-ES" sz="4400" spc="-1" strike="noStrike">
                <a:solidFill>
                  <a:srgbClr val="ffffff"/>
                </a:solidFill>
                <a:latin typeface="Verdana"/>
              </a:rPr>
              <a:t>roup no. </a:t>
            </a:r>
            <a:r>
              <a:rPr b="1" lang="pl-PL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4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534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Andrzej Pacut, Poland Se</a:t>
            </a:r>
            <a:r>
              <a:rPr b="1" lang="es-ES" sz="2700" spc="-1" strike="noStrike">
                <a:solidFill>
                  <a:srgbClr val="005582"/>
                </a:solidFill>
                <a:latin typeface="Verdana"/>
              </a:rPr>
              <a:t>ction Chai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	</a:t>
            </a: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Moderator / Chai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5582"/>
                </a:solidFill>
                <a:latin typeface="Verdana"/>
              </a:rPr>
              <a:t>In conjuction wit</a:t>
            </a: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h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8 AdHoc Committe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for Operations Re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MGA Board Operation Manual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also numerous inconsist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llustrative example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Regional Director may approve an exception to any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of the guidelines stated in Section 9 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”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le Section 9 includes such rules a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Region Chair may appoint additional voting members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(provided that their number) shall not be more than 1/4 the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umber of Officers and Ex-Officio members, rounded up to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next whole number….”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hic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intended to prevent from filling the Region Committee with R8 Director supporter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 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s protection is cancelled by giving the Region Director the power to approve exceptions to the rules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Hoc committee proposes that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8 should follow only those parts of the MGAB document which are compatible with R8 requiremen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– addditonal remarks 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dHoc committee will welcome additional assistance in locating problem-clauses in the R8 Bylaws and in writing revisions to the R8 Bylaw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8 volunteers should work for a revision of 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MGAB manual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uses considered to be inappropriate. The needs of the USA Regions may differ significantly from the needs of some Regions outside US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AdHoc Committee </a:t>
            </a:r>
            <a:r>
              <a:rPr b="1" lang="pl-PL" sz="3200" spc="-1" strike="noStrike">
                <a:solidFill>
                  <a:srgbClr val="005582"/>
                </a:solidFill>
                <a:latin typeface="Arial"/>
              </a:rPr>
              <a:t>-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Time Lin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Hoc committee will endeavor to operate according to the following time lin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aft version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Operational Guidelines for the R8 Committee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posals fo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8 Bylaws </a:t>
            </a:r>
            <a:r>
              <a:rPr b="1" i="1" lang="pl-PL" sz="2400" spc="-1" strike="noStrike">
                <a:solidFill>
                  <a:srgbClr val="000000"/>
                </a:solidFill>
                <a:latin typeface="Verdana"/>
              </a:rPr>
              <a:t>change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be completed in time for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8 OpCom Review an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ceptance at the October 2009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8 Committe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et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rther discussion of issues related to the MGAB Operations Manual, the R8 Bylaws and the Operational Guidelin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to be continu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til complet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t the end of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Financial operations of Sec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Financial operation mod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legal statu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of Sections: various solutions, some on a border of being acceptable to IEEE or to local (taxati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Region 8 covers many separate countries with totally independent legal systems, currencies and languages, and needs to operate harmoniously throughout this diverse environment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D: Legal standing of Sections in their countries is a long-standing issue. In 2001-2002 there was a big effort to collect data on the sit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D: No generic solution, each Section is different (in UKRI: &gt;= 4 legal systems, 2 currencies); Caucus discussion may only raise awareness without creating solu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o we have an embarassing disea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hat CAN be don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motion to collect 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exemplary model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motion to act to fulfill long-promised action for 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IEEE to open accounts in local currenc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Recommendation for actions</a:t>
            </a: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51920" y="121932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Formalization of ideas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: 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commendation for a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Funds from R8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are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limited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; a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lternative funding may come from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Foundation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New Initiative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Other source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E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xternal sponso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roject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ideas with no financial impact are welco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all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actions /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otions or projects cons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me fra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liverab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etrics for evalu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Conclusions – summary of results - t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o be presented by leader to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R8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mmitt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2CA6-D314-43BE-9D51-0B8465905F38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DC93-C575-4186-8DA1-8D92BD5610AB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7109-6375-49C9-821A-80334D4D44F5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CB6B-D576-49F0-8C10-BD349AC5AD10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685800" y="531720"/>
            <a:ext cx="731520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Operations Review SubCommittee (ROSC) - AdHoc</a:t>
            </a:r>
            <a:br>
              <a:rPr sz="2800"/>
            </a:b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Tony Davies (UKRI) – Chair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Marko Delimar (Croatia)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Gerhard Hancke (SA)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Rolf Remshardt (German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582"/>
                </a:solidFill>
                <a:latin typeface="Verdana"/>
              </a:rPr>
              <a:t>OpCom Responsible Member</a:t>
            </a:r>
            <a:r>
              <a:rPr b="0" lang="pl-PL" sz="2800" spc="-1" strike="noStrike">
                <a:solidFill>
                  <a:srgbClr val="005582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5582"/>
                </a:solidFill>
                <a:latin typeface="Verdana"/>
              </a:rPr>
              <a:t> Director Jozef Modelsk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A49B-9D50-4AF2-93F3-AD40A8D75B25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0507-0B39-4429-A109-DA8B28915288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Caucus no.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2</a:t>
            </a: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: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Participa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ndrzej Pacut  (Poland S.Chair)   -  Moderator/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ony Davies  (Past Director,  ORSC Chair,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urice Papo (Past Director,  Franc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harles Turner (Past Director,  PASC member, 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ihal Sinnadurai (IRSC member,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rtin Bastiaans (SAC member,  Benelux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mine Aydal (PASC Chair, 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5360-43DC-41F8-88D6-C64C65732586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13B6-3B0D-4BED-A31D-FC6126BF7876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Recommendations (1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erations Review Caucus considered, discussed and debated oper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sues  and recommends that the Ad-Hoc Committee role b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efin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take on board the following recommendati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 fundamental chang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re needed in the role of the R8 Committee. Basic structure is well-suited to the needs. The authority of Region 8 will continue to be vested in the R8 Committee. Region 8 will remain unchanged geographical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perations Manual for Region 8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prepared which would provide, in an easy to read and informal way, an overall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larificat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of the objectives, procedures, practices and traditions of the R8 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 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isting R8 ByLaw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ll be fine tuned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nl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f the changes cannot be phrased in the Operation Man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er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anual will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t be in conflic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th the new MGA ByLaw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Recommendations (2)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dditionally, the following particular issues are recommended to be considered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eetings of R8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mmittee and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bcommittee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ll be managed to enable the members to network and work together for the benefit of all members in R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voting committee meetin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ll continue to meet face to face at one common loc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 Also, annua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-locating all Sub-Committees to allow cross fertilisation and interaction with Section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airs and other leaders is seen as a great benefit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will be continu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second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8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mmitte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nd Subcommitties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meetings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will be hel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but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igh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xploit available audio-visual meeting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chnologi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ereby groups of section chairs may gather at a few locations and confer by video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udio and data links, which shall include opportunities for individual speakers to be made visible at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ll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loc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he financial issue of v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ry small section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hall b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aken into consid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Report Summary </a:t>
            </a:r>
            <a:r>
              <a:rPr b="1" lang="pl-PL" sz="2800" spc="-1" strike="noStrike">
                <a:solidFill>
                  <a:srgbClr val="005582"/>
                </a:solidFill>
                <a:latin typeface="Arial"/>
              </a:rPr>
              <a:t>(</a:t>
            </a: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1</a:t>
            </a:r>
            <a:r>
              <a:rPr b="1" lang="pl-PL" sz="2800" spc="-1" strike="noStrike">
                <a:solidFill>
                  <a:srgbClr val="005582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last major revision of the R8 Bylaws (the ‘Maurice Papo’ version) have proved to be an effective basis of operation, and stood the test of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rrect some omissions/ambiguities/inconsisten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rify an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r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rpose and structure of the R8 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-drafting requires skilled attention to deta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ole of the R8 Committee, and the R8 contribution to IEEE as a whole: no fundamental changes needed. Basic structure (3 V-Chairs) well-suited to the need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tter management of R8 Committee-initiated activities is needed, with clarification abo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mittee particip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voting, non-voting, not members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ch officers appoint wh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members be voting memb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mation of small Sections ha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nseq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ces for the R8 budg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quir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&gt;&gt; 50 members before a new Section is approv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R8 Committee meetings 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per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year for Sections with &lt;200 mem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y small Sections Sub-Sectio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(2): </a:t>
            </a:r>
            <a:br>
              <a:rPr sz="2800"/>
            </a:b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Examples of inconsistencies / ambiguities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91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current R8 bylaw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he Vice Chair, Student Activities, shall be responsible for presenting to the Region 8 Director a nomination for the Student Representative appointed position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clear if this is the only source of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min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gion 8 Director make an alternative appointment regardless of whether other nominations are m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 is not certain that the Region 8 Director need appoint anyone since another clause stat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ther members such as a Student Representative, may be appointed without voting privileges….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ther two Vice Chairs are given responsibility to appoint their own subcommittees, so it is odd that the Vice Chair, Student Activitie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ee (3): </a:t>
            </a:r>
            <a:br>
              <a:rPr sz="2800"/>
            </a:b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Need of interpretations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pretation of bylaw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ay b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ource of potential difficul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47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Hoc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mmittee recommends that there should be a document forming the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Operational Guidelines for the R8 Committe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hich would provide, in an easy to read and informal way, an overall explanation of the objectives, procedures, practices and traditions of the R8 Committee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ilability of R8 Operational Guidelines is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urgent need  valuable to both experienced and new volunte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ajor start has been made on preparing a draft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laws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vs Guidel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ylaws updat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quires a formal procedure, with adherence to rules and timescal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ould be infrequ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ndments to Operational Guidelines can be made much more easily, and supplementary explanations can be adde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MGA Board Operation Manual (1)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GA Board Operations Manual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placed ol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B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u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t there 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t in the interests of R8 to follow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lustrative example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8 has a Student Activities Committee, regarded as active and successful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which currently has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membe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GAB document describes a type of Region Student Activities Committee w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hich would have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bout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500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members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 (in R8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llustrative example 2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GAB documents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 suggestion of a Region having a Vice Chair for Student Activiti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 concept of Vice Chairs appears unique to R8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dHoc committee is strongly of the opinion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that this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hould be retain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2:36Z</dcterms:modified>
  <cp:revision>93</cp:revision>
  <dc:subject/>
  <dc:title>Slide 1</dc:title>
</cp:coreProperties>
</file>