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3C0E-6EA6-4207-8508-7BDAB96F85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693E-FA58-4707-B70B-6602F20E3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D970-F501-4329-A6BE-A1B67C332A0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3F61-67FB-43BB-AB50-CF267E319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FEF7-4383-4160-A45E-7DD7FA2D04A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8408-0636-4C2F-9317-55D05E79D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0FDA-3666-4885-AADE-3755FDDF98F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4C64-4C79-4FBE-AA4D-0EC60B342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A386-2EB0-4F5B-85B1-95CCBB0FC08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90C3-7E58-4BA4-9264-4E07D76A3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F52B-B1CE-416A-91C7-EDE884E06E0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663C-0101-4252-99F4-128DED490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A998-2398-4123-A855-F9BB579A17E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9851-DCF7-4A6E-91B0-56F46E965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2A24-C9B3-4813-81F9-5EE7E16B11F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D7EB-DBBF-48B9-BA08-10FB62D37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66875-B7CE-441A-B13F-6794FCB1FC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5F071-4A23-4F04-B281-210E201A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91F58-C839-4940-96CF-138526D1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1C2A6-60CF-44E9-B159-916E0DFFEE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213EE-1FA8-4816-84EA-C2BB6E81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6A4BB-BA4E-43EC-BB5C-4E318521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92FE1-5BC0-46CF-9AE8-D8DEF6AF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E15B2-6593-43A1-8207-2D16CD6C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3EC7F-F335-4594-A1A2-7C1E9DDD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142CE-015A-4084-BACC-BFCC0919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1E39E-93F8-49D9-850D-2D4D2362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8729F-A861-4D7C-A65D-59AA5E5C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B4FD-BD4B-4376-8701-0D495D451D68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6087-A0E6-4791-95AC-37E59C8FA286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9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Improving Industry Participation in IEEE R8 Sponsored Conferences</a:t>
            </a:r>
            <a:r>
              <a:rPr b="1" lang="en-GB" sz="3600" spc="-1" strike="noStrike">
                <a:solidFill>
                  <a:srgbClr val="005582"/>
                </a:solidFill>
                <a:latin typeface="Verdana"/>
              </a:rPr>
              <a:t> </a:t>
            </a:r>
            <a:br>
              <a:rPr sz="4800"/>
            </a:br>
            <a:endParaRPr b="1" lang="en-US" sz="36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Group members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1371600"/>
          <a:ext cx="8534520" cy="478476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je Gjengedal           Norway ( Modera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ao Costa-Freire        Portug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rhan Ozkan, 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rt Richter,                 Aust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acob Al-Mulla            Qatar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vid Law                   UK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esa Bastaki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UA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hmad Al Naamany    O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ik Stilling                  Denm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őklan Gelebi,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u Mushcab          Saudi-Arab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5582"/>
                </a:solidFill>
                <a:latin typeface="Verdana"/>
              </a:rPr>
              <a:t>Background: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articipation (outside R&amp;D) in R8 sponsored conferences is very wea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erceives that IEEE conferences are more suitable for academic and research professionals rather than addressing industrial iss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ow to improve industry participation in R8 sponsored Conferences, resulting in changing industry perception about our conferences</a:t>
            </a: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4A3B-FCD2-47D9-A9D7-03270FA25FFA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9F98-1126-4951-B331-6D689A712343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Some possible reasons for the current lack of interest from Industry Sector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 not give me th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pics, papers are not relev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o theoretical and to little on applications, experiences etc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my preferred meeting place- others are more attractive and gives me mor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1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me of the conference should be attractive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industry members in Org. 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ite industrial sessions/trac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special topics of interest for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.g. on standards, applications, experiences, best practices++++++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ever possible industrial exhibitions are recomm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2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 the industry participants to submit only abstract reviewed and PP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fP should clearly state requirements for industrial pres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roach and network with industry as early as possible – build their inte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hasize on advertisement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582"/>
                </a:solidFill>
                <a:latin typeface="Verdana"/>
              </a:rPr>
              <a:t>Final Recommendation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se recommendations  should be adopted by Conference Coordination SC to improve industrial particip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3:34Z</dcterms:modified>
  <cp:revision>18</cp:revision>
  <dc:subject/>
  <dc:title>Slide 1</dc:title>
</cp:coreProperties>
</file>