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D13A-D285-4BEB-B23B-B0B5316286CF}" type="datetime">
              <a:rPr b="0" lang="en-US" sz="1300" spc="-1" strike="noStrike">
                <a:solidFill>
                  <a:srgbClr val="000000"/>
                </a:solidFill>
                <a:latin typeface="Times New Roman"/>
              </a:rPr>
              <a:t>07/29/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6B23-6AA3-4B30-A19B-5F261A23E7B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28D2-BAEC-4D3A-9E60-E8953F0669ED}"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7E6C-E43A-47BB-965F-F5036BC0AE5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79C9-9094-45D6-ADEC-0256C2FBB416}"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62F9-D577-4A2E-93AC-5F483F9DFF4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581A-3BAE-4EA4-84E2-B3D5CC7C8091}"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DB27-91C6-46A3-B418-DCAB58918E4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9D87-EDE5-4D86-A53C-9EFF169D28F9}"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60A3-9D6E-4451-B553-663830C7820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DCDE-C9F4-496B-BA36-B5DBC04B589E}"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83F1-A4CC-4DF9-B33F-8616EE07E9B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1F1C-313D-4A1A-8A02-66ADACB25B10}"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46C6-B92D-4B22-9498-991F719AE10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9531FE-B47C-4B85-BB21-5CE9CB366C3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DEE81BFB-210D-4D23-95FD-497BBF7B5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DE29BF21-CA59-4AA5-8FEA-FE27B0B40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CCD597A4-EC0C-46B6-A65C-90D48D3C5EE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C6FBB835-FC15-4BE6-BB05-9D0A0CAF0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709E360A-55BD-4947-B450-204F0B460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E408A0F3-D452-4522-8D58-262A1EAA8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CE606F47-C41A-4F77-942C-F2896734C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3ED9A19-E9AF-4A7D-841C-F5F25E45A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DF3E99BF-31EE-4158-A370-A810EC2E1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11F7362A-370E-4959-8AF3-804880D90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CAEBF16-EF06-4FAD-8BF4-B98BEB918CB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D400-4779-4F8B-A7C7-B6C8D5D0FEC4}"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9D026-8213-4403-841D-A419A986DF8C}"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1ABE-6C26-4749-B3A2-86A41E86D3A0}"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E7BF-CDB3-4A84-8414-C8DC043D6F4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1FE4-185C-42FB-BE04-7EFCE08890F4}"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0F23-4F20-4A10-A29D-757ADA60B9A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B5B2-08FA-4CB9-ABD1-D2083CA6E42D}"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CBE46-2527-4A4D-B915-25BF343F1BB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9C4D-2707-48AF-9231-2C244C8B800F}"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60D4-2F3D-47D4-AE9C-9A8EE9BE924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56D5-00D4-4780-B937-578F58C009F7}"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033D-BD01-43B4-8E76-DDBC259BDD1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24B9-7ACC-4872-95AF-39FCA7CB4B8B}"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5B35-39FF-45D4-A15D-6EBADEF1B98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7344-F0C4-4367-BB36-9B556632CCE4}"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F9D6-7935-4D2C-A036-721B786FBFC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7AAF-3A6C-43B8-BDF0-785FE2CC20A0}"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46F88-DCB4-4D18-BA14-44DE83EDC70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0F6F-7B67-4607-BA60-4F82849FAF87}"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9EA3D-8210-41A6-8A77-A4B9DE8CA32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