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D0D3A-186C-4296-B03D-62EC5391C210}" type="datetime">
              <a:rPr b="0" lang="en-US" sz="1300" spc="-1" strike="noStrike">
                <a:solidFill>
                  <a:srgbClr val="000000"/>
                </a:solidFill>
                <a:latin typeface="Times New Roman"/>
              </a:rPr>
              <a:t>07/29/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DC77B-9E48-4817-B179-3D83D8E0D68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DD0A4-C39A-417A-9A76-01D5EB9F1513}"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D7A7-2ABB-4453-AFAF-99EB02ABEAE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22DF-52EC-49CC-8239-A7AD1A1F4B9A}"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41DF4-D436-4705-AF90-2C9182CF807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C6D7-9407-44EC-ABA7-1C8661001833}"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945A-2AF3-4DA8-85E9-D279718E0DE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B676-F155-4730-A063-3789067810FB}"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55D5-B5FB-471B-8473-08F00E716FE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B5EC8-11E5-4761-8E1F-BD1094296756}"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398C0-17EB-4E0A-8746-7306335AA86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754C3-02D6-4E79-B025-AAB41110FBC2}"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D51C6-7488-4CEE-BB62-177C06DC84E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EEE830-146B-4BD4-B1FA-3F4F00F2188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BB1EB213-29F2-44BA-A478-D2DD58AA4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2D32FF05-FCBF-4E44-B5E3-9667EC75A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06293862-6BE4-4EC6-8AD3-332D4AB0448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6FCE0726-ED8E-4F13-9BBA-F74DA2C40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286522AB-8274-4510-B1C3-A72A5A3D3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30E24364-2373-41E3-9887-4CBDDD5C7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A2F17466-ECF1-4033-B9AE-1B73707BB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CEE35D29-AB41-44D6-B42C-D22746F84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A6E38961-7A9A-457E-AF9F-18B8FCA43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45E4FCB2-8B34-4EA0-A0F7-B166EF8B3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498981F3-8869-494F-9408-AB39355EB33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FD6D-2089-4508-9F68-9D4481C3C0AE}" type="datetime5">
              <a:rPr b="0" lang="en-US" sz="1000" spc="-1" strike="noStrike">
                <a:solidFill>
                  <a:srgbClr val="898989"/>
                </a:solidFill>
                <a:latin typeface="Times New Roman"/>
              </a:rPr>
              <a:t>Jul 29,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141D8-E347-4C35-A9F1-A00630E8388C}"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C334-4337-4BB7-B3D5-F143C50D3146}"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C27DE-321F-4BA6-A7EF-C99BFBD2E63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8C914-DB31-4AAA-98C0-BAF8129CA5EC}"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EED09-559A-4C8E-9AD7-E37ED9E11B9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AB11C-0BBB-4FA6-BE5B-E699DEE2EBDA}"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942F7-C588-4E4F-BBC8-D63C6503C8A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66377-0698-4EF8-A497-B33368A682F1}"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B9EE1-02C2-43C2-8F5C-A5E2E254B2A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DDF9F-04E6-403E-B188-459C840FE04F}"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7B4F-D4A2-4C38-AACD-3819045F667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96C91-6025-4799-BEDF-94923DF9F113}"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FFFAE-5806-470F-A408-CE21319B405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181D-4048-4762-9DBA-15247EDE322A}"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39B9-BE96-4688-B353-20A062765B3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23D6-2879-43BE-BD1A-B50640F1FCBA}"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A049-AF4C-4C93-A325-94EE1DFE590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9A7A3-558A-4979-A41F-3F31CED1CC69}"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89F8C-2A18-4F8F-8FF9-A73500627F2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