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D240-6AA0-4A05-BC21-C60516D822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69F5-6DD2-4045-B4DE-DD223CE84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5FB3-B5F7-4F72-9370-9D1DDE91A02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0FDC-0588-4929-8D0D-C4AFB667E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6711-6A76-414B-9CA7-713BBF22137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567E-39AD-4256-9FB5-68084B8DF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CB1D-6456-4750-8D9A-1A66C189BCD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2768-DC95-4547-BB9B-BBB9446E6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89A5-56ED-4C01-BDE9-149E131BE6B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41AA-D0BD-45F1-8735-16DD934D7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0FB8-EE5D-449D-92C9-3A95383480C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DC7E-433D-43BB-9284-5E7CFB93B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CD31-AD20-4C28-A955-0BE3A9CD1B8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BA0F-526D-45B4-8D5C-4BBDF69A0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3B33-D348-4CD8-881A-E38F82FA6C8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81F9-D373-436F-B9AE-005A5ACC0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CC560-9CD4-4D8B-B9E6-CFA5F9B88C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CC1BE-FBC7-40E1-9619-D65AFDDE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01808-58DB-4865-A947-5583CB3E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D3166-DC1D-437C-B49E-5542DB8124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FF985-17F9-40E1-868C-62DC21FA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11219-FF98-41AF-A246-C38D2D9C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BCD0D-982E-4EFC-B4C3-04A12F10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1400C-E5B0-4947-8358-0D1326C8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AA256-81B4-435C-A4C1-735DFC94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3E135-257F-42AE-96C7-A85AA0CD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EAE61-8A71-4A57-A24B-3C955461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0B69A-53D3-48D7-AF0C-45E15F39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456C-A9CE-4FBF-887B-41CBFC524533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62EC-4F0D-4E5C-866F-1F11EEE7B642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9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Improving Industry Participation in IEEE R8 Sponsored Conferences</a:t>
            </a:r>
            <a:r>
              <a:rPr b="1" lang="en-GB" sz="3600" spc="-1" strike="noStrike">
                <a:solidFill>
                  <a:srgbClr val="005582"/>
                </a:solidFill>
                <a:latin typeface="Verdana"/>
              </a:rPr>
              <a:t> </a:t>
            </a:r>
            <a:br>
              <a:rPr sz="4800"/>
            </a:br>
            <a:endParaRPr b="1" lang="en-US" sz="36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Group members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371600"/>
          <a:ext cx="8534520" cy="478476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e Gjengedal           Norway ( Modera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ao Costa-Freire        Portug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han Ozkan, 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t Richter,                 Aust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cob Al-Mulla            Qatar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Law                   UK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sa Bastaki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U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mad Al Naamany    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ik Stilling                  Den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őklan Gelebi,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u Mushcab          Saudi-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5582"/>
                </a:solidFill>
                <a:latin typeface="Verdana"/>
              </a:rPr>
              <a:t>Background: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articipation (outside R&amp;D) in R8 sponsored conferences is very wea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erceives that IEEE conferences are more suitable for academic and research professionals rather than addressing industrial iss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w to improve industry participation in R8 sponsored Conferences, resulting in changing industry perception about our conferences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F520-C03C-4763-B652-30CAA3FAAE64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7460-0315-4B72-BF7B-02A6F5A066CE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Some possible reasons for the current lack of interest from Industry Sector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give me th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ics, papers are not relev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theoretical and to little on applications, experiences etc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my preferred meeting place- others are more attractive and gives me mor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1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me of the conference should be attractive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dustry members in Org. 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ite industrial sessions/tra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special topics of interest for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 on standards, applications, experiences, best practices+++++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possible industrial exhibitions are recomm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2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 the industry participants to submit only abstract reviewed and PP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fP should clearly state requirements for industrial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 and network with industry as early as possible – build their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hasize on advertisement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582"/>
                </a:solidFill>
                <a:latin typeface="Verdana"/>
              </a:rPr>
              <a:t>Final Recommendation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recommendations  should be adopted by Conference Coordination SC to improve industrial particip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3:34Z</dcterms:modified>
  <cp:revision>18</cp:revision>
  <dc:subject/>
  <dc:title>Slide 1</dc:title>
</cp:coreProperties>
</file>