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24CC-9E64-406C-BC69-9BFE90E4272E}" type="datetime">
              <a:rPr b="0" lang="en-US" sz="1300" spc="-1" strike="noStrike">
                <a:solidFill>
                  <a:srgbClr val="000000"/>
                </a:solidFill>
                <a:latin typeface="Times New Roman"/>
              </a:rPr>
              <a:t>07/28/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E51E-6E85-4101-802F-3DD3F8026DD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8C9E-830D-4E4F-B3D4-2E77243655D9}"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61BB-4CE0-4D62-9B32-6394D28D64B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C7232-0C31-47A6-8247-A92DBAF1C37A}"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E5E3-76B8-444A-A754-0E690D88281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66B4-AB47-45CB-890F-948DBB76D25F}"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30A2-42A9-41FB-8E64-D875897010C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4676-83B5-4D39-B403-DB089FC27415}"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90CF-C21D-40F5-AE6E-A445C9A9EE4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C43B-9BF4-4B5D-B3FC-D59A14654F86}"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DE6D-6D52-4475-A7E6-69F7C4B8EF7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F8AB-BDF2-4D35-93F8-93D8D11A97C4}"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FC11-F83F-4780-97D2-FA1588D8A3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659A5A-88EF-4568-84A6-6D308C23E81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145AE445-2F0F-44E2-A504-90E7AFE02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EA88D6B6-B7AE-4DC3-B662-C8CEE61FE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EFB07D5D-120E-4F07-B16C-083BDA9AC91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D00B33B9-3D0C-4B17-B095-AE13C35B1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4FBD0E20-B34C-490F-A05F-F1248BC36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919FF8A7-3DA7-4C23-B2EE-BE664F0DF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710C1536-B524-4EFD-B4E3-4A345A543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749E153-9422-4238-BCC7-237C8D6B6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9941EA83-2286-49E8-BA3D-B9E47EE9A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3B532B9-0351-4111-9788-76C575DC9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A3EE727D-F298-4AE0-8CA8-B6926BCE223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4FD2-9422-4CD2-A861-5118BCE6E5BB}"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0622-A511-49A8-BEE0-BB5758F99E86}"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2F200-B2FF-4E67-845E-2BAFF6FC2574}"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81FB-7BFA-40F6-BA55-7618D7733FD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EF04-C245-425F-9AEF-BC241CEDEE4B}"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9059-CAB8-4596-B2D1-54D10EC544B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38325-EE1D-4D22-A0A0-DE1969D1DAE9}"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2CA2-83AF-4F52-B746-22164112DA6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E791-282D-4D05-9A18-572C5BF25DD8}"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348B-9C0A-4A5C-9DB3-7C02CB84650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41EA-A72F-48EE-9939-8941BFBEFD13}"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1124-8D8C-426E-B680-B8B3C5893DD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1BFA-6D7F-4AF7-8B7F-BB6D02B88301}"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D2A9-CEE9-463B-B6A7-95F218D13D7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962F-2599-4EC0-A756-D10DD861962B}"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6A18-B764-402B-9818-5E7FABE4C74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811F-89D2-4E6A-A02B-BF2D13556348}"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04EC-D3E8-440E-973F-32456A99310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A8F9-4C9A-491C-9315-27DAA39ECA0F}"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A3A1-32EE-431E-9E72-BB83CD9A1BC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