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E0FB0-1FBC-4BDC-9270-D97A8446A0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4AFE4-E4A2-4910-B858-501BF47E45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55EE32-400D-4526-9330-D3AAFDB73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FC513E-129A-4513-AE6C-AA5FF4A5BB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DB1BA-3D47-4289-8574-6FA16ECE51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62BEF-FC3C-4EB5-BFEB-6A0B475232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E8EBD-B7FE-4AD8-829A-AA5EE972D6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1B33F9-6B68-4996-A021-B590B7F83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EBD26-9781-457D-ABEA-0350D176C9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36262-67BE-4CB1-B622-7BA7E5280A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3D0218-A76E-43D3-8E4B-BA881A9376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5465C-3F5F-43E2-AC60-8A29A70AE9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65AC48-C476-4862-9BA2-EF1DB22742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FA2982-CE7E-48B6-A087-7620E0990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34912-F85E-4BB8-BB48-652A772493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90524-B5F1-407C-A307-E51187F11D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CB636-487C-4ED6-BEBA-E6CDD44FD7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44AED-F31C-4D33-9813-85E283D2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CF0F1-A5F5-4E9E-99B0-6E0CF9F6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67D38-0E38-4017-9199-93E2660525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8BF30-873B-445A-B1B4-E51842FA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A3EEA-7EDD-48BD-912F-69C3CCB1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06D12-55F9-4B3D-A03D-1A05EAF0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AF458-1A3C-462C-86EA-3060902F0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18561-546B-4396-8424-D3662A796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DAE09-1470-410B-9F6F-EB47F5D1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BA27B-ED74-4956-AC76-9D257098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B2D11-D643-4663-BFEF-E7160250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Apr 26,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520" y="6172200"/>
            <a:ext cx="6840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3ADA69-6E89-4C59-94AC-7DAC120217C9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1295280" y="82224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Verdana"/>
              </a:rPr>
              <a:t>Caucus group no.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185840" y="3962520"/>
            <a:ext cx="757728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Dirk Van Hert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Benelux se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In conjuction with R8 SAC vicechair Eva La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1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rate at least one graduate student and one Gold member in section Ex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integrate at least one [graduate] student and one Gold member in their section Ex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r section will get visibility with young engineers, new fresh motivated volunteers are integr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2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2724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tion presence at Branch meetin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sections chairs to report at least one visit of a section board member to a student branch a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dentify future potential IEEE leadershi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3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2688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udent award at section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ections to create at least one student award in their section on the field they consider appropri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 to the section: Can be certific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d the young engineers and future potential IEEE leadership and encourage volunteer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685800" y="609480"/>
            <a:ext cx="7772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3200" spc="-1" strike="noStrike">
                <a:solidFill>
                  <a:srgbClr val="005582"/>
                </a:solidFill>
                <a:latin typeface="Verdana"/>
              </a:rPr>
              <a:t>Caucus no. 5: How to integrate Students and Young engineers in S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urpose of this focus group is to define guidelines for how  and where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to integrate student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d young professionals in the Sec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's everyday business. This group of IEEE members (more than one quarter of overall Region 8 Membership) shows great enthusiasm and motivation to bring in and implement new ideas. The workshop will focus o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how to manage this potential of volunt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or the Section's benefit in reaching out to members,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create a pool of good young volunt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find a good balance between fresh blood and experienc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67ADC1-D61C-4BDB-9834-1BC26B4A476B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mber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133640"/>
            <a:ext cx="8045280" cy="503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rk Van Hertem (Benelux S. Representative)  -  Moderator/Chai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anos Kakarountas (Greece S.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ladimir Dimcev (Macedonia S. 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elie Anglade (SAC member, UK&amp;RI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blo Herrero (Students Rep., SAC,  Germany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hel Muhammad (R8 GOLD SubCommittee member, Egyp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rian Pais (IEEE GOLD Chair, Benelux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va Lang  - VC/S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arl Gudmundsson (Iceland section 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asemin Baser (Isb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ce Sanci (ISBIR representat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uka Lugaric (SAC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ckside inform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920" y="1327320"/>
            <a:ext cx="8937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udent branches can be very active and reach great 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good and willing volunteer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5% of IEEE R8 is student, most of them drop out after graduating. Arrears are much higher with students than with other members.  Why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igher d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nefits not really cl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contact with se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blems with IEEE bureaucracy/paperwork (different addresses/emails,..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ow can we keep the good volunteer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m active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t them involv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m visible to fellow young engine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s to hold offic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y full member including graduate student can hold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fice within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e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chapt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also section chai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reebies (these should come automatic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ection student representativ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=&gt; you should have one (is there a valid reason not to have one?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GOL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graduates of the last decade): start up an affinity gro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master &amp; electronic commun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t there is no reason not to have a young person being the membership development chai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or any other fun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ithin the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3200" spc="-1" strike="noStrike">
                <a:solidFill>
                  <a:srgbClr val="005582"/>
                </a:solidFill>
                <a:latin typeface="Verdana"/>
              </a:rPr>
              <a:t>Meeting out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685800" y="112536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xperiences in the different sections were shar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lready quite some sections had 2-4 students or young engineers (&lt;35 year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here are some good practic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ostly making use of the freeb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viting student branches to join ExCom meeting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here are also some problem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oung engineers experience old and fixed excom which does not believe in young engineers with voting rights at the ExCo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oung engineers for the “Freebies” is ok, but not for the r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C791C1-7292-4A25-9675-5B1DEFF719E0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a list of potential good candidates for future volunteering while they are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this list: bring them into contact with chapters, appoint them yourself and acknowledge their contrib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Women in Engineering and professional activities are well suited for Y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ction 1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ite student branch leaders to ExCom meet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ac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tion leaders shall adopt a policy to invite student branch leaders to the ExCom member on a regular ba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new leaders for your s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6:33Z</dcterms:modified>
  <cp:revision>57</cp:revision>
  <dc:subject/>
  <dc:title>Slide 1</dc:title>
</cp:coreProperties>
</file>