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EBBD-BF60-4324-AB13-09602489C5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7528-5B4B-471F-AD00-CDEABB91E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F639-AFBF-4D7A-957D-3FA1B22A785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7834-6AD3-4836-8795-C97A02845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6C86-B55A-45CF-80F5-228BEBED34E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497D-55F8-46DF-A620-ED1A6CC59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D47F-6095-49CE-8E1C-57540A733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E068-F13A-4F3E-9DCC-FB0D1B10FCC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D0A9-F5F3-4DF2-B9BB-7B1C1D6B273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D3A4-781F-4485-B369-0F0884625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11E0-95FE-4585-BB0B-E6C030358DE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E97C-AA87-472A-AF8B-03892446B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2BD9-F62C-4902-A72F-E98EE200120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B357-BFB1-41AB-8F96-355277A0B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B33F-C3EA-4911-AC47-3BAD541EA42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433B-0B05-4C02-B99C-1945EA7EC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F233-CD27-40F5-8E48-4BBE78022BA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1CF2-5E73-4164-A77C-93A0E3CB2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2472-46E7-437E-B6F7-C4294B6FC7C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8349-BFB6-4A6E-A6B3-3A1048466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564A-5901-4627-BFFA-CF5AF090F7C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C359-E874-47CF-9F3D-DF6874263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C292D-CE7E-42B0-A634-DCA965EDDB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3E015-553D-4107-9238-F4819632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24162-7373-43BD-A13E-3B41837F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E94B9-5D32-4689-AAA4-29E27FA740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E278C-4BBB-4EEF-8C73-E873577F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87675-4F73-40CE-A478-A4960C74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305CF-CD56-4D71-8935-FCA705ED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C5B06-CAC6-4F38-8573-F80E01E0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1AF66-AF8A-428E-B17F-263C3395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A04C0-9D66-4650-BA7C-2A3E7FCD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390C7-8920-4A01-B528-623635FE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0BE51-9AFE-43E3-B94E-BD416D99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E74F-5F3B-4827-9EA7-BB079650F096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EB86-0F14-4308-BB46-937484F53F9F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8218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ucus group no. 8</a:t>
            </a:r>
            <a:br>
              <a:rPr sz="4000"/>
            </a:br>
            <a:br>
              <a:rPr sz="1400"/>
            </a:b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articipation of Sections in the Organization of IEEE Conferences in Region 8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886200"/>
            <a:ext cx="757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5582"/>
                </a:solidFill>
                <a:latin typeface="Verdana"/>
              </a:rPr>
              <a:t>Carl James Debon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582"/>
                </a:solidFill>
                <a:latin typeface="Verdana"/>
              </a:rPr>
              <a:t>Moderat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62D4-29B7-477B-A14B-B25B57EF5B5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level of involvement Sections should have in Conferences organized within their reg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way forw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e standard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5389-670B-4D11-9ACE-5CA19D287382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articipants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2949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ohn V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ean-Gabriel Re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re R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ancisco Sand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tar B. Sadk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ian Kazmierkow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cob Baal-S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exander Miker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rina Naidion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niel Pasqu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87FB-4AF2-4E6F-8E7C-2A64567722C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4572000" y="121932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urad Lou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ristine N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oakoh Gyasi Ag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not always informed about con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ven though according to IEEE rules the Section has to endor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cieties are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should Society need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 knows well the country (people, hotels, legal aspects, VAT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s can reach the whole engineering community (through good relation with local societi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45B9-0DE9-4C30-A0DC-BC6FD50A4AE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 the other hand – if I have conferences through the society and I pay membership directly with IEEE …. Why do I need a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have to make it attractive for the conference general chair to get them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sometimes asked for help too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involved in local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specially new sections since they need  more expo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79C6-FC21-4ECD-AFAF-708E699095A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with Region 10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between sections (say 7 or more s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number of conferences are asking co-sponsorship (sometimes from an OU from outside the count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an be useful to attract new members unless competing with IEEE established con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8BB4-75DD-4192-9865-1DD6B357C9F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9C01-DD4B-4DAB-ADFA-10C00EDBCCE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 meetings should include an item on the agenda to discuss society – sectio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engthen chapter – society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directly involved in loc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need to know if a society is doing an intern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 Coordination Subcommittee can spot conferences through their contact with societies and inform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C6DB-A8E8-416C-B4A8-A2980909771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304920" y="121932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sponsorship by OU outside Section should not be acce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tion Chair should be in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idelines from H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can prepare a marketing leaflet for some places that are excellent to host co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 team to attract con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reasonable schedule/planning and business plan 3 – 4 year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timize results for Sections and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C24D-5086-406D-BD9E-5212CDF9556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joint conferences with Region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in from the diversity in Region 8 and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hance relation with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 a good practice man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8:21Z</dcterms:modified>
  <cp:revision>58</cp:revision>
  <dc:subject/>
  <dc:title>Slide 1</dc:title>
</cp:coreProperties>
</file>