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17C8-05E9-416F-9795-DDE23BC0B7D0}" type="datetime">
              <a:rPr b="0" lang="en-US" sz="1300" spc="-1" strike="noStrike">
                <a:solidFill>
                  <a:srgbClr val="000000"/>
                </a:solidFill>
                <a:latin typeface="Times New Roman"/>
              </a:rPr>
              <a:t>07/29/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4B55-E921-4074-AB1C-F7D9E3DBDD8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DBF0-980A-415C-87CA-DDAC192AC079}"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C623-3FB6-4E4A-A2B8-B7A0AD1ABDA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46E8-3329-47CD-8099-96A23824685B}"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8FBA-9BFA-4C87-A1D2-1262AB7A1F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C488-E065-42FE-9B31-ED2C963EEF59}"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3DD9-C82C-4969-9129-F01B547686A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97A7-C764-4548-AEFC-D9846C64016E}"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B893-7C44-4237-8E3D-96E4C5F06F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4100-1704-4772-A7E1-C8A602C0E9F1}"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8FBAA-D350-46AC-847D-0A66683A9B2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3FD6-00D8-4831-99F6-2546D727564A}" type="datetime">
              <a:rPr b="0" lang="en-US" sz="1300" spc="-1" strike="noStrike">
                <a:solidFill>
                  <a:srgbClr val="000000"/>
                </a:solidFill>
                <a:latin typeface="Arial"/>
              </a:rPr>
              <a:t>07/29/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1179-32AC-4782-B86F-25A26DBE3C0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16E489-26B3-466E-B8AE-64B126DC71D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9FDA88F8-0473-4C6E-8150-A5B702A62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006CABE9-C3F7-449C-9639-63693E3C1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3F2C7D32-359C-4525-88BC-44A32D7C44A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5D50ABAF-51B8-465A-9EE5-7DF6B8228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40AB09F9-C0AE-4177-99C4-39B4DE50D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31FFA96A-AA97-4D28-AA61-545FE8C10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1BE10C84-B096-4F7B-B1E4-980BC3901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9FDFE4D-3971-4F5B-A8D7-D69E649AE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5FD3520E-DFF9-45A5-961A-504798F9F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8984CD1B-078A-4E75-ABA7-8D3C29FAD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0A536AAB-26A9-4D03-9FA0-54063EDD0AE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1857-A9EC-41CD-92FF-0BD69C0F6515}"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F915-638B-4FC5-9CD2-F4956BA742FE}"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15DB-9621-4C2D-8556-DE81E967A9C1}"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CC37-3E74-495A-80A0-D90AD1B4A8B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6142-0D26-406A-8EA6-CF88CD86FE0F}"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5641-349E-4E9C-8886-F20FBFEF3E3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8F34-D41D-4D2D-9FB9-2C2747036E8F}"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DCAD-8C0F-4FC6-90A4-B6BE1F84A3F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DA98-B21A-4D82-BC08-891C40929199}"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15ED-5E30-4BE5-B1ED-09C6B9BDF7F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C7D6-119F-4CE2-96DB-A674631F569A}"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00D7-0F1A-4FA5-9608-BC2C13E0099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85FB-66AE-4F95-9F2E-F9A474834631}"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B868-9B96-47B5-A7DB-F797B802759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1E33-8A4F-4C31-8519-CEBCDD72E116}"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5244-71FF-4672-84ED-848E296E17E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722C-9F55-404C-8BAB-FE2B743CC672}"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FCBB-BDC2-4D58-A53C-A5BF2F24C75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BD5C-EDA4-4DC7-A8E0-71B429D777D6}"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D411-727A-4E42-893B-203183D4386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